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11239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048-9F36-4AFD-96F1-4820750B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673740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280" y="6440040"/>
            <a:ext cx="673740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3FE-7A03-406E-BDC3-605D9846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32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0456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BFB-4B95-45C8-8038-61D8D587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871360" y="293328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800" y="293328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93280" y="644004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2871360" y="644004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149800" y="644004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43A-9667-4D6B-9690-6ECA4C9F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F7A8-7599-4E62-AD46-938E2D7D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93280" y="2933280"/>
            <a:ext cx="673740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A67-4F81-4DC6-98B3-2CD73DF5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673740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F1E9-5522-493C-965D-FA0DFB7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7557-4052-481F-A236-682DEAA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76F1-1088-40C5-9920-FA65863A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93280" y="655200"/>
            <a:ext cx="6737400" cy="88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094B-3312-4FA8-A189-606F05FB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32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7D1C-397C-4B6F-8A9E-56F8590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93280" y="2933280"/>
            <a:ext cx="673740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A20-0285-4A68-8657-B938F684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456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4083-8639-498A-97D2-27AAFB33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280" y="6440040"/>
            <a:ext cx="673740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2C4C-F56F-4CE5-ABB3-4E57DB8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673740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3280" y="6440040"/>
            <a:ext cx="673740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609D-B6BA-416B-A016-33DC797F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32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0456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6F6E-FB0E-42E7-AC79-ACCCBAB1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871360" y="293328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9800" y="293328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93280" y="644004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871360" y="644004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149800" y="6440040"/>
            <a:ext cx="216936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24BE-2AF9-40AB-BF0E-00FA56E6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673740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EFD-8530-48BB-A1E2-952577F7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9EB-D489-4A9E-A5B2-B0D73FD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AAA-ADBC-48A8-A2A1-9916098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93280" y="655200"/>
            <a:ext cx="6737400" cy="88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DFF-FAB7-4021-A5DF-94F72396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2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4C5-1AED-4B3D-83D7-FA49EB8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045680" y="644004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B5E-7B07-4605-A5D2-06FD11A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32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5680" y="2933280"/>
            <a:ext cx="328752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3280" y="6440040"/>
            <a:ext cx="6737400" cy="320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51A-37C2-4F89-887A-36188D9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96160"/>
            <a:ext cx="7943400" cy="4671000"/>
            <a:chOff x="0" y="6896160"/>
            <a:chExt cx="7943400" cy="4671000"/>
          </a:xfrm>
        </p:grpSpPr>
        <p:sp>
          <p:nvSpPr>
            <p:cNvPr id="1" name=""/>
            <p:cNvSpPr/>
            <p:nvPr/>
          </p:nvSpPr>
          <p:spPr>
            <a:xfrm>
              <a:off x="0" y="10147320"/>
              <a:ext cx="7943400" cy="107280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6896160"/>
              <a:ext cx="1477440" cy="4303800"/>
              <a:chOff x="0" y="6896160"/>
              <a:chExt cx="1477440" cy="4303800"/>
            </a:xfrm>
          </p:grpSpPr>
          <p:sp>
            <p:nvSpPr>
              <p:cNvPr id="3" name=""/>
              <p:cNvSpPr/>
              <p:nvPr/>
            </p:nvSpPr>
            <p:spPr>
              <a:xfrm>
                <a:off x="141480" y="8318520"/>
                <a:ext cx="222120" cy="2881440"/>
              </a:xfrm>
              <a:custGeom>
                <a:avLst/>
                <a:gdLst/>
                <a:ahLst/>
                <a:rect l="l" t="t" r="r" b="b"/>
                <a:pathLst>
                  <a:path w="138" h="1754">
                    <a:moveTo>
                      <a:pt x="0" y="155"/>
                    </a:moveTo>
                    <a:lnTo>
                      <a:pt x="20" y="761"/>
                    </a:lnTo>
                    <a:lnTo>
                      <a:pt x="41" y="1251"/>
                    </a:lnTo>
                    <a:lnTo>
                      <a:pt x="55" y="1612"/>
                    </a:lnTo>
                    <a:lnTo>
                      <a:pt x="51" y="1753"/>
                    </a:lnTo>
                    <a:lnTo>
                      <a:pt x="80" y="1753"/>
                    </a:lnTo>
                    <a:lnTo>
                      <a:pt x="90" y="1543"/>
                    </a:lnTo>
                    <a:lnTo>
                      <a:pt x="95" y="1227"/>
                    </a:lnTo>
                    <a:lnTo>
                      <a:pt x="106" y="931"/>
                    </a:lnTo>
                    <a:lnTo>
                      <a:pt x="112" y="707"/>
                    </a:lnTo>
                    <a:lnTo>
                      <a:pt x="123" y="383"/>
                    </a:lnTo>
                    <a:lnTo>
                      <a:pt x="137" y="104"/>
                    </a:lnTo>
                    <a:lnTo>
                      <a:pt x="128" y="33"/>
                    </a:lnTo>
                    <a:lnTo>
                      <a:pt x="113" y="0"/>
                    </a:lnTo>
                    <a:lnTo>
                      <a:pt x="97" y="343"/>
                    </a:lnTo>
                    <a:lnTo>
                      <a:pt x="83" y="635"/>
                    </a:lnTo>
                    <a:lnTo>
                      <a:pt x="78" y="863"/>
                    </a:lnTo>
                    <a:lnTo>
                      <a:pt x="74" y="1103"/>
                    </a:lnTo>
                    <a:lnTo>
                      <a:pt x="62" y="1344"/>
                    </a:lnTo>
                    <a:lnTo>
                      <a:pt x="46" y="926"/>
                    </a:lnTo>
                    <a:lnTo>
                      <a:pt x="27" y="530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06000" y="9494640"/>
                <a:ext cx="355320" cy="1616400"/>
              </a:xfrm>
              <a:custGeom>
                <a:avLst/>
                <a:gdLst/>
                <a:ahLst/>
                <a:rect l="l" t="t" r="r" b="b"/>
                <a:pathLst>
                  <a:path w="221" h="984">
                    <a:moveTo>
                      <a:pt x="0" y="457"/>
                    </a:moveTo>
                    <a:lnTo>
                      <a:pt x="18" y="656"/>
                    </a:lnTo>
                    <a:lnTo>
                      <a:pt x="37" y="818"/>
                    </a:lnTo>
                    <a:lnTo>
                      <a:pt x="49" y="935"/>
                    </a:lnTo>
                    <a:lnTo>
                      <a:pt x="46" y="983"/>
                    </a:lnTo>
                    <a:lnTo>
                      <a:pt x="72" y="983"/>
                    </a:lnTo>
                    <a:lnTo>
                      <a:pt x="81" y="914"/>
                    </a:lnTo>
                    <a:lnTo>
                      <a:pt x="84" y="810"/>
                    </a:lnTo>
                    <a:lnTo>
                      <a:pt x="95" y="712"/>
                    </a:lnTo>
                    <a:lnTo>
                      <a:pt x="100" y="639"/>
                    </a:lnTo>
                    <a:lnTo>
                      <a:pt x="110" y="533"/>
                    </a:lnTo>
                    <a:lnTo>
                      <a:pt x="122" y="441"/>
                    </a:lnTo>
                    <a:lnTo>
                      <a:pt x="132" y="360"/>
                    </a:lnTo>
                    <a:lnTo>
                      <a:pt x="142" y="273"/>
                    </a:lnTo>
                    <a:lnTo>
                      <a:pt x="160" y="186"/>
                    </a:lnTo>
                    <a:lnTo>
                      <a:pt x="178" y="113"/>
                    </a:lnTo>
                    <a:lnTo>
                      <a:pt x="209" y="44"/>
                    </a:lnTo>
                    <a:lnTo>
                      <a:pt x="220" y="15"/>
                    </a:lnTo>
                    <a:lnTo>
                      <a:pt x="207" y="0"/>
                    </a:lnTo>
                    <a:lnTo>
                      <a:pt x="187" y="28"/>
                    </a:lnTo>
                    <a:lnTo>
                      <a:pt x="160" y="94"/>
                    </a:lnTo>
                    <a:lnTo>
                      <a:pt x="139" y="161"/>
                    </a:lnTo>
                    <a:lnTo>
                      <a:pt x="122" y="231"/>
                    </a:lnTo>
                    <a:lnTo>
                      <a:pt x="112" y="321"/>
                    </a:lnTo>
                    <a:lnTo>
                      <a:pt x="101" y="406"/>
                    </a:lnTo>
                    <a:lnTo>
                      <a:pt x="87" y="520"/>
                    </a:lnTo>
                    <a:lnTo>
                      <a:pt x="74" y="615"/>
                    </a:lnTo>
                    <a:lnTo>
                      <a:pt x="70" y="690"/>
                    </a:lnTo>
                    <a:lnTo>
                      <a:pt x="66" y="769"/>
                    </a:lnTo>
                    <a:lnTo>
                      <a:pt x="56" y="848"/>
                    </a:lnTo>
                    <a:lnTo>
                      <a:pt x="41" y="710"/>
                    </a:lnTo>
                    <a:lnTo>
                      <a:pt x="24" y="580"/>
                    </a:lnTo>
                    <a:lnTo>
                      <a:pt x="0" y="457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7904880"/>
                <a:ext cx="775800" cy="1806480"/>
              </a:xfrm>
              <a:custGeom>
                <a:avLst/>
                <a:gdLst/>
                <a:ahLst/>
                <a:rect l="l" t="t" r="r" b="b"/>
                <a:pathLst>
                  <a:path w="482" h="1100">
                    <a:moveTo>
                      <a:pt x="226" y="269"/>
                    </a:moveTo>
                    <a:lnTo>
                      <a:pt x="217" y="286"/>
                    </a:lnTo>
                    <a:lnTo>
                      <a:pt x="209" y="305"/>
                    </a:lnTo>
                    <a:lnTo>
                      <a:pt x="202" y="324"/>
                    </a:lnTo>
                    <a:lnTo>
                      <a:pt x="195" y="346"/>
                    </a:lnTo>
                    <a:lnTo>
                      <a:pt x="189" y="365"/>
                    </a:lnTo>
                    <a:lnTo>
                      <a:pt x="186" y="384"/>
                    </a:lnTo>
                    <a:lnTo>
                      <a:pt x="182" y="400"/>
                    </a:lnTo>
                    <a:lnTo>
                      <a:pt x="194" y="391"/>
                    </a:lnTo>
                    <a:lnTo>
                      <a:pt x="210" y="381"/>
                    </a:lnTo>
                    <a:lnTo>
                      <a:pt x="227" y="370"/>
                    </a:lnTo>
                    <a:lnTo>
                      <a:pt x="244" y="359"/>
                    </a:lnTo>
                    <a:lnTo>
                      <a:pt x="262" y="349"/>
                    </a:lnTo>
                    <a:lnTo>
                      <a:pt x="280" y="337"/>
                    </a:lnTo>
                    <a:lnTo>
                      <a:pt x="295" y="323"/>
                    </a:lnTo>
                    <a:lnTo>
                      <a:pt x="318" y="304"/>
                    </a:lnTo>
                    <a:lnTo>
                      <a:pt x="334" y="285"/>
                    </a:lnTo>
                    <a:lnTo>
                      <a:pt x="355" y="264"/>
                    </a:lnTo>
                    <a:lnTo>
                      <a:pt x="370" y="251"/>
                    </a:lnTo>
                    <a:lnTo>
                      <a:pt x="384" y="229"/>
                    </a:lnTo>
                    <a:lnTo>
                      <a:pt x="396" y="212"/>
                    </a:lnTo>
                    <a:lnTo>
                      <a:pt x="406" y="188"/>
                    </a:lnTo>
                    <a:lnTo>
                      <a:pt x="413" y="166"/>
                    </a:lnTo>
                    <a:lnTo>
                      <a:pt x="418" y="145"/>
                    </a:lnTo>
                    <a:lnTo>
                      <a:pt x="423" y="129"/>
                    </a:lnTo>
                    <a:lnTo>
                      <a:pt x="423" y="147"/>
                    </a:lnTo>
                    <a:lnTo>
                      <a:pt x="423" y="158"/>
                    </a:lnTo>
                    <a:lnTo>
                      <a:pt x="420" y="174"/>
                    </a:lnTo>
                    <a:lnTo>
                      <a:pt x="412" y="191"/>
                    </a:lnTo>
                    <a:lnTo>
                      <a:pt x="400" y="216"/>
                    </a:lnTo>
                    <a:lnTo>
                      <a:pt x="394" y="235"/>
                    </a:lnTo>
                    <a:lnTo>
                      <a:pt x="382" y="248"/>
                    </a:lnTo>
                    <a:lnTo>
                      <a:pt x="367" y="266"/>
                    </a:lnTo>
                    <a:lnTo>
                      <a:pt x="349" y="286"/>
                    </a:lnTo>
                    <a:lnTo>
                      <a:pt x="333" y="307"/>
                    </a:lnTo>
                    <a:lnTo>
                      <a:pt x="315" y="327"/>
                    </a:lnTo>
                    <a:lnTo>
                      <a:pt x="303" y="345"/>
                    </a:lnTo>
                    <a:lnTo>
                      <a:pt x="289" y="364"/>
                    </a:lnTo>
                    <a:lnTo>
                      <a:pt x="274" y="376"/>
                    </a:lnTo>
                    <a:lnTo>
                      <a:pt x="259" y="391"/>
                    </a:lnTo>
                    <a:lnTo>
                      <a:pt x="243" y="405"/>
                    </a:lnTo>
                    <a:lnTo>
                      <a:pt x="227" y="418"/>
                    </a:lnTo>
                    <a:lnTo>
                      <a:pt x="214" y="429"/>
                    </a:lnTo>
                    <a:lnTo>
                      <a:pt x="197" y="441"/>
                    </a:lnTo>
                    <a:lnTo>
                      <a:pt x="186" y="449"/>
                    </a:lnTo>
                    <a:lnTo>
                      <a:pt x="181" y="454"/>
                    </a:lnTo>
                    <a:lnTo>
                      <a:pt x="186" y="467"/>
                    </a:lnTo>
                    <a:lnTo>
                      <a:pt x="192" y="479"/>
                    </a:lnTo>
                    <a:lnTo>
                      <a:pt x="201" y="497"/>
                    </a:lnTo>
                    <a:lnTo>
                      <a:pt x="216" y="501"/>
                    </a:lnTo>
                    <a:lnTo>
                      <a:pt x="227" y="503"/>
                    </a:lnTo>
                    <a:lnTo>
                      <a:pt x="245" y="508"/>
                    </a:lnTo>
                    <a:lnTo>
                      <a:pt x="262" y="509"/>
                    </a:lnTo>
                    <a:lnTo>
                      <a:pt x="262" y="509"/>
                    </a:lnTo>
                    <a:lnTo>
                      <a:pt x="282" y="509"/>
                    </a:lnTo>
                    <a:lnTo>
                      <a:pt x="300" y="513"/>
                    </a:lnTo>
                    <a:lnTo>
                      <a:pt x="318" y="514"/>
                    </a:lnTo>
                    <a:lnTo>
                      <a:pt x="336" y="519"/>
                    </a:lnTo>
                    <a:lnTo>
                      <a:pt x="350" y="522"/>
                    </a:lnTo>
                    <a:lnTo>
                      <a:pt x="366" y="528"/>
                    </a:lnTo>
                    <a:lnTo>
                      <a:pt x="378" y="535"/>
                    </a:lnTo>
                    <a:lnTo>
                      <a:pt x="391" y="544"/>
                    </a:lnTo>
                    <a:lnTo>
                      <a:pt x="401" y="554"/>
                    </a:lnTo>
                    <a:lnTo>
                      <a:pt x="417" y="563"/>
                    </a:lnTo>
                    <a:lnTo>
                      <a:pt x="434" y="576"/>
                    </a:lnTo>
                    <a:lnTo>
                      <a:pt x="452" y="587"/>
                    </a:lnTo>
                    <a:lnTo>
                      <a:pt x="465" y="595"/>
                    </a:lnTo>
                    <a:lnTo>
                      <a:pt x="481" y="603"/>
                    </a:lnTo>
                    <a:lnTo>
                      <a:pt x="469" y="608"/>
                    </a:lnTo>
                    <a:lnTo>
                      <a:pt x="457" y="606"/>
                    </a:lnTo>
                    <a:lnTo>
                      <a:pt x="443" y="601"/>
                    </a:lnTo>
                    <a:lnTo>
                      <a:pt x="429" y="595"/>
                    </a:lnTo>
                    <a:lnTo>
                      <a:pt x="410" y="585"/>
                    </a:lnTo>
                    <a:lnTo>
                      <a:pt x="399" y="581"/>
                    </a:lnTo>
                    <a:lnTo>
                      <a:pt x="387" y="576"/>
                    </a:lnTo>
                    <a:lnTo>
                      <a:pt x="371" y="571"/>
                    </a:lnTo>
                    <a:lnTo>
                      <a:pt x="354" y="568"/>
                    </a:lnTo>
                    <a:lnTo>
                      <a:pt x="335" y="565"/>
                    </a:lnTo>
                    <a:lnTo>
                      <a:pt x="315" y="562"/>
                    </a:lnTo>
                    <a:lnTo>
                      <a:pt x="294" y="560"/>
                    </a:lnTo>
                    <a:lnTo>
                      <a:pt x="277" y="560"/>
                    </a:lnTo>
                    <a:lnTo>
                      <a:pt x="258" y="559"/>
                    </a:lnTo>
                    <a:lnTo>
                      <a:pt x="243" y="557"/>
                    </a:lnTo>
                    <a:lnTo>
                      <a:pt x="226" y="555"/>
                    </a:lnTo>
                    <a:lnTo>
                      <a:pt x="208" y="549"/>
                    </a:lnTo>
                    <a:lnTo>
                      <a:pt x="186" y="543"/>
                    </a:lnTo>
                    <a:lnTo>
                      <a:pt x="168" y="535"/>
                    </a:lnTo>
                    <a:lnTo>
                      <a:pt x="145" y="530"/>
                    </a:lnTo>
                    <a:lnTo>
                      <a:pt x="152" y="549"/>
                    </a:lnTo>
                    <a:lnTo>
                      <a:pt x="161" y="574"/>
                    </a:lnTo>
                    <a:lnTo>
                      <a:pt x="169" y="606"/>
                    </a:lnTo>
                    <a:lnTo>
                      <a:pt x="172" y="630"/>
                    </a:lnTo>
                    <a:lnTo>
                      <a:pt x="173" y="658"/>
                    </a:lnTo>
                    <a:lnTo>
                      <a:pt x="172" y="679"/>
                    </a:lnTo>
                    <a:lnTo>
                      <a:pt x="170" y="701"/>
                    </a:lnTo>
                    <a:lnTo>
                      <a:pt x="168" y="731"/>
                    </a:lnTo>
                    <a:lnTo>
                      <a:pt x="167" y="771"/>
                    </a:lnTo>
                    <a:lnTo>
                      <a:pt x="168" y="804"/>
                    </a:lnTo>
                    <a:lnTo>
                      <a:pt x="168" y="839"/>
                    </a:lnTo>
                    <a:lnTo>
                      <a:pt x="168" y="866"/>
                    </a:lnTo>
                    <a:lnTo>
                      <a:pt x="167" y="893"/>
                    </a:lnTo>
                    <a:lnTo>
                      <a:pt x="162" y="920"/>
                    </a:lnTo>
                    <a:lnTo>
                      <a:pt x="155" y="953"/>
                    </a:lnTo>
                    <a:lnTo>
                      <a:pt x="149" y="977"/>
                    </a:lnTo>
                    <a:lnTo>
                      <a:pt x="141" y="997"/>
                    </a:lnTo>
                    <a:lnTo>
                      <a:pt x="133" y="1024"/>
                    </a:lnTo>
                    <a:lnTo>
                      <a:pt x="126" y="1040"/>
                    </a:lnTo>
                    <a:lnTo>
                      <a:pt x="113" y="1060"/>
                    </a:lnTo>
                    <a:lnTo>
                      <a:pt x="97" y="1078"/>
                    </a:lnTo>
                    <a:lnTo>
                      <a:pt x="83" y="1099"/>
                    </a:lnTo>
                    <a:lnTo>
                      <a:pt x="81" y="1076"/>
                    </a:lnTo>
                    <a:lnTo>
                      <a:pt x="83" y="1049"/>
                    </a:lnTo>
                    <a:lnTo>
                      <a:pt x="86" y="1021"/>
                    </a:lnTo>
                    <a:lnTo>
                      <a:pt x="87" y="996"/>
                    </a:lnTo>
                    <a:lnTo>
                      <a:pt x="92" y="977"/>
                    </a:lnTo>
                    <a:lnTo>
                      <a:pt x="96" y="951"/>
                    </a:lnTo>
                    <a:lnTo>
                      <a:pt x="103" y="924"/>
                    </a:lnTo>
                    <a:lnTo>
                      <a:pt x="106" y="902"/>
                    </a:lnTo>
                    <a:lnTo>
                      <a:pt x="107" y="882"/>
                    </a:lnTo>
                    <a:lnTo>
                      <a:pt x="110" y="844"/>
                    </a:lnTo>
                    <a:lnTo>
                      <a:pt x="113" y="804"/>
                    </a:lnTo>
                    <a:lnTo>
                      <a:pt x="115" y="769"/>
                    </a:lnTo>
                    <a:lnTo>
                      <a:pt x="118" y="734"/>
                    </a:lnTo>
                    <a:lnTo>
                      <a:pt x="121" y="698"/>
                    </a:lnTo>
                    <a:lnTo>
                      <a:pt x="122" y="673"/>
                    </a:lnTo>
                    <a:lnTo>
                      <a:pt x="122" y="652"/>
                    </a:lnTo>
                    <a:lnTo>
                      <a:pt x="123" y="627"/>
                    </a:lnTo>
                    <a:lnTo>
                      <a:pt x="122" y="598"/>
                    </a:lnTo>
                    <a:lnTo>
                      <a:pt x="121" y="582"/>
                    </a:lnTo>
                    <a:lnTo>
                      <a:pt x="116" y="559"/>
                    </a:lnTo>
                    <a:lnTo>
                      <a:pt x="113" y="528"/>
                    </a:lnTo>
                    <a:lnTo>
                      <a:pt x="106" y="551"/>
                    </a:lnTo>
                    <a:lnTo>
                      <a:pt x="98" y="574"/>
                    </a:lnTo>
                    <a:lnTo>
                      <a:pt x="92" y="598"/>
                    </a:lnTo>
                    <a:lnTo>
                      <a:pt x="87" y="625"/>
                    </a:lnTo>
                    <a:lnTo>
                      <a:pt x="83" y="654"/>
                    </a:lnTo>
                    <a:lnTo>
                      <a:pt x="80" y="676"/>
                    </a:lnTo>
                    <a:lnTo>
                      <a:pt x="78" y="703"/>
                    </a:lnTo>
                    <a:lnTo>
                      <a:pt x="75" y="734"/>
                    </a:lnTo>
                    <a:lnTo>
                      <a:pt x="72" y="769"/>
                    </a:lnTo>
                    <a:lnTo>
                      <a:pt x="69" y="798"/>
                    </a:lnTo>
                    <a:lnTo>
                      <a:pt x="67" y="832"/>
                    </a:lnTo>
                    <a:lnTo>
                      <a:pt x="65" y="859"/>
                    </a:lnTo>
                    <a:lnTo>
                      <a:pt x="61" y="889"/>
                    </a:lnTo>
                    <a:lnTo>
                      <a:pt x="58" y="918"/>
                    </a:lnTo>
                    <a:lnTo>
                      <a:pt x="55" y="939"/>
                    </a:lnTo>
                    <a:lnTo>
                      <a:pt x="47" y="959"/>
                    </a:lnTo>
                    <a:lnTo>
                      <a:pt x="39" y="983"/>
                    </a:lnTo>
                    <a:lnTo>
                      <a:pt x="28" y="1005"/>
                    </a:lnTo>
                    <a:lnTo>
                      <a:pt x="18" y="1027"/>
                    </a:lnTo>
                    <a:lnTo>
                      <a:pt x="10" y="1038"/>
                    </a:lnTo>
                    <a:lnTo>
                      <a:pt x="4" y="1027"/>
                    </a:lnTo>
                    <a:lnTo>
                      <a:pt x="4" y="970"/>
                    </a:lnTo>
                    <a:lnTo>
                      <a:pt x="4" y="970"/>
                    </a:lnTo>
                    <a:lnTo>
                      <a:pt x="4" y="1027"/>
                    </a:lnTo>
                    <a:lnTo>
                      <a:pt x="4" y="970"/>
                    </a:lnTo>
                    <a:lnTo>
                      <a:pt x="4" y="970"/>
                    </a:lnTo>
                    <a:lnTo>
                      <a:pt x="4" y="970"/>
                    </a:lnTo>
                    <a:lnTo>
                      <a:pt x="4" y="970"/>
                    </a:lnTo>
                    <a:lnTo>
                      <a:pt x="4" y="915"/>
                    </a:lnTo>
                    <a:lnTo>
                      <a:pt x="4" y="915"/>
                    </a:lnTo>
                    <a:lnTo>
                      <a:pt x="9" y="893"/>
                    </a:lnTo>
                    <a:lnTo>
                      <a:pt x="17" y="864"/>
                    </a:lnTo>
                    <a:lnTo>
                      <a:pt x="24" y="839"/>
                    </a:lnTo>
                    <a:lnTo>
                      <a:pt x="31" y="810"/>
                    </a:lnTo>
                    <a:lnTo>
                      <a:pt x="38" y="785"/>
                    </a:lnTo>
                    <a:lnTo>
                      <a:pt x="46" y="756"/>
                    </a:lnTo>
                    <a:lnTo>
                      <a:pt x="51" y="730"/>
                    </a:lnTo>
                    <a:lnTo>
                      <a:pt x="57" y="703"/>
                    </a:lnTo>
                    <a:lnTo>
                      <a:pt x="63" y="676"/>
                    </a:lnTo>
                    <a:lnTo>
                      <a:pt x="65" y="657"/>
                    </a:lnTo>
                    <a:lnTo>
                      <a:pt x="70" y="636"/>
                    </a:lnTo>
                    <a:lnTo>
                      <a:pt x="75" y="611"/>
                    </a:lnTo>
                    <a:lnTo>
                      <a:pt x="80" y="592"/>
                    </a:lnTo>
                    <a:lnTo>
                      <a:pt x="77" y="576"/>
                    </a:lnTo>
                    <a:lnTo>
                      <a:pt x="75" y="557"/>
                    </a:lnTo>
                    <a:lnTo>
                      <a:pt x="76" y="541"/>
                    </a:lnTo>
                    <a:lnTo>
                      <a:pt x="79" y="522"/>
                    </a:lnTo>
                    <a:lnTo>
                      <a:pt x="65" y="519"/>
                    </a:lnTo>
                    <a:lnTo>
                      <a:pt x="48" y="513"/>
                    </a:lnTo>
                    <a:lnTo>
                      <a:pt x="34" y="527"/>
                    </a:lnTo>
                    <a:lnTo>
                      <a:pt x="20" y="538"/>
                    </a:lnTo>
                    <a:lnTo>
                      <a:pt x="5" y="549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463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520"/>
                    </a:lnTo>
                    <a:lnTo>
                      <a:pt x="4" y="463"/>
                    </a:lnTo>
                    <a:lnTo>
                      <a:pt x="9" y="463"/>
                    </a:lnTo>
                    <a:lnTo>
                      <a:pt x="24" y="454"/>
                    </a:lnTo>
                    <a:lnTo>
                      <a:pt x="28" y="440"/>
                    </a:lnTo>
                    <a:lnTo>
                      <a:pt x="31" y="427"/>
                    </a:lnTo>
                    <a:lnTo>
                      <a:pt x="34" y="413"/>
                    </a:lnTo>
                    <a:lnTo>
                      <a:pt x="34" y="408"/>
                    </a:lnTo>
                    <a:lnTo>
                      <a:pt x="24" y="391"/>
                    </a:lnTo>
                    <a:lnTo>
                      <a:pt x="11" y="372"/>
                    </a:lnTo>
                    <a:lnTo>
                      <a:pt x="0" y="353"/>
                    </a:lnTo>
                    <a:lnTo>
                      <a:pt x="4" y="351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4" y="296"/>
                    </a:lnTo>
                    <a:lnTo>
                      <a:pt x="2" y="291"/>
                    </a:lnTo>
                    <a:lnTo>
                      <a:pt x="20" y="311"/>
                    </a:lnTo>
                    <a:lnTo>
                      <a:pt x="34" y="330"/>
                    </a:lnTo>
                    <a:lnTo>
                      <a:pt x="44" y="345"/>
                    </a:lnTo>
                    <a:lnTo>
                      <a:pt x="52" y="362"/>
                    </a:lnTo>
                    <a:lnTo>
                      <a:pt x="63" y="386"/>
                    </a:lnTo>
                    <a:lnTo>
                      <a:pt x="74" y="405"/>
                    </a:lnTo>
                    <a:lnTo>
                      <a:pt x="83" y="422"/>
                    </a:lnTo>
                    <a:lnTo>
                      <a:pt x="96" y="444"/>
                    </a:lnTo>
                    <a:lnTo>
                      <a:pt x="101" y="437"/>
                    </a:lnTo>
                    <a:lnTo>
                      <a:pt x="107" y="419"/>
                    </a:lnTo>
                    <a:lnTo>
                      <a:pt x="113" y="405"/>
                    </a:lnTo>
                    <a:lnTo>
                      <a:pt x="110" y="391"/>
                    </a:lnTo>
                    <a:lnTo>
                      <a:pt x="101" y="368"/>
                    </a:lnTo>
                    <a:lnTo>
                      <a:pt x="92" y="346"/>
                    </a:lnTo>
                    <a:lnTo>
                      <a:pt x="83" y="326"/>
                    </a:lnTo>
                    <a:lnTo>
                      <a:pt x="74" y="307"/>
                    </a:lnTo>
                    <a:lnTo>
                      <a:pt x="57" y="281"/>
                    </a:lnTo>
                    <a:lnTo>
                      <a:pt x="44" y="256"/>
                    </a:lnTo>
                    <a:lnTo>
                      <a:pt x="32" y="237"/>
                    </a:lnTo>
                    <a:lnTo>
                      <a:pt x="22" y="220"/>
                    </a:lnTo>
                    <a:lnTo>
                      <a:pt x="11" y="199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26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26"/>
                    </a:lnTo>
                    <a:lnTo>
                      <a:pt x="4" y="126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8" y="156"/>
                    </a:lnTo>
                    <a:lnTo>
                      <a:pt x="21" y="178"/>
                    </a:lnTo>
                    <a:lnTo>
                      <a:pt x="31" y="199"/>
                    </a:lnTo>
                    <a:lnTo>
                      <a:pt x="46" y="228"/>
                    </a:lnTo>
                    <a:lnTo>
                      <a:pt x="55" y="245"/>
                    </a:lnTo>
                    <a:lnTo>
                      <a:pt x="67" y="269"/>
                    </a:lnTo>
                    <a:lnTo>
                      <a:pt x="78" y="300"/>
                    </a:lnTo>
                    <a:lnTo>
                      <a:pt x="88" y="324"/>
                    </a:lnTo>
                    <a:lnTo>
                      <a:pt x="98" y="349"/>
                    </a:lnTo>
                    <a:lnTo>
                      <a:pt x="111" y="391"/>
                    </a:lnTo>
                    <a:lnTo>
                      <a:pt x="116" y="413"/>
                    </a:lnTo>
                    <a:lnTo>
                      <a:pt x="120" y="427"/>
                    </a:lnTo>
                    <a:lnTo>
                      <a:pt x="127" y="405"/>
                    </a:lnTo>
                    <a:lnTo>
                      <a:pt x="136" y="381"/>
                    </a:lnTo>
                    <a:lnTo>
                      <a:pt x="146" y="357"/>
                    </a:lnTo>
                    <a:lnTo>
                      <a:pt x="155" y="334"/>
                    </a:lnTo>
                    <a:lnTo>
                      <a:pt x="163" y="311"/>
                    </a:lnTo>
                    <a:lnTo>
                      <a:pt x="172" y="291"/>
                    </a:lnTo>
                    <a:lnTo>
                      <a:pt x="181" y="272"/>
                    </a:lnTo>
                    <a:lnTo>
                      <a:pt x="193" y="247"/>
                    </a:lnTo>
                    <a:lnTo>
                      <a:pt x="206" y="221"/>
                    </a:lnTo>
                    <a:lnTo>
                      <a:pt x="218" y="193"/>
                    </a:lnTo>
                    <a:lnTo>
                      <a:pt x="231" y="164"/>
                    </a:lnTo>
                    <a:lnTo>
                      <a:pt x="240" y="140"/>
                    </a:lnTo>
                    <a:lnTo>
                      <a:pt x="252" y="112"/>
                    </a:lnTo>
                    <a:lnTo>
                      <a:pt x="261" y="93"/>
                    </a:lnTo>
                    <a:lnTo>
                      <a:pt x="273" y="74"/>
                    </a:lnTo>
                    <a:lnTo>
                      <a:pt x="283" y="60"/>
                    </a:lnTo>
                    <a:lnTo>
                      <a:pt x="292" y="42"/>
                    </a:lnTo>
                    <a:lnTo>
                      <a:pt x="301" y="19"/>
                    </a:lnTo>
                    <a:lnTo>
                      <a:pt x="308" y="0"/>
                    </a:lnTo>
                    <a:lnTo>
                      <a:pt x="307" y="15"/>
                    </a:lnTo>
                    <a:lnTo>
                      <a:pt x="305" y="38"/>
                    </a:lnTo>
                    <a:lnTo>
                      <a:pt x="302" y="61"/>
                    </a:lnTo>
                    <a:lnTo>
                      <a:pt x="296" y="83"/>
                    </a:lnTo>
                    <a:lnTo>
                      <a:pt x="289" y="104"/>
                    </a:lnTo>
                    <a:lnTo>
                      <a:pt x="278" y="134"/>
                    </a:lnTo>
                    <a:lnTo>
                      <a:pt x="270" y="159"/>
                    </a:lnTo>
                    <a:lnTo>
                      <a:pt x="260" y="191"/>
                    </a:lnTo>
                    <a:lnTo>
                      <a:pt x="249" y="216"/>
                    </a:lnTo>
                    <a:lnTo>
                      <a:pt x="237" y="247"/>
                    </a:lnTo>
                    <a:lnTo>
                      <a:pt x="226" y="26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65880" y="8951040"/>
                <a:ext cx="1411560" cy="1706040"/>
                <a:chOff x="65880" y="8951040"/>
                <a:chExt cx="1411560" cy="17060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99440" y="8951040"/>
                  <a:ext cx="1278000" cy="1589760"/>
                </a:xfrm>
                <a:custGeom>
                  <a:avLst/>
                  <a:gdLst/>
                  <a:ahLst/>
                  <a:rect l="l" t="t" r="r" b="b"/>
                  <a:pathLst>
                    <a:path w="794" h="968">
                      <a:moveTo>
                        <a:pt x="250" y="246"/>
                      </a:moveTo>
                      <a:lnTo>
                        <a:pt x="256" y="223"/>
                      </a:lnTo>
                      <a:lnTo>
                        <a:pt x="265" y="196"/>
                      </a:lnTo>
                      <a:lnTo>
                        <a:pt x="276" y="169"/>
                      </a:lnTo>
                      <a:lnTo>
                        <a:pt x="289" y="145"/>
                      </a:lnTo>
                      <a:lnTo>
                        <a:pt x="302" y="121"/>
                      </a:lnTo>
                      <a:lnTo>
                        <a:pt x="311" y="104"/>
                      </a:lnTo>
                      <a:lnTo>
                        <a:pt x="321" y="88"/>
                      </a:lnTo>
                      <a:lnTo>
                        <a:pt x="333" y="74"/>
                      </a:lnTo>
                      <a:lnTo>
                        <a:pt x="344" y="61"/>
                      </a:lnTo>
                      <a:lnTo>
                        <a:pt x="354" y="50"/>
                      </a:lnTo>
                      <a:lnTo>
                        <a:pt x="366" y="41"/>
                      </a:lnTo>
                      <a:lnTo>
                        <a:pt x="377" y="31"/>
                      </a:lnTo>
                      <a:lnTo>
                        <a:pt x="388" y="25"/>
                      </a:lnTo>
                      <a:lnTo>
                        <a:pt x="402" y="20"/>
                      </a:lnTo>
                      <a:lnTo>
                        <a:pt x="416" y="15"/>
                      </a:lnTo>
                      <a:lnTo>
                        <a:pt x="429" y="11"/>
                      </a:lnTo>
                      <a:lnTo>
                        <a:pt x="443" y="9"/>
                      </a:lnTo>
                      <a:lnTo>
                        <a:pt x="456" y="7"/>
                      </a:lnTo>
                      <a:lnTo>
                        <a:pt x="471" y="6"/>
                      </a:lnTo>
                      <a:lnTo>
                        <a:pt x="489" y="3"/>
                      </a:lnTo>
                      <a:lnTo>
                        <a:pt x="502" y="6"/>
                      </a:lnTo>
                      <a:lnTo>
                        <a:pt x="515" y="7"/>
                      </a:lnTo>
                      <a:lnTo>
                        <a:pt x="528" y="7"/>
                      </a:lnTo>
                      <a:lnTo>
                        <a:pt x="540" y="6"/>
                      </a:lnTo>
                      <a:lnTo>
                        <a:pt x="554" y="3"/>
                      </a:lnTo>
                      <a:lnTo>
                        <a:pt x="568" y="0"/>
                      </a:lnTo>
                      <a:lnTo>
                        <a:pt x="561" y="6"/>
                      </a:lnTo>
                      <a:lnTo>
                        <a:pt x="554" y="12"/>
                      </a:lnTo>
                      <a:lnTo>
                        <a:pt x="549" y="20"/>
                      </a:lnTo>
                      <a:lnTo>
                        <a:pt x="543" y="30"/>
                      </a:lnTo>
                      <a:lnTo>
                        <a:pt x="533" y="30"/>
                      </a:lnTo>
                      <a:lnTo>
                        <a:pt x="521" y="31"/>
                      </a:lnTo>
                      <a:lnTo>
                        <a:pt x="513" y="34"/>
                      </a:lnTo>
                      <a:lnTo>
                        <a:pt x="502" y="39"/>
                      </a:lnTo>
                      <a:lnTo>
                        <a:pt x="492" y="42"/>
                      </a:lnTo>
                      <a:lnTo>
                        <a:pt x="482" y="45"/>
                      </a:lnTo>
                      <a:lnTo>
                        <a:pt x="471" y="50"/>
                      </a:lnTo>
                      <a:lnTo>
                        <a:pt x="460" y="55"/>
                      </a:lnTo>
                      <a:lnTo>
                        <a:pt x="448" y="61"/>
                      </a:lnTo>
                      <a:lnTo>
                        <a:pt x="437" y="68"/>
                      </a:lnTo>
                      <a:lnTo>
                        <a:pt x="426" y="74"/>
                      </a:lnTo>
                      <a:lnTo>
                        <a:pt x="413" y="83"/>
                      </a:lnTo>
                      <a:lnTo>
                        <a:pt x="402" y="93"/>
                      </a:lnTo>
                      <a:lnTo>
                        <a:pt x="389" y="104"/>
                      </a:lnTo>
                      <a:lnTo>
                        <a:pt x="377" y="117"/>
                      </a:lnTo>
                      <a:lnTo>
                        <a:pt x="363" y="136"/>
                      </a:lnTo>
                      <a:lnTo>
                        <a:pt x="352" y="156"/>
                      </a:lnTo>
                      <a:lnTo>
                        <a:pt x="341" y="183"/>
                      </a:lnTo>
                      <a:lnTo>
                        <a:pt x="328" y="218"/>
                      </a:lnTo>
                      <a:lnTo>
                        <a:pt x="316" y="256"/>
                      </a:lnTo>
                      <a:lnTo>
                        <a:pt x="302" y="302"/>
                      </a:lnTo>
                      <a:lnTo>
                        <a:pt x="326" y="283"/>
                      </a:lnTo>
                      <a:lnTo>
                        <a:pt x="346" y="267"/>
                      </a:lnTo>
                      <a:lnTo>
                        <a:pt x="373" y="245"/>
                      </a:lnTo>
                      <a:lnTo>
                        <a:pt x="402" y="223"/>
                      </a:lnTo>
                      <a:lnTo>
                        <a:pt x="413" y="218"/>
                      </a:lnTo>
                      <a:lnTo>
                        <a:pt x="426" y="210"/>
                      </a:lnTo>
                      <a:lnTo>
                        <a:pt x="440" y="205"/>
                      </a:lnTo>
                      <a:lnTo>
                        <a:pt x="455" y="199"/>
                      </a:lnTo>
                      <a:lnTo>
                        <a:pt x="472" y="194"/>
                      </a:lnTo>
                      <a:lnTo>
                        <a:pt x="486" y="193"/>
                      </a:lnTo>
                      <a:lnTo>
                        <a:pt x="498" y="191"/>
                      </a:lnTo>
                      <a:lnTo>
                        <a:pt x="516" y="188"/>
                      </a:lnTo>
                      <a:lnTo>
                        <a:pt x="532" y="189"/>
                      </a:lnTo>
                      <a:lnTo>
                        <a:pt x="545" y="191"/>
                      </a:lnTo>
                      <a:lnTo>
                        <a:pt x="562" y="194"/>
                      </a:lnTo>
                      <a:lnTo>
                        <a:pt x="577" y="196"/>
                      </a:lnTo>
                      <a:lnTo>
                        <a:pt x="593" y="197"/>
                      </a:lnTo>
                      <a:lnTo>
                        <a:pt x="608" y="200"/>
                      </a:lnTo>
                      <a:lnTo>
                        <a:pt x="623" y="202"/>
                      </a:lnTo>
                      <a:lnTo>
                        <a:pt x="640" y="205"/>
                      </a:lnTo>
                      <a:lnTo>
                        <a:pt x="656" y="207"/>
                      </a:lnTo>
                      <a:lnTo>
                        <a:pt x="671" y="210"/>
                      </a:lnTo>
                      <a:lnTo>
                        <a:pt x="689" y="213"/>
                      </a:lnTo>
                      <a:lnTo>
                        <a:pt x="708" y="216"/>
                      </a:lnTo>
                      <a:lnTo>
                        <a:pt x="725" y="219"/>
                      </a:lnTo>
                      <a:lnTo>
                        <a:pt x="752" y="226"/>
                      </a:lnTo>
                      <a:lnTo>
                        <a:pt x="762" y="224"/>
                      </a:lnTo>
                      <a:lnTo>
                        <a:pt x="769" y="226"/>
                      </a:lnTo>
                      <a:lnTo>
                        <a:pt x="777" y="231"/>
                      </a:lnTo>
                      <a:lnTo>
                        <a:pt x="793" y="238"/>
                      </a:lnTo>
                      <a:lnTo>
                        <a:pt x="766" y="231"/>
                      </a:lnTo>
                      <a:lnTo>
                        <a:pt x="754" y="227"/>
                      </a:lnTo>
                      <a:lnTo>
                        <a:pt x="742" y="227"/>
                      </a:lnTo>
                      <a:lnTo>
                        <a:pt x="718" y="231"/>
                      </a:lnTo>
                      <a:lnTo>
                        <a:pt x="702" y="232"/>
                      </a:lnTo>
                      <a:lnTo>
                        <a:pt x="681" y="234"/>
                      </a:lnTo>
                      <a:lnTo>
                        <a:pt x="663" y="234"/>
                      </a:lnTo>
                      <a:lnTo>
                        <a:pt x="646" y="235"/>
                      </a:lnTo>
                      <a:lnTo>
                        <a:pt x="629" y="237"/>
                      </a:lnTo>
                      <a:lnTo>
                        <a:pt x="614" y="234"/>
                      </a:lnTo>
                      <a:lnTo>
                        <a:pt x="596" y="232"/>
                      </a:lnTo>
                      <a:lnTo>
                        <a:pt x="577" y="234"/>
                      </a:lnTo>
                      <a:lnTo>
                        <a:pt x="561" y="237"/>
                      </a:lnTo>
                      <a:lnTo>
                        <a:pt x="546" y="238"/>
                      </a:lnTo>
                      <a:lnTo>
                        <a:pt x="529" y="240"/>
                      </a:lnTo>
                      <a:lnTo>
                        <a:pt x="516" y="240"/>
                      </a:lnTo>
                      <a:lnTo>
                        <a:pt x="500" y="242"/>
                      </a:lnTo>
                      <a:lnTo>
                        <a:pt x="486" y="246"/>
                      </a:lnTo>
                      <a:lnTo>
                        <a:pt x="472" y="251"/>
                      </a:lnTo>
                      <a:lnTo>
                        <a:pt x="460" y="256"/>
                      </a:lnTo>
                      <a:lnTo>
                        <a:pt x="445" y="261"/>
                      </a:lnTo>
                      <a:lnTo>
                        <a:pt x="431" y="267"/>
                      </a:lnTo>
                      <a:lnTo>
                        <a:pt x="414" y="273"/>
                      </a:lnTo>
                      <a:lnTo>
                        <a:pt x="402" y="278"/>
                      </a:lnTo>
                      <a:lnTo>
                        <a:pt x="377" y="289"/>
                      </a:lnTo>
                      <a:lnTo>
                        <a:pt x="362" y="294"/>
                      </a:lnTo>
                      <a:lnTo>
                        <a:pt x="341" y="308"/>
                      </a:lnTo>
                      <a:lnTo>
                        <a:pt x="311" y="327"/>
                      </a:lnTo>
                      <a:lnTo>
                        <a:pt x="343" y="332"/>
                      </a:lnTo>
                      <a:lnTo>
                        <a:pt x="378" y="335"/>
                      </a:lnTo>
                      <a:lnTo>
                        <a:pt x="384" y="337"/>
                      </a:lnTo>
                      <a:lnTo>
                        <a:pt x="402" y="351"/>
                      </a:lnTo>
                      <a:lnTo>
                        <a:pt x="413" y="359"/>
                      </a:lnTo>
                      <a:lnTo>
                        <a:pt x="423" y="367"/>
                      </a:lnTo>
                      <a:lnTo>
                        <a:pt x="425" y="371"/>
                      </a:lnTo>
                      <a:lnTo>
                        <a:pt x="431" y="389"/>
                      </a:lnTo>
                      <a:lnTo>
                        <a:pt x="443" y="416"/>
                      </a:lnTo>
                      <a:lnTo>
                        <a:pt x="430" y="405"/>
                      </a:lnTo>
                      <a:lnTo>
                        <a:pt x="414" y="390"/>
                      </a:lnTo>
                      <a:lnTo>
                        <a:pt x="402" y="384"/>
                      </a:lnTo>
                      <a:lnTo>
                        <a:pt x="378" y="375"/>
                      </a:lnTo>
                      <a:lnTo>
                        <a:pt x="360" y="367"/>
                      </a:lnTo>
                      <a:lnTo>
                        <a:pt x="343" y="359"/>
                      </a:lnTo>
                      <a:lnTo>
                        <a:pt x="332" y="354"/>
                      </a:lnTo>
                      <a:lnTo>
                        <a:pt x="312" y="359"/>
                      </a:lnTo>
                      <a:lnTo>
                        <a:pt x="298" y="362"/>
                      </a:lnTo>
                      <a:lnTo>
                        <a:pt x="281" y="367"/>
                      </a:lnTo>
                      <a:lnTo>
                        <a:pt x="290" y="371"/>
                      </a:lnTo>
                      <a:lnTo>
                        <a:pt x="300" y="376"/>
                      </a:lnTo>
                      <a:lnTo>
                        <a:pt x="313" y="386"/>
                      </a:lnTo>
                      <a:lnTo>
                        <a:pt x="328" y="384"/>
                      </a:lnTo>
                      <a:lnTo>
                        <a:pt x="353" y="386"/>
                      </a:lnTo>
                      <a:lnTo>
                        <a:pt x="367" y="390"/>
                      </a:lnTo>
                      <a:lnTo>
                        <a:pt x="388" y="398"/>
                      </a:lnTo>
                      <a:lnTo>
                        <a:pt x="402" y="406"/>
                      </a:lnTo>
                      <a:lnTo>
                        <a:pt x="419" y="413"/>
                      </a:lnTo>
                      <a:lnTo>
                        <a:pt x="437" y="420"/>
                      </a:lnTo>
                      <a:lnTo>
                        <a:pt x="454" y="428"/>
                      </a:lnTo>
                      <a:lnTo>
                        <a:pt x="469" y="432"/>
                      </a:lnTo>
                      <a:lnTo>
                        <a:pt x="482" y="435"/>
                      </a:lnTo>
                      <a:lnTo>
                        <a:pt x="494" y="441"/>
                      </a:lnTo>
                      <a:lnTo>
                        <a:pt x="509" y="447"/>
                      </a:lnTo>
                      <a:lnTo>
                        <a:pt x="525" y="458"/>
                      </a:lnTo>
                      <a:lnTo>
                        <a:pt x="541" y="470"/>
                      </a:lnTo>
                      <a:lnTo>
                        <a:pt x="548" y="479"/>
                      </a:lnTo>
                      <a:lnTo>
                        <a:pt x="558" y="498"/>
                      </a:lnTo>
                      <a:lnTo>
                        <a:pt x="571" y="520"/>
                      </a:lnTo>
                      <a:lnTo>
                        <a:pt x="580" y="539"/>
                      </a:lnTo>
                      <a:lnTo>
                        <a:pt x="589" y="560"/>
                      </a:lnTo>
                      <a:lnTo>
                        <a:pt x="598" y="580"/>
                      </a:lnTo>
                      <a:lnTo>
                        <a:pt x="606" y="601"/>
                      </a:lnTo>
                      <a:lnTo>
                        <a:pt x="614" y="620"/>
                      </a:lnTo>
                      <a:lnTo>
                        <a:pt x="623" y="640"/>
                      </a:lnTo>
                      <a:lnTo>
                        <a:pt x="634" y="666"/>
                      </a:lnTo>
                      <a:lnTo>
                        <a:pt x="643" y="690"/>
                      </a:lnTo>
                      <a:lnTo>
                        <a:pt x="653" y="710"/>
                      </a:lnTo>
                      <a:lnTo>
                        <a:pt x="665" y="732"/>
                      </a:lnTo>
                      <a:lnTo>
                        <a:pt x="649" y="713"/>
                      </a:lnTo>
                      <a:lnTo>
                        <a:pt x="638" y="702"/>
                      </a:lnTo>
                      <a:lnTo>
                        <a:pt x="623" y="686"/>
                      </a:lnTo>
                      <a:lnTo>
                        <a:pt x="608" y="671"/>
                      </a:lnTo>
                      <a:lnTo>
                        <a:pt x="596" y="655"/>
                      </a:lnTo>
                      <a:lnTo>
                        <a:pt x="584" y="642"/>
                      </a:lnTo>
                      <a:lnTo>
                        <a:pt x="573" y="631"/>
                      </a:lnTo>
                      <a:lnTo>
                        <a:pt x="562" y="620"/>
                      </a:lnTo>
                      <a:lnTo>
                        <a:pt x="549" y="607"/>
                      </a:lnTo>
                      <a:lnTo>
                        <a:pt x="537" y="596"/>
                      </a:lnTo>
                      <a:lnTo>
                        <a:pt x="526" y="583"/>
                      </a:lnTo>
                      <a:lnTo>
                        <a:pt x="513" y="569"/>
                      </a:lnTo>
                      <a:lnTo>
                        <a:pt x="498" y="553"/>
                      </a:lnTo>
                      <a:lnTo>
                        <a:pt x="483" y="536"/>
                      </a:lnTo>
                      <a:lnTo>
                        <a:pt x="469" y="520"/>
                      </a:lnTo>
                      <a:lnTo>
                        <a:pt x="456" y="508"/>
                      </a:lnTo>
                      <a:lnTo>
                        <a:pt x="443" y="495"/>
                      </a:lnTo>
                      <a:lnTo>
                        <a:pt x="428" y="484"/>
                      </a:lnTo>
                      <a:lnTo>
                        <a:pt x="414" y="476"/>
                      </a:lnTo>
                      <a:lnTo>
                        <a:pt x="402" y="468"/>
                      </a:lnTo>
                      <a:lnTo>
                        <a:pt x="382" y="460"/>
                      </a:lnTo>
                      <a:lnTo>
                        <a:pt x="364" y="452"/>
                      </a:lnTo>
                      <a:lnTo>
                        <a:pt x="351" y="446"/>
                      </a:lnTo>
                      <a:lnTo>
                        <a:pt x="337" y="439"/>
                      </a:lnTo>
                      <a:lnTo>
                        <a:pt x="316" y="424"/>
                      </a:lnTo>
                      <a:lnTo>
                        <a:pt x="296" y="409"/>
                      </a:lnTo>
                      <a:lnTo>
                        <a:pt x="326" y="441"/>
                      </a:lnTo>
                      <a:lnTo>
                        <a:pt x="330" y="447"/>
                      </a:lnTo>
                      <a:lnTo>
                        <a:pt x="337" y="462"/>
                      </a:lnTo>
                      <a:lnTo>
                        <a:pt x="344" y="477"/>
                      </a:lnTo>
                      <a:lnTo>
                        <a:pt x="353" y="498"/>
                      </a:lnTo>
                      <a:lnTo>
                        <a:pt x="363" y="517"/>
                      </a:lnTo>
                      <a:lnTo>
                        <a:pt x="373" y="538"/>
                      </a:lnTo>
                      <a:lnTo>
                        <a:pt x="384" y="560"/>
                      </a:lnTo>
                      <a:lnTo>
                        <a:pt x="392" y="579"/>
                      </a:lnTo>
                      <a:lnTo>
                        <a:pt x="402" y="596"/>
                      </a:lnTo>
                      <a:lnTo>
                        <a:pt x="410" y="617"/>
                      </a:lnTo>
                      <a:lnTo>
                        <a:pt x="421" y="644"/>
                      </a:lnTo>
                      <a:lnTo>
                        <a:pt x="431" y="666"/>
                      </a:lnTo>
                      <a:lnTo>
                        <a:pt x="438" y="683"/>
                      </a:lnTo>
                      <a:lnTo>
                        <a:pt x="445" y="704"/>
                      </a:lnTo>
                      <a:lnTo>
                        <a:pt x="452" y="724"/>
                      </a:lnTo>
                      <a:lnTo>
                        <a:pt x="456" y="745"/>
                      </a:lnTo>
                      <a:lnTo>
                        <a:pt x="460" y="759"/>
                      </a:lnTo>
                      <a:lnTo>
                        <a:pt x="462" y="781"/>
                      </a:lnTo>
                      <a:lnTo>
                        <a:pt x="464" y="808"/>
                      </a:lnTo>
                      <a:lnTo>
                        <a:pt x="466" y="835"/>
                      </a:lnTo>
                      <a:lnTo>
                        <a:pt x="469" y="864"/>
                      </a:lnTo>
                      <a:lnTo>
                        <a:pt x="472" y="889"/>
                      </a:lnTo>
                      <a:lnTo>
                        <a:pt x="473" y="917"/>
                      </a:lnTo>
                      <a:lnTo>
                        <a:pt x="460" y="889"/>
                      </a:lnTo>
                      <a:lnTo>
                        <a:pt x="451" y="872"/>
                      </a:lnTo>
                      <a:lnTo>
                        <a:pt x="443" y="853"/>
                      </a:lnTo>
                      <a:lnTo>
                        <a:pt x="437" y="837"/>
                      </a:lnTo>
                      <a:lnTo>
                        <a:pt x="431" y="818"/>
                      </a:lnTo>
                      <a:lnTo>
                        <a:pt x="426" y="796"/>
                      </a:lnTo>
                      <a:lnTo>
                        <a:pt x="419" y="770"/>
                      </a:lnTo>
                      <a:lnTo>
                        <a:pt x="413" y="747"/>
                      </a:lnTo>
                      <a:lnTo>
                        <a:pt x="406" y="721"/>
                      </a:lnTo>
                      <a:lnTo>
                        <a:pt x="400" y="699"/>
                      </a:lnTo>
                      <a:lnTo>
                        <a:pt x="392" y="677"/>
                      </a:lnTo>
                      <a:lnTo>
                        <a:pt x="384" y="658"/>
                      </a:lnTo>
                      <a:lnTo>
                        <a:pt x="376" y="640"/>
                      </a:lnTo>
                      <a:lnTo>
                        <a:pt x="366" y="620"/>
                      </a:lnTo>
                      <a:lnTo>
                        <a:pt x="354" y="599"/>
                      </a:lnTo>
                      <a:lnTo>
                        <a:pt x="345" y="583"/>
                      </a:lnTo>
                      <a:lnTo>
                        <a:pt x="336" y="566"/>
                      </a:lnTo>
                      <a:lnTo>
                        <a:pt x="334" y="550"/>
                      </a:lnTo>
                      <a:lnTo>
                        <a:pt x="327" y="527"/>
                      </a:lnTo>
                      <a:lnTo>
                        <a:pt x="320" y="508"/>
                      </a:lnTo>
                      <a:lnTo>
                        <a:pt x="315" y="487"/>
                      </a:lnTo>
                      <a:lnTo>
                        <a:pt x="311" y="479"/>
                      </a:lnTo>
                      <a:lnTo>
                        <a:pt x="299" y="460"/>
                      </a:lnTo>
                      <a:lnTo>
                        <a:pt x="291" y="441"/>
                      </a:lnTo>
                      <a:lnTo>
                        <a:pt x="284" y="424"/>
                      </a:lnTo>
                      <a:lnTo>
                        <a:pt x="276" y="406"/>
                      </a:lnTo>
                      <a:lnTo>
                        <a:pt x="262" y="416"/>
                      </a:lnTo>
                      <a:lnTo>
                        <a:pt x="248" y="430"/>
                      </a:lnTo>
                      <a:lnTo>
                        <a:pt x="233" y="449"/>
                      </a:lnTo>
                      <a:lnTo>
                        <a:pt x="219" y="466"/>
                      </a:lnTo>
                      <a:lnTo>
                        <a:pt x="208" y="482"/>
                      </a:lnTo>
                      <a:lnTo>
                        <a:pt x="198" y="501"/>
                      </a:lnTo>
                      <a:lnTo>
                        <a:pt x="188" y="525"/>
                      </a:lnTo>
                      <a:lnTo>
                        <a:pt x="176" y="553"/>
                      </a:lnTo>
                      <a:lnTo>
                        <a:pt x="166" y="576"/>
                      </a:lnTo>
                      <a:lnTo>
                        <a:pt x="154" y="602"/>
                      </a:lnTo>
                      <a:lnTo>
                        <a:pt x="145" y="628"/>
                      </a:lnTo>
                      <a:lnTo>
                        <a:pt x="137" y="650"/>
                      </a:lnTo>
                      <a:lnTo>
                        <a:pt x="128" y="672"/>
                      </a:lnTo>
                      <a:lnTo>
                        <a:pt x="121" y="696"/>
                      </a:lnTo>
                      <a:lnTo>
                        <a:pt x="112" y="721"/>
                      </a:lnTo>
                      <a:lnTo>
                        <a:pt x="104" y="747"/>
                      </a:lnTo>
                      <a:lnTo>
                        <a:pt x="93" y="775"/>
                      </a:lnTo>
                      <a:lnTo>
                        <a:pt x="82" y="803"/>
                      </a:lnTo>
                      <a:lnTo>
                        <a:pt x="69" y="834"/>
                      </a:lnTo>
                      <a:lnTo>
                        <a:pt x="59" y="860"/>
                      </a:lnTo>
                      <a:lnTo>
                        <a:pt x="52" y="876"/>
                      </a:lnTo>
                      <a:lnTo>
                        <a:pt x="43" y="894"/>
                      </a:lnTo>
                      <a:lnTo>
                        <a:pt x="34" y="911"/>
                      </a:lnTo>
                      <a:lnTo>
                        <a:pt x="23" y="929"/>
                      </a:lnTo>
                      <a:lnTo>
                        <a:pt x="13" y="944"/>
                      </a:lnTo>
                      <a:lnTo>
                        <a:pt x="0" y="967"/>
                      </a:lnTo>
                      <a:lnTo>
                        <a:pt x="5" y="940"/>
                      </a:lnTo>
                      <a:lnTo>
                        <a:pt x="9" y="919"/>
                      </a:lnTo>
                      <a:lnTo>
                        <a:pt x="16" y="895"/>
                      </a:lnTo>
                      <a:lnTo>
                        <a:pt x="23" y="876"/>
                      </a:lnTo>
                      <a:lnTo>
                        <a:pt x="36" y="846"/>
                      </a:lnTo>
                      <a:lnTo>
                        <a:pt x="49" y="816"/>
                      </a:lnTo>
                      <a:lnTo>
                        <a:pt x="64" y="781"/>
                      </a:lnTo>
                      <a:lnTo>
                        <a:pt x="75" y="751"/>
                      </a:lnTo>
                      <a:lnTo>
                        <a:pt x="86" y="724"/>
                      </a:lnTo>
                      <a:lnTo>
                        <a:pt x="98" y="699"/>
                      </a:lnTo>
                      <a:lnTo>
                        <a:pt x="106" y="677"/>
                      </a:lnTo>
                      <a:lnTo>
                        <a:pt x="116" y="655"/>
                      </a:lnTo>
                      <a:lnTo>
                        <a:pt x="125" y="637"/>
                      </a:lnTo>
                      <a:lnTo>
                        <a:pt x="137" y="614"/>
                      </a:lnTo>
                      <a:lnTo>
                        <a:pt x="148" y="590"/>
                      </a:lnTo>
                      <a:lnTo>
                        <a:pt x="159" y="566"/>
                      </a:lnTo>
                      <a:lnTo>
                        <a:pt x="172" y="541"/>
                      </a:lnTo>
                      <a:lnTo>
                        <a:pt x="181" y="519"/>
                      </a:lnTo>
                      <a:lnTo>
                        <a:pt x="190" y="496"/>
                      </a:lnTo>
                      <a:lnTo>
                        <a:pt x="198" y="476"/>
                      </a:lnTo>
                      <a:lnTo>
                        <a:pt x="203" y="460"/>
                      </a:lnTo>
                      <a:lnTo>
                        <a:pt x="207" y="444"/>
                      </a:lnTo>
                      <a:lnTo>
                        <a:pt x="213" y="428"/>
                      </a:lnTo>
                      <a:lnTo>
                        <a:pt x="221" y="413"/>
                      </a:lnTo>
                      <a:lnTo>
                        <a:pt x="233" y="392"/>
                      </a:lnTo>
                      <a:lnTo>
                        <a:pt x="242" y="371"/>
                      </a:lnTo>
                      <a:lnTo>
                        <a:pt x="251" y="357"/>
                      </a:lnTo>
                      <a:lnTo>
                        <a:pt x="259" y="340"/>
                      </a:lnTo>
                      <a:lnTo>
                        <a:pt x="256" y="324"/>
                      </a:lnTo>
                      <a:lnTo>
                        <a:pt x="251" y="300"/>
                      </a:lnTo>
                      <a:lnTo>
                        <a:pt x="229" y="289"/>
                      </a:lnTo>
                      <a:lnTo>
                        <a:pt x="205" y="262"/>
                      </a:lnTo>
                      <a:lnTo>
                        <a:pt x="180" y="237"/>
                      </a:lnTo>
                      <a:lnTo>
                        <a:pt x="166" y="223"/>
                      </a:lnTo>
                      <a:lnTo>
                        <a:pt x="155" y="212"/>
                      </a:lnTo>
                      <a:lnTo>
                        <a:pt x="135" y="199"/>
                      </a:lnTo>
                      <a:lnTo>
                        <a:pt x="116" y="188"/>
                      </a:lnTo>
                      <a:lnTo>
                        <a:pt x="94" y="178"/>
                      </a:lnTo>
                      <a:lnTo>
                        <a:pt x="79" y="170"/>
                      </a:lnTo>
                      <a:lnTo>
                        <a:pt x="60" y="159"/>
                      </a:lnTo>
                      <a:lnTo>
                        <a:pt x="44" y="151"/>
                      </a:lnTo>
                      <a:lnTo>
                        <a:pt x="28" y="147"/>
                      </a:lnTo>
                      <a:lnTo>
                        <a:pt x="14" y="140"/>
                      </a:lnTo>
                      <a:lnTo>
                        <a:pt x="27" y="139"/>
                      </a:lnTo>
                      <a:lnTo>
                        <a:pt x="37" y="136"/>
                      </a:lnTo>
                      <a:lnTo>
                        <a:pt x="45" y="134"/>
                      </a:lnTo>
                      <a:lnTo>
                        <a:pt x="53" y="132"/>
                      </a:lnTo>
                      <a:lnTo>
                        <a:pt x="62" y="134"/>
                      </a:lnTo>
                      <a:lnTo>
                        <a:pt x="81" y="147"/>
                      </a:lnTo>
                      <a:lnTo>
                        <a:pt x="97" y="159"/>
                      </a:lnTo>
                      <a:lnTo>
                        <a:pt x="114" y="174"/>
                      </a:lnTo>
                      <a:lnTo>
                        <a:pt x="131" y="188"/>
                      </a:lnTo>
                      <a:lnTo>
                        <a:pt x="151" y="204"/>
                      </a:lnTo>
                      <a:lnTo>
                        <a:pt x="169" y="219"/>
                      </a:lnTo>
                      <a:lnTo>
                        <a:pt x="183" y="231"/>
                      </a:lnTo>
                      <a:lnTo>
                        <a:pt x="208" y="250"/>
                      </a:lnTo>
                      <a:lnTo>
                        <a:pt x="221" y="257"/>
                      </a:lnTo>
                      <a:lnTo>
                        <a:pt x="231" y="254"/>
                      </a:lnTo>
                      <a:lnTo>
                        <a:pt x="240" y="251"/>
                      </a:lnTo>
                      <a:lnTo>
                        <a:pt x="250" y="24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633960" y="9763920"/>
                  <a:ext cx="115920" cy="893160"/>
                </a:xfrm>
                <a:custGeom>
                  <a:avLst/>
                  <a:gdLst/>
                  <a:ahLst/>
                  <a:rect l="l" t="t" r="r" b="b"/>
                  <a:pathLst>
                    <a:path w="72" h="544">
                      <a:moveTo>
                        <a:pt x="38" y="0"/>
                      </a:moveTo>
                      <a:lnTo>
                        <a:pt x="46" y="26"/>
                      </a:lnTo>
                      <a:lnTo>
                        <a:pt x="52" y="44"/>
                      </a:lnTo>
                      <a:lnTo>
                        <a:pt x="64" y="69"/>
                      </a:lnTo>
                      <a:lnTo>
                        <a:pt x="67" y="93"/>
                      </a:lnTo>
                      <a:lnTo>
                        <a:pt x="70" y="123"/>
                      </a:lnTo>
                      <a:lnTo>
                        <a:pt x="70" y="159"/>
                      </a:lnTo>
                      <a:lnTo>
                        <a:pt x="71" y="183"/>
                      </a:lnTo>
                      <a:lnTo>
                        <a:pt x="70" y="212"/>
                      </a:lnTo>
                      <a:lnTo>
                        <a:pt x="67" y="245"/>
                      </a:lnTo>
                      <a:lnTo>
                        <a:pt x="64" y="275"/>
                      </a:lnTo>
                      <a:lnTo>
                        <a:pt x="59" y="321"/>
                      </a:lnTo>
                      <a:lnTo>
                        <a:pt x="54" y="345"/>
                      </a:lnTo>
                      <a:lnTo>
                        <a:pt x="45" y="375"/>
                      </a:lnTo>
                      <a:lnTo>
                        <a:pt x="33" y="408"/>
                      </a:lnTo>
                      <a:lnTo>
                        <a:pt x="24" y="440"/>
                      </a:lnTo>
                      <a:lnTo>
                        <a:pt x="14" y="468"/>
                      </a:lnTo>
                      <a:lnTo>
                        <a:pt x="6" y="493"/>
                      </a:lnTo>
                      <a:lnTo>
                        <a:pt x="0" y="543"/>
                      </a:lnTo>
                      <a:lnTo>
                        <a:pt x="3" y="493"/>
                      </a:lnTo>
                      <a:lnTo>
                        <a:pt x="6" y="459"/>
                      </a:lnTo>
                      <a:lnTo>
                        <a:pt x="7" y="427"/>
                      </a:lnTo>
                      <a:lnTo>
                        <a:pt x="9" y="394"/>
                      </a:lnTo>
                      <a:lnTo>
                        <a:pt x="13" y="353"/>
                      </a:lnTo>
                      <a:lnTo>
                        <a:pt x="19" y="321"/>
                      </a:lnTo>
                      <a:lnTo>
                        <a:pt x="24" y="291"/>
                      </a:lnTo>
                      <a:lnTo>
                        <a:pt x="29" y="264"/>
                      </a:lnTo>
                      <a:lnTo>
                        <a:pt x="33" y="234"/>
                      </a:lnTo>
                      <a:lnTo>
                        <a:pt x="38" y="204"/>
                      </a:lnTo>
                      <a:lnTo>
                        <a:pt x="41" y="174"/>
                      </a:lnTo>
                      <a:lnTo>
                        <a:pt x="43" y="148"/>
                      </a:lnTo>
                      <a:lnTo>
                        <a:pt x="45" y="118"/>
                      </a:lnTo>
                      <a:lnTo>
                        <a:pt x="45" y="85"/>
                      </a:lnTo>
                      <a:lnTo>
                        <a:pt x="45" y="44"/>
                      </a:lnTo>
                      <a:lnTo>
                        <a:pt x="42" y="25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640" y="9272520"/>
                  <a:ext cx="502200" cy="228240"/>
                </a:xfrm>
                <a:custGeom>
                  <a:avLst/>
                  <a:gdLst/>
                  <a:ahLst/>
                  <a:rect l="l" t="t" r="r" b="b"/>
                  <a:pathLst>
                    <a:path w="312" h="139">
                      <a:moveTo>
                        <a:pt x="311" y="138"/>
                      </a:moveTo>
                      <a:lnTo>
                        <a:pt x="305" y="114"/>
                      </a:lnTo>
                      <a:lnTo>
                        <a:pt x="299" y="93"/>
                      </a:lnTo>
                      <a:lnTo>
                        <a:pt x="293" y="88"/>
                      </a:lnTo>
                      <a:lnTo>
                        <a:pt x="281" y="82"/>
                      </a:lnTo>
                      <a:lnTo>
                        <a:pt x="269" y="77"/>
                      </a:lnTo>
                      <a:lnTo>
                        <a:pt x="257" y="82"/>
                      </a:lnTo>
                      <a:lnTo>
                        <a:pt x="242" y="85"/>
                      </a:lnTo>
                      <a:lnTo>
                        <a:pt x="226" y="76"/>
                      </a:lnTo>
                      <a:lnTo>
                        <a:pt x="204" y="63"/>
                      </a:lnTo>
                      <a:lnTo>
                        <a:pt x="184" y="52"/>
                      </a:lnTo>
                      <a:lnTo>
                        <a:pt x="170" y="46"/>
                      </a:lnTo>
                      <a:lnTo>
                        <a:pt x="146" y="34"/>
                      </a:lnTo>
                      <a:lnTo>
                        <a:pt x="123" y="23"/>
                      </a:lnTo>
                      <a:lnTo>
                        <a:pt x="100" y="14"/>
                      </a:lnTo>
                      <a:lnTo>
                        <a:pt x="78" y="4"/>
                      </a:lnTo>
                      <a:lnTo>
                        <a:pt x="52" y="3"/>
                      </a:lnTo>
                      <a:lnTo>
                        <a:pt x="29" y="0"/>
                      </a:lnTo>
                      <a:lnTo>
                        <a:pt x="23" y="4"/>
                      </a:lnTo>
                      <a:lnTo>
                        <a:pt x="13" y="12"/>
                      </a:lnTo>
                      <a:lnTo>
                        <a:pt x="5" y="22"/>
                      </a:lnTo>
                      <a:lnTo>
                        <a:pt x="0" y="31"/>
                      </a:lnTo>
                      <a:lnTo>
                        <a:pt x="10" y="33"/>
                      </a:lnTo>
                      <a:lnTo>
                        <a:pt x="23" y="34"/>
                      </a:lnTo>
                      <a:lnTo>
                        <a:pt x="35" y="34"/>
                      </a:lnTo>
                      <a:lnTo>
                        <a:pt x="43" y="33"/>
                      </a:lnTo>
                      <a:lnTo>
                        <a:pt x="55" y="33"/>
                      </a:lnTo>
                      <a:lnTo>
                        <a:pt x="71" y="31"/>
                      </a:lnTo>
                      <a:lnTo>
                        <a:pt x="93" y="33"/>
                      </a:lnTo>
                      <a:lnTo>
                        <a:pt x="112" y="34"/>
                      </a:lnTo>
                      <a:lnTo>
                        <a:pt x="130" y="41"/>
                      </a:lnTo>
                      <a:lnTo>
                        <a:pt x="149" y="44"/>
                      </a:lnTo>
                      <a:lnTo>
                        <a:pt x="167" y="47"/>
                      </a:lnTo>
                      <a:lnTo>
                        <a:pt x="182" y="55"/>
                      </a:lnTo>
                      <a:lnTo>
                        <a:pt x="198" y="66"/>
                      </a:lnTo>
                      <a:lnTo>
                        <a:pt x="212" y="77"/>
                      </a:lnTo>
                      <a:lnTo>
                        <a:pt x="228" y="88"/>
                      </a:lnTo>
                      <a:lnTo>
                        <a:pt x="236" y="90"/>
                      </a:lnTo>
                      <a:lnTo>
                        <a:pt x="245" y="88"/>
                      </a:lnTo>
                      <a:lnTo>
                        <a:pt x="256" y="96"/>
                      </a:lnTo>
                      <a:lnTo>
                        <a:pt x="268" y="104"/>
                      </a:lnTo>
                      <a:lnTo>
                        <a:pt x="279" y="114"/>
                      </a:lnTo>
                      <a:lnTo>
                        <a:pt x="295" y="125"/>
                      </a:lnTo>
                      <a:lnTo>
                        <a:pt x="305" y="131"/>
                      </a:lnTo>
                      <a:lnTo>
                        <a:pt x="311" y="13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65880" y="9407520"/>
                  <a:ext cx="519840" cy="96840"/>
                </a:xfrm>
                <a:custGeom>
                  <a:avLst/>
                  <a:gdLst/>
                  <a:ahLst/>
                  <a:rect l="l" t="t" r="r" b="b"/>
                  <a:pathLst>
                    <a:path w="323" h="59">
                      <a:moveTo>
                        <a:pt x="322" y="58"/>
                      </a:moveTo>
                      <a:lnTo>
                        <a:pt x="314" y="53"/>
                      </a:lnTo>
                      <a:lnTo>
                        <a:pt x="304" y="46"/>
                      </a:lnTo>
                      <a:lnTo>
                        <a:pt x="294" y="40"/>
                      </a:lnTo>
                      <a:lnTo>
                        <a:pt x="285" y="35"/>
                      </a:lnTo>
                      <a:lnTo>
                        <a:pt x="273" y="29"/>
                      </a:lnTo>
                      <a:lnTo>
                        <a:pt x="258" y="17"/>
                      </a:lnTo>
                      <a:lnTo>
                        <a:pt x="246" y="9"/>
                      </a:lnTo>
                      <a:lnTo>
                        <a:pt x="234" y="8"/>
                      </a:lnTo>
                      <a:lnTo>
                        <a:pt x="221" y="11"/>
                      </a:lnTo>
                      <a:lnTo>
                        <a:pt x="202" y="16"/>
                      </a:lnTo>
                      <a:lnTo>
                        <a:pt x="194" y="14"/>
                      </a:lnTo>
                      <a:lnTo>
                        <a:pt x="170" y="9"/>
                      </a:lnTo>
                      <a:lnTo>
                        <a:pt x="144" y="4"/>
                      </a:lnTo>
                      <a:lnTo>
                        <a:pt x="127" y="1"/>
                      </a:lnTo>
                      <a:lnTo>
                        <a:pt x="105" y="0"/>
                      </a:lnTo>
                      <a:lnTo>
                        <a:pt x="81" y="1"/>
                      </a:lnTo>
                      <a:lnTo>
                        <a:pt x="66" y="4"/>
                      </a:lnTo>
                      <a:lnTo>
                        <a:pt x="49" y="8"/>
                      </a:lnTo>
                      <a:lnTo>
                        <a:pt x="34" y="9"/>
                      </a:lnTo>
                      <a:lnTo>
                        <a:pt x="17" y="12"/>
                      </a:lnTo>
                      <a:lnTo>
                        <a:pt x="16" y="25"/>
                      </a:lnTo>
                      <a:lnTo>
                        <a:pt x="12" y="33"/>
                      </a:lnTo>
                      <a:lnTo>
                        <a:pt x="7" y="43"/>
                      </a:lnTo>
                      <a:lnTo>
                        <a:pt x="0" y="51"/>
                      </a:lnTo>
                      <a:lnTo>
                        <a:pt x="12" y="46"/>
                      </a:lnTo>
                      <a:lnTo>
                        <a:pt x="28" y="41"/>
                      </a:lnTo>
                      <a:lnTo>
                        <a:pt x="40" y="37"/>
                      </a:lnTo>
                      <a:lnTo>
                        <a:pt x="54" y="33"/>
                      </a:lnTo>
                      <a:lnTo>
                        <a:pt x="69" y="30"/>
                      </a:lnTo>
                      <a:lnTo>
                        <a:pt x="92" y="29"/>
                      </a:lnTo>
                      <a:lnTo>
                        <a:pt x="117" y="25"/>
                      </a:lnTo>
                      <a:lnTo>
                        <a:pt x="145" y="24"/>
                      </a:lnTo>
                      <a:lnTo>
                        <a:pt x="173" y="20"/>
                      </a:lnTo>
                      <a:lnTo>
                        <a:pt x="199" y="17"/>
                      </a:lnTo>
                      <a:lnTo>
                        <a:pt x="221" y="22"/>
                      </a:lnTo>
                      <a:lnTo>
                        <a:pt x="236" y="29"/>
                      </a:lnTo>
                      <a:lnTo>
                        <a:pt x="253" y="35"/>
                      </a:lnTo>
                      <a:lnTo>
                        <a:pt x="271" y="41"/>
                      </a:lnTo>
                      <a:lnTo>
                        <a:pt x="291" y="49"/>
                      </a:lnTo>
                      <a:lnTo>
                        <a:pt x="305" y="54"/>
                      </a:lnTo>
                      <a:lnTo>
                        <a:pt x="322" y="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5840" y="6896160"/>
                <a:ext cx="766440" cy="1732680"/>
              </a:xfrm>
              <a:custGeom>
                <a:avLst/>
                <a:gdLst/>
                <a:ahLst/>
                <a:rect l="l" t="t" r="r" b="b"/>
                <a:pathLst>
                  <a:path w="476" h="1055">
                    <a:moveTo>
                      <a:pt x="117" y="409"/>
                    </a:moveTo>
                    <a:lnTo>
                      <a:pt x="125" y="425"/>
                    </a:lnTo>
                    <a:lnTo>
                      <a:pt x="133" y="436"/>
                    </a:lnTo>
                    <a:lnTo>
                      <a:pt x="140" y="446"/>
                    </a:lnTo>
                    <a:lnTo>
                      <a:pt x="150" y="458"/>
                    </a:lnTo>
                    <a:lnTo>
                      <a:pt x="158" y="468"/>
                    </a:lnTo>
                    <a:lnTo>
                      <a:pt x="166" y="474"/>
                    </a:lnTo>
                    <a:lnTo>
                      <a:pt x="173" y="482"/>
                    </a:lnTo>
                    <a:lnTo>
                      <a:pt x="169" y="458"/>
                    </a:lnTo>
                    <a:lnTo>
                      <a:pt x="165" y="435"/>
                    </a:lnTo>
                    <a:lnTo>
                      <a:pt x="160" y="406"/>
                    </a:lnTo>
                    <a:lnTo>
                      <a:pt x="155" y="379"/>
                    </a:lnTo>
                    <a:lnTo>
                      <a:pt x="151" y="352"/>
                    </a:lnTo>
                    <a:lnTo>
                      <a:pt x="146" y="324"/>
                    </a:lnTo>
                    <a:lnTo>
                      <a:pt x="139" y="295"/>
                    </a:lnTo>
                    <a:lnTo>
                      <a:pt x="131" y="264"/>
                    </a:lnTo>
                    <a:lnTo>
                      <a:pt x="124" y="237"/>
                    </a:lnTo>
                    <a:lnTo>
                      <a:pt x="115" y="202"/>
                    </a:lnTo>
                    <a:lnTo>
                      <a:pt x="109" y="178"/>
                    </a:lnTo>
                    <a:lnTo>
                      <a:pt x="99" y="158"/>
                    </a:lnTo>
                    <a:lnTo>
                      <a:pt x="92" y="137"/>
                    </a:lnTo>
                    <a:lnTo>
                      <a:pt x="81" y="120"/>
                    </a:lnTo>
                    <a:lnTo>
                      <a:pt x="72" y="107"/>
                    </a:lnTo>
                    <a:lnTo>
                      <a:pt x="63" y="99"/>
                    </a:lnTo>
                    <a:lnTo>
                      <a:pt x="57" y="94"/>
                    </a:lnTo>
                    <a:lnTo>
                      <a:pt x="64" y="91"/>
                    </a:lnTo>
                    <a:lnTo>
                      <a:pt x="68" y="93"/>
                    </a:lnTo>
                    <a:lnTo>
                      <a:pt x="76" y="96"/>
                    </a:lnTo>
                    <a:lnTo>
                      <a:pt x="83" y="110"/>
                    </a:lnTo>
                    <a:lnTo>
                      <a:pt x="93" y="128"/>
                    </a:lnTo>
                    <a:lnTo>
                      <a:pt x="101" y="142"/>
                    </a:lnTo>
                    <a:lnTo>
                      <a:pt x="107" y="159"/>
                    </a:lnTo>
                    <a:lnTo>
                      <a:pt x="116" y="183"/>
                    </a:lnTo>
                    <a:lnTo>
                      <a:pt x="125" y="212"/>
                    </a:lnTo>
                    <a:lnTo>
                      <a:pt x="133" y="237"/>
                    </a:lnTo>
                    <a:lnTo>
                      <a:pt x="141" y="265"/>
                    </a:lnTo>
                    <a:lnTo>
                      <a:pt x="149" y="286"/>
                    </a:lnTo>
                    <a:lnTo>
                      <a:pt x="158" y="308"/>
                    </a:lnTo>
                    <a:lnTo>
                      <a:pt x="164" y="332"/>
                    </a:lnTo>
                    <a:lnTo>
                      <a:pt x="169" y="356"/>
                    </a:lnTo>
                    <a:lnTo>
                      <a:pt x="175" y="382"/>
                    </a:lnTo>
                    <a:lnTo>
                      <a:pt x="181" y="406"/>
                    </a:lnTo>
                    <a:lnTo>
                      <a:pt x="186" y="428"/>
                    </a:lnTo>
                    <a:lnTo>
                      <a:pt x="191" y="455"/>
                    </a:lnTo>
                    <a:lnTo>
                      <a:pt x="194" y="474"/>
                    </a:lnTo>
                    <a:lnTo>
                      <a:pt x="196" y="484"/>
                    </a:lnTo>
                    <a:lnTo>
                      <a:pt x="201" y="474"/>
                    </a:lnTo>
                    <a:lnTo>
                      <a:pt x="207" y="463"/>
                    </a:lnTo>
                    <a:lnTo>
                      <a:pt x="215" y="449"/>
                    </a:lnTo>
                    <a:lnTo>
                      <a:pt x="216" y="425"/>
                    </a:lnTo>
                    <a:lnTo>
                      <a:pt x="217" y="406"/>
                    </a:lnTo>
                    <a:lnTo>
                      <a:pt x="220" y="378"/>
                    </a:lnTo>
                    <a:lnTo>
                      <a:pt x="221" y="352"/>
                    </a:lnTo>
                    <a:lnTo>
                      <a:pt x="220" y="352"/>
                    </a:lnTo>
                    <a:lnTo>
                      <a:pt x="221" y="322"/>
                    </a:lnTo>
                    <a:lnTo>
                      <a:pt x="222" y="291"/>
                    </a:lnTo>
                    <a:lnTo>
                      <a:pt x="222" y="261"/>
                    </a:lnTo>
                    <a:lnTo>
                      <a:pt x="224" y="234"/>
                    </a:lnTo>
                    <a:lnTo>
                      <a:pt x="226" y="212"/>
                    </a:lnTo>
                    <a:lnTo>
                      <a:pt x="228" y="185"/>
                    </a:lnTo>
                    <a:lnTo>
                      <a:pt x="232" y="166"/>
                    </a:lnTo>
                    <a:lnTo>
                      <a:pt x="234" y="144"/>
                    </a:lnTo>
                    <a:lnTo>
                      <a:pt x="240" y="126"/>
                    </a:lnTo>
                    <a:lnTo>
                      <a:pt x="244" y="104"/>
                    </a:lnTo>
                    <a:lnTo>
                      <a:pt x="249" y="74"/>
                    </a:lnTo>
                    <a:lnTo>
                      <a:pt x="254" y="47"/>
                    </a:lnTo>
                    <a:lnTo>
                      <a:pt x="257" y="22"/>
                    </a:lnTo>
                    <a:lnTo>
                      <a:pt x="261" y="0"/>
                    </a:lnTo>
                    <a:lnTo>
                      <a:pt x="263" y="17"/>
                    </a:lnTo>
                    <a:lnTo>
                      <a:pt x="262" y="36"/>
                    </a:lnTo>
                    <a:lnTo>
                      <a:pt x="260" y="60"/>
                    </a:lnTo>
                    <a:lnTo>
                      <a:pt x="257" y="80"/>
                    </a:lnTo>
                    <a:lnTo>
                      <a:pt x="253" y="113"/>
                    </a:lnTo>
                    <a:lnTo>
                      <a:pt x="251" y="132"/>
                    </a:lnTo>
                    <a:lnTo>
                      <a:pt x="249" y="151"/>
                    </a:lnTo>
                    <a:lnTo>
                      <a:pt x="246" y="175"/>
                    </a:lnTo>
                    <a:lnTo>
                      <a:pt x="246" y="204"/>
                    </a:lnTo>
                    <a:lnTo>
                      <a:pt x="245" y="235"/>
                    </a:lnTo>
                    <a:lnTo>
                      <a:pt x="243" y="267"/>
                    </a:lnTo>
                    <a:lnTo>
                      <a:pt x="242" y="302"/>
                    </a:lnTo>
                    <a:lnTo>
                      <a:pt x="242" y="329"/>
                    </a:lnTo>
                    <a:lnTo>
                      <a:pt x="241" y="357"/>
                    </a:lnTo>
                    <a:lnTo>
                      <a:pt x="240" y="381"/>
                    </a:lnTo>
                    <a:lnTo>
                      <a:pt x="240" y="409"/>
                    </a:lnTo>
                    <a:lnTo>
                      <a:pt x="238" y="438"/>
                    </a:lnTo>
                    <a:lnTo>
                      <a:pt x="234" y="474"/>
                    </a:lnTo>
                    <a:lnTo>
                      <a:pt x="232" y="504"/>
                    </a:lnTo>
                    <a:lnTo>
                      <a:pt x="228" y="539"/>
                    </a:lnTo>
                    <a:lnTo>
                      <a:pt x="238" y="528"/>
                    </a:lnTo>
                    <a:lnTo>
                      <a:pt x="248" y="517"/>
                    </a:lnTo>
                    <a:lnTo>
                      <a:pt x="262" y="503"/>
                    </a:lnTo>
                    <a:lnTo>
                      <a:pt x="273" y="498"/>
                    </a:lnTo>
                    <a:lnTo>
                      <a:pt x="285" y="498"/>
                    </a:lnTo>
                    <a:lnTo>
                      <a:pt x="293" y="498"/>
                    </a:lnTo>
                    <a:lnTo>
                      <a:pt x="303" y="501"/>
                    </a:lnTo>
                    <a:lnTo>
                      <a:pt x="316" y="504"/>
                    </a:lnTo>
                    <a:lnTo>
                      <a:pt x="334" y="506"/>
                    </a:lnTo>
                    <a:lnTo>
                      <a:pt x="348" y="504"/>
                    </a:lnTo>
                    <a:lnTo>
                      <a:pt x="363" y="504"/>
                    </a:lnTo>
                    <a:lnTo>
                      <a:pt x="375" y="504"/>
                    </a:lnTo>
                    <a:lnTo>
                      <a:pt x="387" y="506"/>
                    </a:lnTo>
                    <a:lnTo>
                      <a:pt x="398" y="515"/>
                    </a:lnTo>
                    <a:lnTo>
                      <a:pt x="411" y="525"/>
                    </a:lnTo>
                    <a:lnTo>
                      <a:pt x="422" y="536"/>
                    </a:lnTo>
                    <a:lnTo>
                      <a:pt x="431" y="547"/>
                    </a:lnTo>
                    <a:lnTo>
                      <a:pt x="443" y="563"/>
                    </a:lnTo>
                    <a:lnTo>
                      <a:pt x="449" y="572"/>
                    </a:lnTo>
                    <a:lnTo>
                      <a:pt x="458" y="595"/>
                    </a:lnTo>
                    <a:lnTo>
                      <a:pt x="466" y="618"/>
                    </a:lnTo>
                    <a:lnTo>
                      <a:pt x="475" y="642"/>
                    </a:lnTo>
                    <a:lnTo>
                      <a:pt x="465" y="644"/>
                    </a:lnTo>
                    <a:lnTo>
                      <a:pt x="453" y="640"/>
                    </a:lnTo>
                    <a:lnTo>
                      <a:pt x="441" y="634"/>
                    </a:lnTo>
                    <a:lnTo>
                      <a:pt x="430" y="634"/>
                    </a:lnTo>
                    <a:lnTo>
                      <a:pt x="422" y="628"/>
                    </a:lnTo>
                    <a:lnTo>
                      <a:pt x="410" y="618"/>
                    </a:lnTo>
                    <a:lnTo>
                      <a:pt x="399" y="610"/>
                    </a:lnTo>
                    <a:lnTo>
                      <a:pt x="390" y="602"/>
                    </a:lnTo>
                    <a:lnTo>
                      <a:pt x="381" y="601"/>
                    </a:lnTo>
                    <a:lnTo>
                      <a:pt x="365" y="596"/>
                    </a:lnTo>
                    <a:lnTo>
                      <a:pt x="348" y="595"/>
                    </a:lnTo>
                    <a:lnTo>
                      <a:pt x="333" y="588"/>
                    </a:lnTo>
                    <a:lnTo>
                      <a:pt x="316" y="583"/>
                    </a:lnTo>
                    <a:lnTo>
                      <a:pt x="302" y="580"/>
                    </a:lnTo>
                    <a:lnTo>
                      <a:pt x="291" y="579"/>
                    </a:lnTo>
                    <a:lnTo>
                      <a:pt x="282" y="577"/>
                    </a:lnTo>
                    <a:lnTo>
                      <a:pt x="270" y="576"/>
                    </a:lnTo>
                    <a:lnTo>
                      <a:pt x="259" y="579"/>
                    </a:lnTo>
                    <a:lnTo>
                      <a:pt x="252" y="580"/>
                    </a:lnTo>
                    <a:lnTo>
                      <a:pt x="241" y="588"/>
                    </a:lnTo>
                    <a:lnTo>
                      <a:pt x="228" y="593"/>
                    </a:lnTo>
                    <a:lnTo>
                      <a:pt x="238" y="602"/>
                    </a:lnTo>
                    <a:lnTo>
                      <a:pt x="249" y="615"/>
                    </a:lnTo>
                    <a:lnTo>
                      <a:pt x="258" y="628"/>
                    </a:lnTo>
                    <a:lnTo>
                      <a:pt x="269" y="634"/>
                    </a:lnTo>
                    <a:lnTo>
                      <a:pt x="282" y="642"/>
                    </a:lnTo>
                    <a:lnTo>
                      <a:pt x="293" y="647"/>
                    </a:lnTo>
                    <a:lnTo>
                      <a:pt x="304" y="648"/>
                    </a:lnTo>
                    <a:lnTo>
                      <a:pt x="317" y="655"/>
                    </a:lnTo>
                    <a:lnTo>
                      <a:pt x="333" y="659"/>
                    </a:lnTo>
                    <a:lnTo>
                      <a:pt x="345" y="664"/>
                    </a:lnTo>
                    <a:lnTo>
                      <a:pt x="360" y="666"/>
                    </a:lnTo>
                    <a:lnTo>
                      <a:pt x="372" y="671"/>
                    </a:lnTo>
                    <a:lnTo>
                      <a:pt x="385" y="675"/>
                    </a:lnTo>
                    <a:lnTo>
                      <a:pt x="397" y="680"/>
                    </a:lnTo>
                    <a:lnTo>
                      <a:pt x="405" y="686"/>
                    </a:lnTo>
                    <a:lnTo>
                      <a:pt x="415" y="699"/>
                    </a:lnTo>
                    <a:lnTo>
                      <a:pt x="424" y="712"/>
                    </a:lnTo>
                    <a:lnTo>
                      <a:pt x="434" y="727"/>
                    </a:lnTo>
                    <a:lnTo>
                      <a:pt x="444" y="746"/>
                    </a:lnTo>
                    <a:lnTo>
                      <a:pt x="449" y="759"/>
                    </a:lnTo>
                    <a:lnTo>
                      <a:pt x="453" y="778"/>
                    </a:lnTo>
                    <a:lnTo>
                      <a:pt x="457" y="800"/>
                    </a:lnTo>
                    <a:lnTo>
                      <a:pt x="463" y="822"/>
                    </a:lnTo>
                    <a:lnTo>
                      <a:pt x="468" y="840"/>
                    </a:lnTo>
                    <a:lnTo>
                      <a:pt x="457" y="829"/>
                    </a:lnTo>
                    <a:lnTo>
                      <a:pt x="445" y="818"/>
                    </a:lnTo>
                    <a:lnTo>
                      <a:pt x="434" y="808"/>
                    </a:lnTo>
                    <a:lnTo>
                      <a:pt x="422" y="796"/>
                    </a:lnTo>
                    <a:lnTo>
                      <a:pt x="410" y="783"/>
                    </a:lnTo>
                    <a:lnTo>
                      <a:pt x="398" y="773"/>
                    </a:lnTo>
                    <a:lnTo>
                      <a:pt x="386" y="761"/>
                    </a:lnTo>
                    <a:lnTo>
                      <a:pt x="374" y="746"/>
                    </a:lnTo>
                    <a:lnTo>
                      <a:pt x="363" y="737"/>
                    </a:lnTo>
                    <a:lnTo>
                      <a:pt x="350" y="724"/>
                    </a:lnTo>
                    <a:lnTo>
                      <a:pt x="340" y="713"/>
                    </a:lnTo>
                    <a:lnTo>
                      <a:pt x="328" y="702"/>
                    </a:lnTo>
                    <a:lnTo>
                      <a:pt x="316" y="693"/>
                    </a:lnTo>
                    <a:lnTo>
                      <a:pt x="304" y="683"/>
                    </a:lnTo>
                    <a:lnTo>
                      <a:pt x="293" y="674"/>
                    </a:lnTo>
                    <a:lnTo>
                      <a:pt x="284" y="671"/>
                    </a:lnTo>
                    <a:lnTo>
                      <a:pt x="275" y="663"/>
                    </a:lnTo>
                    <a:lnTo>
                      <a:pt x="264" y="655"/>
                    </a:lnTo>
                    <a:lnTo>
                      <a:pt x="256" y="647"/>
                    </a:lnTo>
                    <a:lnTo>
                      <a:pt x="249" y="650"/>
                    </a:lnTo>
                    <a:lnTo>
                      <a:pt x="240" y="653"/>
                    </a:lnTo>
                    <a:lnTo>
                      <a:pt x="234" y="653"/>
                    </a:lnTo>
                    <a:lnTo>
                      <a:pt x="226" y="648"/>
                    </a:lnTo>
                    <a:lnTo>
                      <a:pt x="225" y="671"/>
                    </a:lnTo>
                    <a:lnTo>
                      <a:pt x="222" y="697"/>
                    </a:lnTo>
                    <a:lnTo>
                      <a:pt x="228" y="720"/>
                    </a:lnTo>
                    <a:lnTo>
                      <a:pt x="233" y="743"/>
                    </a:lnTo>
                    <a:lnTo>
                      <a:pt x="238" y="765"/>
                    </a:lnTo>
                    <a:lnTo>
                      <a:pt x="242" y="792"/>
                    </a:lnTo>
                    <a:lnTo>
                      <a:pt x="246" y="819"/>
                    </a:lnTo>
                    <a:lnTo>
                      <a:pt x="253" y="854"/>
                    </a:lnTo>
                    <a:lnTo>
                      <a:pt x="255" y="881"/>
                    </a:lnTo>
                    <a:lnTo>
                      <a:pt x="259" y="908"/>
                    </a:lnTo>
                    <a:lnTo>
                      <a:pt x="262" y="933"/>
                    </a:lnTo>
                    <a:lnTo>
                      <a:pt x="266" y="966"/>
                    </a:lnTo>
                    <a:lnTo>
                      <a:pt x="270" y="1003"/>
                    </a:lnTo>
                    <a:lnTo>
                      <a:pt x="274" y="1054"/>
                    </a:lnTo>
                    <a:lnTo>
                      <a:pt x="239" y="1054"/>
                    </a:lnTo>
                    <a:lnTo>
                      <a:pt x="234" y="1011"/>
                    </a:lnTo>
                    <a:lnTo>
                      <a:pt x="232" y="979"/>
                    </a:lnTo>
                    <a:lnTo>
                      <a:pt x="227" y="940"/>
                    </a:lnTo>
                    <a:lnTo>
                      <a:pt x="223" y="902"/>
                    </a:lnTo>
                    <a:lnTo>
                      <a:pt x="219" y="872"/>
                    </a:lnTo>
                    <a:lnTo>
                      <a:pt x="216" y="843"/>
                    </a:lnTo>
                    <a:lnTo>
                      <a:pt x="212" y="819"/>
                    </a:lnTo>
                    <a:lnTo>
                      <a:pt x="206" y="789"/>
                    </a:lnTo>
                    <a:lnTo>
                      <a:pt x="200" y="761"/>
                    </a:lnTo>
                    <a:lnTo>
                      <a:pt x="196" y="737"/>
                    </a:lnTo>
                    <a:lnTo>
                      <a:pt x="191" y="729"/>
                    </a:lnTo>
                    <a:lnTo>
                      <a:pt x="184" y="724"/>
                    </a:lnTo>
                    <a:lnTo>
                      <a:pt x="179" y="718"/>
                    </a:lnTo>
                    <a:lnTo>
                      <a:pt x="176" y="721"/>
                    </a:lnTo>
                    <a:lnTo>
                      <a:pt x="170" y="737"/>
                    </a:lnTo>
                    <a:lnTo>
                      <a:pt x="160" y="758"/>
                    </a:lnTo>
                    <a:lnTo>
                      <a:pt x="152" y="777"/>
                    </a:lnTo>
                    <a:lnTo>
                      <a:pt x="146" y="792"/>
                    </a:lnTo>
                    <a:lnTo>
                      <a:pt x="139" y="815"/>
                    </a:lnTo>
                    <a:lnTo>
                      <a:pt x="133" y="829"/>
                    </a:lnTo>
                    <a:lnTo>
                      <a:pt x="125" y="851"/>
                    </a:lnTo>
                    <a:lnTo>
                      <a:pt x="117" y="875"/>
                    </a:lnTo>
                    <a:lnTo>
                      <a:pt x="111" y="898"/>
                    </a:lnTo>
                    <a:lnTo>
                      <a:pt x="105" y="924"/>
                    </a:lnTo>
                    <a:lnTo>
                      <a:pt x="97" y="952"/>
                    </a:lnTo>
                    <a:lnTo>
                      <a:pt x="90" y="985"/>
                    </a:lnTo>
                    <a:lnTo>
                      <a:pt x="81" y="1017"/>
                    </a:lnTo>
                    <a:lnTo>
                      <a:pt x="84" y="978"/>
                    </a:lnTo>
                    <a:lnTo>
                      <a:pt x="86" y="951"/>
                    </a:lnTo>
                    <a:lnTo>
                      <a:pt x="88" y="921"/>
                    </a:lnTo>
                    <a:lnTo>
                      <a:pt x="91" y="902"/>
                    </a:lnTo>
                    <a:lnTo>
                      <a:pt x="93" y="887"/>
                    </a:lnTo>
                    <a:lnTo>
                      <a:pt x="99" y="862"/>
                    </a:lnTo>
                    <a:lnTo>
                      <a:pt x="105" y="835"/>
                    </a:lnTo>
                    <a:lnTo>
                      <a:pt x="108" y="816"/>
                    </a:lnTo>
                    <a:lnTo>
                      <a:pt x="117" y="792"/>
                    </a:lnTo>
                    <a:lnTo>
                      <a:pt x="126" y="770"/>
                    </a:lnTo>
                    <a:lnTo>
                      <a:pt x="134" y="743"/>
                    </a:lnTo>
                    <a:lnTo>
                      <a:pt x="142" y="718"/>
                    </a:lnTo>
                    <a:lnTo>
                      <a:pt x="149" y="704"/>
                    </a:lnTo>
                    <a:lnTo>
                      <a:pt x="157" y="691"/>
                    </a:lnTo>
                    <a:lnTo>
                      <a:pt x="166" y="674"/>
                    </a:lnTo>
                    <a:lnTo>
                      <a:pt x="175" y="656"/>
                    </a:lnTo>
                    <a:lnTo>
                      <a:pt x="183" y="640"/>
                    </a:lnTo>
                    <a:lnTo>
                      <a:pt x="192" y="618"/>
                    </a:lnTo>
                    <a:lnTo>
                      <a:pt x="188" y="612"/>
                    </a:lnTo>
                    <a:lnTo>
                      <a:pt x="181" y="601"/>
                    </a:lnTo>
                    <a:lnTo>
                      <a:pt x="175" y="595"/>
                    </a:lnTo>
                    <a:lnTo>
                      <a:pt x="170" y="598"/>
                    </a:lnTo>
                    <a:lnTo>
                      <a:pt x="159" y="612"/>
                    </a:lnTo>
                    <a:lnTo>
                      <a:pt x="150" y="626"/>
                    </a:lnTo>
                    <a:lnTo>
                      <a:pt x="141" y="640"/>
                    </a:lnTo>
                    <a:lnTo>
                      <a:pt x="133" y="656"/>
                    </a:lnTo>
                    <a:lnTo>
                      <a:pt x="123" y="682"/>
                    </a:lnTo>
                    <a:lnTo>
                      <a:pt x="111" y="705"/>
                    </a:lnTo>
                    <a:lnTo>
                      <a:pt x="102" y="723"/>
                    </a:lnTo>
                    <a:lnTo>
                      <a:pt x="95" y="739"/>
                    </a:lnTo>
                    <a:lnTo>
                      <a:pt x="86" y="758"/>
                    </a:lnTo>
                    <a:lnTo>
                      <a:pt x="76" y="781"/>
                    </a:lnTo>
                    <a:lnTo>
                      <a:pt x="70" y="803"/>
                    </a:lnTo>
                    <a:lnTo>
                      <a:pt x="60" y="829"/>
                    </a:lnTo>
                    <a:lnTo>
                      <a:pt x="52" y="851"/>
                    </a:lnTo>
                    <a:lnTo>
                      <a:pt x="44" y="878"/>
                    </a:lnTo>
                    <a:lnTo>
                      <a:pt x="33" y="908"/>
                    </a:lnTo>
                    <a:lnTo>
                      <a:pt x="38" y="868"/>
                    </a:lnTo>
                    <a:lnTo>
                      <a:pt x="41" y="840"/>
                    </a:lnTo>
                    <a:lnTo>
                      <a:pt x="45" y="816"/>
                    </a:lnTo>
                    <a:lnTo>
                      <a:pt x="46" y="808"/>
                    </a:lnTo>
                    <a:lnTo>
                      <a:pt x="52" y="796"/>
                    </a:lnTo>
                    <a:lnTo>
                      <a:pt x="59" y="778"/>
                    </a:lnTo>
                    <a:lnTo>
                      <a:pt x="68" y="762"/>
                    </a:lnTo>
                    <a:lnTo>
                      <a:pt x="77" y="742"/>
                    </a:lnTo>
                    <a:lnTo>
                      <a:pt x="86" y="724"/>
                    </a:lnTo>
                    <a:lnTo>
                      <a:pt x="99" y="702"/>
                    </a:lnTo>
                    <a:lnTo>
                      <a:pt x="106" y="686"/>
                    </a:lnTo>
                    <a:lnTo>
                      <a:pt x="117" y="667"/>
                    </a:lnTo>
                    <a:lnTo>
                      <a:pt x="130" y="648"/>
                    </a:lnTo>
                    <a:lnTo>
                      <a:pt x="140" y="633"/>
                    </a:lnTo>
                    <a:lnTo>
                      <a:pt x="152" y="617"/>
                    </a:lnTo>
                    <a:lnTo>
                      <a:pt x="170" y="595"/>
                    </a:lnTo>
                    <a:lnTo>
                      <a:pt x="179" y="588"/>
                    </a:lnTo>
                    <a:lnTo>
                      <a:pt x="184" y="582"/>
                    </a:lnTo>
                    <a:lnTo>
                      <a:pt x="175" y="571"/>
                    </a:lnTo>
                    <a:lnTo>
                      <a:pt x="165" y="555"/>
                    </a:lnTo>
                    <a:lnTo>
                      <a:pt x="154" y="538"/>
                    </a:lnTo>
                    <a:lnTo>
                      <a:pt x="145" y="523"/>
                    </a:lnTo>
                    <a:lnTo>
                      <a:pt x="134" y="511"/>
                    </a:lnTo>
                    <a:lnTo>
                      <a:pt x="126" y="498"/>
                    </a:lnTo>
                    <a:lnTo>
                      <a:pt x="118" y="482"/>
                    </a:lnTo>
                    <a:lnTo>
                      <a:pt x="106" y="462"/>
                    </a:lnTo>
                    <a:lnTo>
                      <a:pt x="96" y="443"/>
                    </a:lnTo>
                    <a:lnTo>
                      <a:pt x="84" y="420"/>
                    </a:lnTo>
                    <a:lnTo>
                      <a:pt x="71" y="400"/>
                    </a:lnTo>
                    <a:lnTo>
                      <a:pt x="61" y="386"/>
                    </a:lnTo>
                    <a:lnTo>
                      <a:pt x="48" y="367"/>
                    </a:lnTo>
                    <a:lnTo>
                      <a:pt x="41" y="354"/>
                    </a:lnTo>
                    <a:lnTo>
                      <a:pt x="32" y="333"/>
                    </a:lnTo>
                    <a:lnTo>
                      <a:pt x="26" y="318"/>
                    </a:lnTo>
                    <a:lnTo>
                      <a:pt x="18" y="305"/>
                    </a:lnTo>
                    <a:lnTo>
                      <a:pt x="8" y="289"/>
                    </a:lnTo>
                    <a:lnTo>
                      <a:pt x="0" y="276"/>
                    </a:lnTo>
                    <a:lnTo>
                      <a:pt x="6" y="278"/>
                    </a:lnTo>
                    <a:lnTo>
                      <a:pt x="17" y="283"/>
                    </a:lnTo>
                    <a:lnTo>
                      <a:pt x="27" y="288"/>
                    </a:lnTo>
                    <a:lnTo>
                      <a:pt x="36" y="295"/>
                    </a:lnTo>
                    <a:lnTo>
                      <a:pt x="46" y="308"/>
                    </a:lnTo>
                    <a:lnTo>
                      <a:pt x="58" y="326"/>
                    </a:lnTo>
                    <a:lnTo>
                      <a:pt x="70" y="340"/>
                    </a:lnTo>
                    <a:lnTo>
                      <a:pt x="82" y="354"/>
                    </a:lnTo>
                    <a:lnTo>
                      <a:pt x="93" y="373"/>
                    </a:lnTo>
                    <a:lnTo>
                      <a:pt x="106" y="394"/>
                    </a:lnTo>
                    <a:lnTo>
                      <a:pt x="117" y="4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6402240" y="7413480"/>
              <a:ext cx="1490400" cy="3807360"/>
              <a:chOff x="6402240" y="7413480"/>
              <a:chExt cx="1490400" cy="38073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7163640" y="7413480"/>
                <a:ext cx="729000" cy="3751560"/>
                <a:chOff x="7163640" y="7413480"/>
                <a:chExt cx="729000" cy="375156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7598160" y="8206920"/>
                  <a:ext cx="263880" cy="2958120"/>
                </a:xfrm>
                <a:custGeom>
                  <a:avLst/>
                  <a:gdLst/>
                  <a:ahLst/>
                  <a:rect l="l" t="t" r="r" b="b"/>
                  <a:pathLst>
                    <a:path w="164" h="1801">
                      <a:moveTo>
                        <a:pt x="163" y="837"/>
                      </a:moveTo>
                      <a:lnTo>
                        <a:pt x="149" y="1203"/>
                      </a:lnTo>
                      <a:lnTo>
                        <a:pt x="135" y="1497"/>
                      </a:lnTo>
                      <a:lnTo>
                        <a:pt x="126" y="1714"/>
                      </a:lnTo>
                      <a:lnTo>
                        <a:pt x="128" y="1800"/>
                      </a:lnTo>
                      <a:lnTo>
                        <a:pt x="108" y="1800"/>
                      </a:lnTo>
                      <a:lnTo>
                        <a:pt x="102" y="1674"/>
                      </a:lnTo>
                      <a:lnTo>
                        <a:pt x="99" y="1483"/>
                      </a:lnTo>
                      <a:lnTo>
                        <a:pt x="92" y="1304"/>
                      </a:lnTo>
                      <a:lnTo>
                        <a:pt x="89" y="1171"/>
                      </a:lnTo>
                      <a:lnTo>
                        <a:pt x="81" y="976"/>
                      </a:lnTo>
                      <a:lnTo>
                        <a:pt x="72" y="807"/>
                      </a:lnTo>
                      <a:lnTo>
                        <a:pt x="64" y="660"/>
                      </a:lnTo>
                      <a:lnTo>
                        <a:pt x="56" y="500"/>
                      </a:lnTo>
                      <a:lnTo>
                        <a:pt x="44" y="343"/>
                      </a:lnTo>
                      <a:lnTo>
                        <a:pt x="30" y="210"/>
                      </a:lnTo>
                      <a:lnTo>
                        <a:pt x="7" y="80"/>
                      </a:lnTo>
                      <a:lnTo>
                        <a:pt x="0" y="30"/>
                      </a:lnTo>
                      <a:lnTo>
                        <a:pt x="9" y="0"/>
                      </a:lnTo>
                      <a:lnTo>
                        <a:pt x="24" y="52"/>
                      </a:lnTo>
                      <a:lnTo>
                        <a:pt x="44" y="172"/>
                      </a:lnTo>
                      <a:lnTo>
                        <a:pt x="60" y="296"/>
                      </a:lnTo>
                      <a:lnTo>
                        <a:pt x="72" y="424"/>
                      </a:lnTo>
                      <a:lnTo>
                        <a:pt x="79" y="588"/>
                      </a:lnTo>
                      <a:lnTo>
                        <a:pt x="87" y="744"/>
                      </a:lnTo>
                      <a:lnTo>
                        <a:pt x="98" y="954"/>
                      </a:lnTo>
                      <a:lnTo>
                        <a:pt x="107" y="1127"/>
                      </a:lnTo>
                      <a:lnTo>
                        <a:pt x="110" y="1264"/>
                      </a:lnTo>
                      <a:lnTo>
                        <a:pt x="114" y="1407"/>
                      </a:lnTo>
                      <a:lnTo>
                        <a:pt x="121" y="1554"/>
                      </a:lnTo>
                      <a:lnTo>
                        <a:pt x="132" y="1301"/>
                      </a:lnTo>
                      <a:lnTo>
                        <a:pt x="144" y="1063"/>
                      </a:lnTo>
                      <a:lnTo>
                        <a:pt x="163" y="837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163640" y="7413480"/>
                  <a:ext cx="729000" cy="2158560"/>
                </a:xfrm>
                <a:custGeom>
                  <a:avLst/>
                  <a:gdLst/>
                  <a:ahLst/>
                  <a:rect l="l" t="t" r="r" b="b"/>
                  <a:pathLst>
                    <a:path w="453" h="1314">
                      <a:moveTo>
                        <a:pt x="272" y="308"/>
                      </a:moveTo>
                      <a:lnTo>
                        <a:pt x="264" y="248"/>
                      </a:lnTo>
                      <a:lnTo>
                        <a:pt x="251" y="191"/>
                      </a:lnTo>
                      <a:lnTo>
                        <a:pt x="234" y="126"/>
                      </a:lnTo>
                      <a:lnTo>
                        <a:pt x="216" y="77"/>
                      </a:lnTo>
                      <a:lnTo>
                        <a:pt x="194" y="36"/>
                      </a:lnTo>
                      <a:lnTo>
                        <a:pt x="165" y="14"/>
                      </a:lnTo>
                      <a:lnTo>
                        <a:pt x="127" y="1"/>
                      </a:lnTo>
                      <a:lnTo>
                        <a:pt x="101" y="3"/>
                      </a:lnTo>
                      <a:lnTo>
                        <a:pt x="72" y="0"/>
                      </a:lnTo>
                      <a:lnTo>
                        <a:pt x="91" y="31"/>
                      </a:lnTo>
                      <a:lnTo>
                        <a:pt x="107" y="36"/>
                      </a:lnTo>
                      <a:lnTo>
                        <a:pt x="129" y="53"/>
                      </a:lnTo>
                      <a:lnTo>
                        <a:pt x="148" y="71"/>
                      </a:lnTo>
                      <a:lnTo>
                        <a:pt x="178" y="110"/>
                      </a:lnTo>
                      <a:lnTo>
                        <a:pt x="202" y="164"/>
                      </a:lnTo>
                      <a:lnTo>
                        <a:pt x="217" y="232"/>
                      </a:lnTo>
                      <a:lnTo>
                        <a:pt x="240" y="378"/>
                      </a:lnTo>
                      <a:lnTo>
                        <a:pt x="178" y="281"/>
                      </a:lnTo>
                      <a:lnTo>
                        <a:pt x="158" y="258"/>
                      </a:lnTo>
                      <a:lnTo>
                        <a:pt x="135" y="240"/>
                      </a:lnTo>
                      <a:lnTo>
                        <a:pt x="113" y="234"/>
                      </a:lnTo>
                      <a:lnTo>
                        <a:pt x="100" y="226"/>
                      </a:lnTo>
                      <a:lnTo>
                        <a:pt x="60" y="213"/>
                      </a:lnTo>
                      <a:lnTo>
                        <a:pt x="0" y="204"/>
                      </a:lnTo>
                      <a:lnTo>
                        <a:pt x="0" y="293"/>
                      </a:lnTo>
                      <a:lnTo>
                        <a:pt x="13" y="293"/>
                      </a:lnTo>
                      <a:lnTo>
                        <a:pt x="32" y="296"/>
                      </a:lnTo>
                      <a:lnTo>
                        <a:pt x="54" y="291"/>
                      </a:lnTo>
                      <a:lnTo>
                        <a:pt x="70" y="293"/>
                      </a:lnTo>
                      <a:lnTo>
                        <a:pt x="116" y="302"/>
                      </a:lnTo>
                      <a:lnTo>
                        <a:pt x="134" y="313"/>
                      </a:lnTo>
                      <a:lnTo>
                        <a:pt x="200" y="365"/>
                      </a:lnTo>
                      <a:lnTo>
                        <a:pt x="234" y="407"/>
                      </a:lnTo>
                      <a:lnTo>
                        <a:pt x="210" y="413"/>
                      </a:lnTo>
                      <a:lnTo>
                        <a:pt x="192" y="414"/>
                      </a:lnTo>
                      <a:lnTo>
                        <a:pt x="165" y="456"/>
                      </a:lnTo>
                      <a:lnTo>
                        <a:pt x="152" y="519"/>
                      </a:lnTo>
                      <a:lnTo>
                        <a:pt x="170" y="483"/>
                      </a:lnTo>
                      <a:lnTo>
                        <a:pt x="222" y="440"/>
                      </a:lnTo>
                      <a:lnTo>
                        <a:pt x="253" y="459"/>
                      </a:lnTo>
                      <a:lnTo>
                        <a:pt x="233" y="481"/>
                      </a:lnTo>
                      <a:lnTo>
                        <a:pt x="208" y="483"/>
                      </a:lnTo>
                      <a:lnTo>
                        <a:pt x="146" y="533"/>
                      </a:lnTo>
                      <a:lnTo>
                        <a:pt x="127" y="546"/>
                      </a:lnTo>
                      <a:lnTo>
                        <a:pt x="106" y="563"/>
                      </a:lnTo>
                      <a:lnTo>
                        <a:pt x="88" y="592"/>
                      </a:lnTo>
                      <a:lnTo>
                        <a:pt x="70" y="660"/>
                      </a:lnTo>
                      <a:lnTo>
                        <a:pt x="58" y="711"/>
                      </a:lnTo>
                      <a:lnTo>
                        <a:pt x="24" y="875"/>
                      </a:lnTo>
                      <a:lnTo>
                        <a:pt x="12" y="920"/>
                      </a:lnTo>
                      <a:lnTo>
                        <a:pt x="67" y="795"/>
                      </a:lnTo>
                      <a:lnTo>
                        <a:pt x="93" y="749"/>
                      </a:lnTo>
                      <a:lnTo>
                        <a:pt x="134" y="654"/>
                      </a:lnTo>
                      <a:lnTo>
                        <a:pt x="153" y="617"/>
                      </a:lnTo>
                      <a:lnTo>
                        <a:pt x="170" y="592"/>
                      </a:lnTo>
                      <a:lnTo>
                        <a:pt x="218" y="548"/>
                      </a:lnTo>
                      <a:lnTo>
                        <a:pt x="245" y="511"/>
                      </a:lnTo>
                      <a:lnTo>
                        <a:pt x="224" y="551"/>
                      </a:lnTo>
                      <a:lnTo>
                        <a:pt x="175" y="761"/>
                      </a:lnTo>
                      <a:lnTo>
                        <a:pt x="155" y="853"/>
                      </a:lnTo>
                      <a:lnTo>
                        <a:pt x="146" y="905"/>
                      </a:lnTo>
                      <a:lnTo>
                        <a:pt x="141" y="956"/>
                      </a:lnTo>
                      <a:lnTo>
                        <a:pt x="138" y="1015"/>
                      </a:lnTo>
                      <a:lnTo>
                        <a:pt x="137" y="1061"/>
                      </a:lnTo>
                      <a:lnTo>
                        <a:pt x="132" y="1153"/>
                      </a:lnTo>
                      <a:lnTo>
                        <a:pt x="155" y="1061"/>
                      </a:lnTo>
                      <a:lnTo>
                        <a:pt x="170" y="934"/>
                      </a:lnTo>
                      <a:lnTo>
                        <a:pt x="181" y="856"/>
                      </a:lnTo>
                      <a:lnTo>
                        <a:pt x="192" y="807"/>
                      </a:lnTo>
                      <a:lnTo>
                        <a:pt x="217" y="714"/>
                      </a:lnTo>
                      <a:lnTo>
                        <a:pt x="228" y="668"/>
                      </a:lnTo>
                      <a:lnTo>
                        <a:pt x="237" y="611"/>
                      </a:lnTo>
                      <a:lnTo>
                        <a:pt x="253" y="532"/>
                      </a:lnTo>
                      <a:lnTo>
                        <a:pt x="232" y="606"/>
                      </a:lnTo>
                      <a:lnTo>
                        <a:pt x="220" y="688"/>
                      </a:lnTo>
                      <a:lnTo>
                        <a:pt x="216" y="853"/>
                      </a:lnTo>
                      <a:lnTo>
                        <a:pt x="217" y="913"/>
                      </a:lnTo>
                      <a:lnTo>
                        <a:pt x="223" y="1023"/>
                      </a:lnTo>
                      <a:lnTo>
                        <a:pt x="228" y="1065"/>
                      </a:lnTo>
                      <a:lnTo>
                        <a:pt x="256" y="1241"/>
                      </a:lnTo>
                      <a:lnTo>
                        <a:pt x="260" y="1313"/>
                      </a:lnTo>
                      <a:lnTo>
                        <a:pt x="252" y="1070"/>
                      </a:lnTo>
                      <a:lnTo>
                        <a:pt x="236" y="885"/>
                      </a:lnTo>
                      <a:lnTo>
                        <a:pt x="234" y="822"/>
                      </a:lnTo>
                      <a:lnTo>
                        <a:pt x="232" y="674"/>
                      </a:lnTo>
                      <a:lnTo>
                        <a:pt x="234" y="630"/>
                      </a:lnTo>
                      <a:lnTo>
                        <a:pt x="246" y="555"/>
                      </a:lnTo>
                      <a:lnTo>
                        <a:pt x="256" y="506"/>
                      </a:lnTo>
                      <a:lnTo>
                        <a:pt x="272" y="535"/>
                      </a:lnTo>
                      <a:lnTo>
                        <a:pt x="298" y="600"/>
                      </a:lnTo>
                      <a:lnTo>
                        <a:pt x="328" y="733"/>
                      </a:lnTo>
                      <a:lnTo>
                        <a:pt x="347" y="842"/>
                      </a:lnTo>
                      <a:lnTo>
                        <a:pt x="363" y="940"/>
                      </a:lnTo>
                      <a:lnTo>
                        <a:pt x="393" y="1086"/>
                      </a:lnTo>
                      <a:lnTo>
                        <a:pt x="412" y="1162"/>
                      </a:lnTo>
                      <a:lnTo>
                        <a:pt x="428" y="1211"/>
                      </a:lnTo>
                      <a:lnTo>
                        <a:pt x="422" y="1140"/>
                      </a:lnTo>
                      <a:lnTo>
                        <a:pt x="357" y="825"/>
                      </a:lnTo>
                      <a:lnTo>
                        <a:pt x="316" y="657"/>
                      </a:lnTo>
                      <a:lnTo>
                        <a:pt x="305" y="593"/>
                      </a:lnTo>
                      <a:lnTo>
                        <a:pt x="296" y="536"/>
                      </a:lnTo>
                      <a:lnTo>
                        <a:pt x="266" y="424"/>
                      </a:lnTo>
                      <a:lnTo>
                        <a:pt x="271" y="373"/>
                      </a:lnTo>
                      <a:lnTo>
                        <a:pt x="303" y="343"/>
                      </a:lnTo>
                      <a:lnTo>
                        <a:pt x="318" y="354"/>
                      </a:lnTo>
                      <a:lnTo>
                        <a:pt x="338" y="357"/>
                      </a:lnTo>
                      <a:lnTo>
                        <a:pt x="358" y="369"/>
                      </a:lnTo>
                      <a:lnTo>
                        <a:pt x="441" y="386"/>
                      </a:lnTo>
                      <a:lnTo>
                        <a:pt x="436" y="384"/>
                      </a:lnTo>
                      <a:lnTo>
                        <a:pt x="443" y="353"/>
                      </a:lnTo>
                      <a:lnTo>
                        <a:pt x="446" y="353"/>
                      </a:lnTo>
                      <a:lnTo>
                        <a:pt x="425" y="346"/>
                      </a:lnTo>
                      <a:lnTo>
                        <a:pt x="399" y="346"/>
                      </a:lnTo>
                      <a:lnTo>
                        <a:pt x="367" y="359"/>
                      </a:lnTo>
                      <a:lnTo>
                        <a:pt x="332" y="381"/>
                      </a:lnTo>
                      <a:lnTo>
                        <a:pt x="302" y="407"/>
                      </a:lnTo>
                      <a:lnTo>
                        <a:pt x="278" y="422"/>
                      </a:lnTo>
                      <a:lnTo>
                        <a:pt x="311" y="364"/>
                      </a:lnTo>
                      <a:lnTo>
                        <a:pt x="358" y="308"/>
                      </a:lnTo>
                      <a:lnTo>
                        <a:pt x="407" y="285"/>
                      </a:lnTo>
                      <a:lnTo>
                        <a:pt x="429" y="283"/>
                      </a:lnTo>
                      <a:lnTo>
                        <a:pt x="451" y="286"/>
                      </a:lnTo>
                      <a:lnTo>
                        <a:pt x="442" y="286"/>
                      </a:lnTo>
                      <a:lnTo>
                        <a:pt x="452" y="242"/>
                      </a:lnTo>
                      <a:lnTo>
                        <a:pt x="423" y="248"/>
                      </a:lnTo>
                      <a:lnTo>
                        <a:pt x="391" y="275"/>
                      </a:lnTo>
                      <a:lnTo>
                        <a:pt x="356" y="313"/>
                      </a:lnTo>
                      <a:lnTo>
                        <a:pt x="301" y="391"/>
                      </a:lnTo>
                      <a:lnTo>
                        <a:pt x="276" y="421"/>
                      </a:lnTo>
                      <a:lnTo>
                        <a:pt x="290" y="323"/>
                      </a:lnTo>
                      <a:lnTo>
                        <a:pt x="318" y="281"/>
                      </a:lnTo>
                      <a:lnTo>
                        <a:pt x="351" y="240"/>
                      </a:lnTo>
                      <a:lnTo>
                        <a:pt x="396" y="191"/>
                      </a:lnTo>
                      <a:lnTo>
                        <a:pt x="418" y="174"/>
                      </a:lnTo>
                      <a:lnTo>
                        <a:pt x="391" y="161"/>
                      </a:lnTo>
                      <a:lnTo>
                        <a:pt x="369" y="191"/>
                      </a:lnTo>
                      <a:lnTo>
                        <a:pt x="347" y="232"/>
                      </a:lnTo>
                      <a:lnTo>
                        <a:pt x="329" y="262"/>
                      </a:lnTo>
                      <a:lnTo>
                        <a:pt x="300" y="326"/>
                      </a:lnTo>
                      <a:lnTo>
                        <a:pt x="272" y="30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6402240" y="8430480"/>
                <a:ext cx="1359720" cy="2790360"/>
                <a:chOff x="6402240" y="8430480"/>
                <a:chExt cx="1359720" cy="27903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6923520" y="8918280"/>
                  <a:ext cx="375120" cy="2302560"/>
                </a:xfrm>
                <a:custGeom>
                  <a:avLst/>
                  <a:gdLst/>
                  <a:ahLst/>
                  <a:rect l="l" t="t" r="r" b="b"/>
                  <a:pathLst>
                    <a:path w="233" h="1402">
                      <a:moveTo>
                        <a:pt x="232" y="651"/>
                      </a:moveTo>
                      <a:lnTo>
                        <a:pt x="212" y="936"/>
                      </a:lnTo>
                      <a:lnTo>
                        <a:pt x="192" y="1164"/>
                      </a:lnTo>
                      <a:lnTo>
                        <a:pt x="179" y="1334"/>
                      </a:lnTo>
                      <a:lnTo>
                        <a:pt x="183" y="1401"/>
                      </a:lnTo>
                      <a:lnTo>
                        <a:pt x="155" y="1401"/>
                      </a:lnTo>
                      <a:lnTo>
                        <a:pt x="145" y="1302"/>
                      </a:lnTo>
                      <a:lnTo>
                        <a:pt x="142" y="1155"/>
                      </a:lnTo>
                      <a:lnTo>
                        <a:pt x="131" y="1015"/>
                      </a:lnTo>
                      <a:lnTo>
                        <a:pt x="126" y="911"/>
                      </a:lnTo>
                      <a:lnTo>
                        <a:pt x="116" y="759"/>
                      </a:lnTo>
                      <a:lnTo>
                        <a:pt x="102" y="629"/>
                      </a:lnTo>
                      <a:lnTo>
                        <a:pt x="92" y="513"/>
                      </a:lnTo>
                      <a:lnTo>
                        <a:pt x="81" y="389"/>
                      </a:lnTo>
                      <a:lnTo>
                        <a:pt x="63" y="266"/>
                      </a:lnTo>
                      <a:lnTo>
                        <a:pt x="43" y="163"/>
                      </a:lnTo>
                      <a:lnTo>
                        <a:pt x="11" y="61"/>
                      </a:lnTo>
                      <a:lnTo>
                        <a:pt x="0" y="23"/>
                      </a:lnTo>
                      <a:lnTo>
                        <a:pt x="13" y="0"/>
                      </a:lnTo>
                      <a:lnTo>
                        <a:pt x="34" y="41"/>
                      </a:lnTo>
                      <a:lnTo>
                        <a:pt x="63" y="134"/>
                      </a:lnTo>
                      <a:lnTo>
                        <a:pt x="85" y="229"/>
                      </a:lnTo>
                      <a:lnTo>
                        <a:pt x="102" y="329"/>
                      </a:lnTo>
                      <a:lnTo>
                        <a:pt x="113" y="458"/>
                      </a:lnTo>
                      <a:lnTo>
                        <a:pt x="124" y="578"/>
                      </a:lnTo>
                      <a:lnTo>
                        <a:pt x="139" y="741"/>
                      </a:lnTo>
                      <a:lnTo>
                        <a:pt x="152" y="876"/>
                      </a:lnTo>
                      <a:lnTo>
                        <a:pt x="157" y="984"/>
                      </a:lnTo>
                      <a:lnTo>
                        <a:pt x="162" y="1095"/>
                      </a:lnTo>
                      <a:lnTo>
                        <a:pt x="173" y="1209"/>
                      </a:lnTo>
                      <a:lnTo>
                        <a:pt x="188" y="1012"/>
                      </a:lnTo>
                      <a:lnTo>
                        <a:pt x="206" y="828"/>
                      </a:lnTo>
                      <a:lnTo>
                        <a:pt x="232" y="65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036200" y="9291240"/>
                  <a:ext cx="672840" cy="1657080"/>
                </a:xfrm>
                <a:custGeom>
                  <a:avLst/>
                  <a:gdLst/>
                  <a:ahLst/>
                  <a:rect l="l" t="t" r="r" b="b"/>
                  <a:pathLst>
                    <a:path w="418" h="1009">
                      <a:moveTo>
                        <a:pt x="78" y="88"/>
                      </a:moveTo>
                      <a:lnTo>
                        <a:pt x="86" y="110"/>
                      </a:lnTo>
                      <a:lnTo>
                        <a:pt x="93" y="126"/>
                      </a:lnTo>
                      <a:lnTo>
                        <a:pt x="101" y="144"/>
                      </a:lnTo>
                      <a:lnTo>
                        <a:pt x="110" y="164"/>
                      </a:lnTo>
                      <a:lnTo>
                        <a:pt x="118" y="179"/>
                      </a:lnTo>
                      <a:lnTo>
                        <a:pt x="125" y="188"/>
                      </a:lnTo>
                      <a:lnTo>
                        <a:pt x="132" y="196"/>
                      </a:lnTo>
                      <a:lnTo>
                        <a:pt x="128" y="166"/>
                      </a:lnTo>
                      <a:lnTo>
                        <a:pt x="124" y="126"/>
                      </a:lnTo>
                      <a:lnTo>
                        <a:pt x="119" y="85"/>
                      </a:lnTo>
                      <a:lnTo>
                        <a:pt x="115" y="42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18" y="14"/>
                      </a:lnTo>
                      <a:lnTo>
                        <a:pt x="127" y="14"/>
                      </a:lnTo>
                      <a:lnTo>
                        <a:pt x="128" y="14"/>
                      </a:lnTo>
                      <a:lnTo>
                        <a:pt x="128" y="6"/>
                      </a:lnTo>
                      <a:lnTo>
                        <a:pt x="134" y="47"/>
                      </a:lnTo>
                      <a:lnTo>
                        <a:pt x="139" y="85"/>
                      </a:lnTo>
                      <a:lnTo>
                        <a:pt x="143" y="117"/>
                      </a:lnTo>
                      <a:lnTo>
                        <a:pt x="148" y="160"/>
                      </a:lnTo>
                      <a:lnTo>
                        <a:pt x="151" y="187"/>
                      </a:lnTo>
                      <a:lnTo>
                        <a:pt x="154" y="201"/>
                      </a:lnTo>
                      <a:lnTo>
                        <a:pt x="159" y="187"/>
                      </a:lnTo>
                      <a:lnTo>
                        <a:pt x="164" y="168"/>
                      </a:lnTo>
                      <a:lnTo>
                        <a:pt x="171" y="147"/>
                      </a:lnTo>
                      <a:lnTo>
                        <a:pt x="172" y="112"/>
                      </a:lnTo>
                      <a:lnTo>
                        <a:pt x="174" y="85"/>
                      </a:lnTo>
                      <a:lnTo>
                        <a:pt x="176" y="41"/>
                      </a:lnTo>
                      <a:lnTo>
                        <a:pt x="177" y="0"/>
                      </a:lnTo>
                      <a:lnTo>
                        <a:pt x="176" y="0"/>
                      </a:lnTo>
                      <a:lnTo>
                        <a:pt x="185" y="14"/>
                      </a:lnTo>
                      <a:lnTo>
                        <a:pt x="188" y="14"/>
                      </a:lnTo>
                      <a:lnTo>
                        <a:pt x="190" y="14"/>
                      </a:lnTo>
                      <a:lnTo>
                        <a:pt x="190" y="14"/>
                      </a:lnTo>
                      <a:lnTo>
                        <a:pt x="192" y="14"/>
                      </a:lnTo>
                      <a:lnTo>
                        <a:pt x="191" y="14"/>
                      </a:lnTo>
                      <a:lnTo>
                        <a:pt x="188" y="14"/>
                      </a:lnTo>
                      <a:lnTo>
                        <a:pt x="189" y="14"/>
                      </a:lnTo>
                      <a:lnTo>
                        <a:pt x="189" y="14"/>
                      </a:lnTo>
                      <a:lnTo>
                        <a:pt x="193" y="14"/>
                      </a:lnTo>
                      <a:lnTo>
                        <a:pt x="189" y="14"/>
                      </a:lnTo>
                      <a:lnTo>
                        <a:pt x="185" y="14"/>
                      </a:lnTo>
                      <a:lnTo>
                        <a:pt x="187" y="14"/>
                      </a:lnTo>
                      <a:lnTo>
                        <a:pt x="188" y="14"/>
                      </a:lnTo>
                      <a:lnTo>
                        <a:pt x="184" y="14"/>
                      </a:lnTo>
                      <a:lnTo>
                        <a:pt x="191" y="14"/>
                      </a:lnTo>
                      <a:lnTo>
                        <a:pt x="189" y="14"/>
                      </a:lnTo>
                      <a:lnTo>
                        <a:pt x="184" y="14"/>
                      </a:lnTo>
                      <a:lnTo>
                        <a:pt x="184" y="14"/>
                      </a:lnTo>
                      <a:lnTo>
                        <a:pt x="189" y="14"/>
                      </a:lnTo>
                      <a:lnTo>
                        <a:pt x="188" y="14"/>
                      </a:lnTo>
                      <a:lnTo>
                        <a:pt x="191" y="14"/>
                      </a:lnTo>
                      <a:lnTo>
                        <a:pt x="191" y="14"/>
                      </a:lnTo>
                      <a:lnTo>
                        <a:pt x="186" y="14"/>
                      </a:lnTo>
                      <a:lnTo>
                        <a:pt x="196" y="14"/>
                      </a:lnTo>
                      <a:lnTo>
                        <a:pt x="189" y="14"/>
                      </a:lnTo>
                      <a:lnTo>
                        <a:pt x="190" y="14"/>
                      </a:lnTo>
                      <a:lnTo>
                        <a:pt x="196" y="7"/>
                      </a:lnTo>
                      <a:lnTo>
                        <a:pt x="196" y="44"/>
                      </a:lnTo>
                      <a:lnTo>
                        <a:pt x="195" y="88"/>
                      </a:lnTo>
                      <a:lnTo>
                        <a:pt x="193" y="133"/>
                      </a:lnTo>
                      <a:lnTo>
                        <a:pt x="190" y="187"/>
                      </a:lnTo>
                      <a:lnTo>
                        <a:pt x="187" y="234"/>
                      </a:lnTo>
                      <a:lnTo>
                        <a:pt x="184" y="283"/>
                      </a:lnTo>
                      <a:lnTo>
                        <a:pt x="193" y="269"/>
                      </a:lnTo>
                      <a:lnTo>
                        <a:pt x="203" y="250"/>
                      </a:lnTo>
                      <a:lnTo>
                        <a:pt x="216" y="228"/>
                      </a:lnTo>
                      <a:lnTo>
                        <a:pt x="226" y="220"/>
                      </a:lnTo>
                      <a:lnTo>
                        <a:pt x="237" y="217"/>
                      </a:lnTo>
                      <a:lnTo>
                        <a:pt x="245" y="223"/>
                      </a:lnTo>
                      <a:lnTo>
                        <a:pt x="254" y="225"/>
                      </a:lnTo>
                      <a:lnTo>
                        <a:pt x="267" y="229"/>
                      </a:lnTo>
                      <a:lnTo>
                        <a:pt x="283" y="234"/>
                      </a:lnTo>
                      <a:lnTo>
                        <a:pt x="297" y="234"/>
                      </a:lnTo>
                      <a:lnTo>
                        <a:pt x="310" y="229"/>
                      </a:lnTo>
                      <a:lnTo>
                        <a:pt x="321" y="231"/>
                      </a:lnTo>
                      <a:lnTo>
                        <a:pt x="333" y="234"/>
                      </a:lnTo>
                      <a:lnTo>
                        <a:pt x="344" y="248"/>
                      </a:lnTo>
                      <a:lnTo>
                        <a:pt x="357" y="263"/>
                      </a:lnTo>
                      <a:lnTo>
                        <a:pt x="367" y="277"/>
                      </a:lnTo>
                      <a:lnTo>
                        <a:pt x="375" y="296"/>
                      </a:lnTo>
                      <a:lnTo>
                        <a:pt x="387" y="318"/>
                      </a:lnTo>
                      <a:lnTo>
                        <a:pt x="393" y="332"/>
                      </a:lnTo>
                      <a:lnTo>
                        <a:pt x="402" y="366"/>
                      </a:lnTo>
                      <a:lnTo>
                        <a:pt x="409" y="402"/>
                      </a:lnTo>
                      <a:lnTo>
                        <a:pt x="417" y="439"/>
                      </a:lnTo>
                      <a:lnTo>
                        <a:pt x="408" y="440"/>
                      </a:lnTo>
                      <a:lnTo>
                        <a:pt x="397" y="437"/>
                      </a:lnTo>
                      <a:lnTo>
                        <a:pt x="385" y="431"/>
                      </a:lnTo>
                      <a:lnTo>
                        <a:pt x="375" y="424"/>
                      </a:lnTo>
                      <a:lnTo>
                        <a:pt x="367" y="416"/>
                      </a:lnTo>
                      <a:lnTo>
                        <a:pt x="357" y="404"/>
                      </a:lnTo>
                      <a:lnTo>
                        <a:pt x="345" y="389"/>
                      </a:lnTo>
                      <a:lnTo>
                        <a:pt x="337" y="381"/>
                      </a:lnTo>
                      <a:lnTo>
                        <a:pt x="328" y="377"/>
                      </a:lnTo>
                      <a:lnTo>
                        <a:pt x="313" y="370"/>
                      </a:lnTo>
                      <a:lnTo>
                        <a:pt x="297" y="366"/>
                      </a:lnTo>
                      <a:lnTo>
                        <a:pt x="282" y="356"/>
                      </a:lnTo>
                      <a:lnTo>
                        <a:pt x="268" y="350"/>
                      </a:lnTo>
                      <a:lnTo>
                        <a:pt x="253" y="345"/>
                      </a:lnTo>
                      <a:lnTo>
                        <a:pt x="243" y="342"/>
                      </a:lnTo>
                      <a:lnTo>
                        <a:pt x="235" y="340"/>
                      </a:lnTo>
                      <a:lnTo>
                        <a:pt x="224" y="340"/>
                      </a:lnTo>
                      <a:lnTo>
                        <a:pt x="213" y="342"/>
                      </a:lnTo>
                      <a:lnTo>
                        <a:pt x="206" y="347"/>
                      </a:lnTo>
                      <a:lnTo>
                        <a:pt x="196" y="355"/>
                      </a:lnTo>
                      <a:lnTo>
                        <a:pt x="184" y="366"/>
                      </a:lnTo>
                      <a:lnTo>
                        <a:pt x="193" y="381"/>
                      </a:lnTo>
                      <a:lnTo>
                        <a:pt x="203" y="397"/>
                      </a:lnTo>
                      <a:lnTo>
                        <a:pt x="213" y="416"/>
                      </a:lnTo>
                      <a:lnTo>
                        <a:pt x="224" y="424"/>
                      </a:lnTo>
                      <a:lnTo>
                        <a:pt x="236" y="439"/>
                      </a:lnTo>
                      <a:lnTo>
                        <a:pt x="244" y="446"/>
                      </a:lnTo>
                      <a:lnTo>
                        <a:pt x="256" y="450"/>
                      </a:lnTo>
                      <a:lnTo>
                        <a:pt x="268" y="459"/>
                      </a:lnTo>
                      <a:lnTo>
                        <a:pt x="282" y="465"/>
                      </a:lnTo>
                      <a:lnTo>
                        <a:pt x="295" y="472"/>
                      </a:lnTo>
                      <a:lnTo>
                        <a:pt x="308" y="478"/>
                      </a:lnTo>
                      <a:lnTo>
                        <a:pt x="319" y="481"/>
                      </a:lnTo>
                      <a:lnTo>
                        <a:pt x="331" y="491"/>
                      </a:lnTo>
                      <a:lnTo>
                        <a:pt x="343" y="496"/>
                      </a:lnTo>
                      <a:lnTo>
                        <a:pt x="351" y="507"/>
                      </a:lnTo>
                      <a:lnTo>
                        <a:pt x="360" y="526"/>
                      </a:lnTo>
                      <a:lnTo>
                        <a:pt x="369" y="546"/>
                      </a:lnTo>
                      <a:lnTo>
                        <a:pt x="378" y="570"/>
                      </a:lnTo>
                      <a:lnTo>
                        <a:pt x="387" y="599"/>
                      </a:lnTo>
                      <a:lnTo>
                        <a:pt x="393" y="618"/>
                      </a:lnTo>
                      <a:lnTo>
                        <a:pt x="397" y="646"/>
                      </a:lnTo>
                      <a:lnTo>
                        <a:pt x="401" y="679"/>
                      </a:lnTo>
                      <a:lnTo>
                        <a:pt x="405" y="714"/>
                      </a:lnTo>
                      <a:lnTo>
                        <a:pt x="410" y="741"/>
                      </a:lnTo>
                      <a:lnTo>
                        <a:pt x="401" y="727"/>
                      </a:lnTo>
                      <a:lnTo>
                        <a:pt x="388" y="706"/>
                      </a:lnTo>
                      <a:lnTo>
                        <a:pt x="378" y="692"/>
                      </a:lnTo>
                      <a:lnTo>
                        <a:pt x="367" y="672"/>
                      </a:lnTo>
                      <a:lnTo>
                        <a:pt x="355" y="652"/>
                      </a:lnTo>
                      <a:lnTo>
                        <a:pt x="345" y="638"/>
                      </a:lnTo>
                      <a:lnTo>
                        <a:pt x="333" y="619"/>
                      </a:lnTo>
                      <a:lnTo>
                        <a:pt x="321" y="602"/>
                      </a:lnTo>
                      <a:lnTo>
                        <a:pt x="310" y="583"/>
                      </a:lnTo>
                      <a:lnTo>
                        <a:pt x="299" y="562"/>
                      </a:lnTo>
                      <a:lnTo>
                        <a:pt x="289" y="548"/>
                      </a:lnTo>
                      <a:lnTo>
                        <a:pt x="277" y="529"/>
                      </a:lnTo>
                      <a:lnTo>
                        <a:pt x="266" y="515"/>
                      </a:lnTo>
                      <a:lnTo>
                        <a:pt x="255" y="502"/>
                      </a:lnTo>
                      <a:lnTo>
                        <a:pt x="244" y="488"/>
                      </a:lnTo>
                      <a:lnTo>
                        <a:pt x="237" y="481"/>
                      </a:lnTo>
                      <a:lnTo>
                        <a:pt x="228" y="470"/>
                      </a:lnTo>
                      <a:lnTo>
                        <a:pt x="219" y="459"/>
                      </a:lnTo>
                      <a:lnTo>
                        <a:pt x="210" y="446"/>
                      </a:lnTo>
                      <a:lnTo>
                        <a:pt x="204" y="451"/>
                      </a:lnTo>
                      <a:lnTo>
                        <a:pt x="196" y="458"/>
                      </a:lnTo>
                      <a:lnTo>
                        <a:pt x="189" y="456"/>
                      </a:lnTo>
                      <a:lnTo>
                        <a:pt x="182" y="446"/>
                      </a:lnTo>
                      <a:lnTo>
                        <a:pt x="180" y="481"/>
                      </a:lnTo>
                      <a:lnTo>
                        <a:pt x="178" y="523"/>
                      </a:lnTo>
                      <a:lnTo>
                        <a:pt x="184" y="557"/>
                      </a:lnTo>
                      <a:lnTo>
                        <a:pt x="188" y="595"/>
                      </a:lnTo>
                      <a:lnTo>
                        <a:pt x="196" y="621"/>
                      </a:lnTo>
                      <a:lnTo>
                        <a:pt x="203" y="654"/>
                      </a:lnTo>
                      <a:lnTo>
                        <a:pt x="211" y="692"/>
                      </a:lnTo>
                      <a:lnTo>
                        <a:pt x="219" y="732"/>
                      </a:lnTo>
                      <a:lnTo>
                        <a:pt x="226" y="759"/>
                      </a:lnTo>
                      <a:lnTo>
                        <a:pt x="233" y="786"/>
                      </a:lnTo>
                      <a:lnTo>
                        <a:pt x="239" y="840"/>
                      </a:lnTo>
                      <a:lnTo>
                        <a:pt x="242" y="882"/>
                      </a:lnTo>
                      <a:lnTo>
                        <a:pt x="248" y="936"/>
                      </a:lnTo>
                      <a:lnTo>
                        <a:pt x="253" y="985"/>
                      </a:lnTo>
                      <a:lnTo>
                        <a:pt x="228" y="985"/>
                      </a:lnTo>
                      <a:lnTo>
                        <a:pt x="224" y="985"/>
                      </a:lnTo>
                      <a:lnTo>
                        <a:pt x="209" y="927"/>
                      </a:lnTo>
                      <a:lnTo>
                        <a:pt x="197" y="868"/>
                      </a:lnTo>
                      <a:lnTo>
                        <a:pt x="189" y="820"/>
                      </a:lnTo>
                      <a:lnTo>
                        <a:pt x="183" y="771"/>
                      </a:lnTo>
                      <a:lnTo>
                        <a:pt x="179" y="721"/>
                      </a:lnTo>
                      <a:lnTo>
                        <a:pt x="175" y="668"/>
                      </a:lnTo>
                      <a:lnTo>
                        <a:pt x="166" y="591"/>
                      </a:lnTo>
                      <a:lnTo>
                        <a:pt x="159" y="567"/>
                      </a:lnTo>
                      <a:lnTo>
                        <a:pt x="154" y="519"/>
                      </a:lnTo>
                      <a:lnTo>
                        <a:pt x="148" y="500"/>
                      </a:lnTo>
                      <a:lnTo>
                        <a:pt x="142" y="507"/>
                      </a:lnTo>
                      <a:lnTo>
                        <a:pt x="138" y="511"/>
                      </a:lnTo>
                      <a:lnTo>
                        <a:pt x="136" y="542"/>
                      </a:lnTo>
                      <a:lnTo>
                        <a:pt x="137" y="527"/>
                      </a:lnTo>
                      <a:lnTo>
                        <a:pt x="136" y="543"/>
                      </a:lnTo>
                      <a:lnTo>
                        <a:pt x="135" y="556"/>
                      </a:lnTo>
                      <a:lnTo>
                        <a:pt x="132" y="561"/>
                      </a:lnTo>
                      <a:lnTo>
                        <a:pt x="136" y="556"/>
                      </a:lnTo>
                      <a:lnTo>
                        <a:pt x="134" y="549"/>
                      </a:lnTo>
                      <a:lnTo>
                        <a:pt x="136" y="534"/>
                      </a:lnTo>
                      <a:lnTo>
                        <a:pt x="137" y="527"/>
                      </a:lnTo>
                      <a:lnTo>
                        <a:pt x="137" y="529"/>
                      </a:lnTo>
                      <a:lnTo>
                        <a:pt x="137" y="543"/>
                      </a:lnTo>
                      <a:lnTo>
                        <a:pt x="138" y="556"/>
                      </a:lnTo>
                      <a:lnTo>
                        <a:pt x="135" y="561"/>
                      </a:lnTo>
                      <a:lnTo>
                        <a:pt x="128" y="583"/>
                      </a:lnTo>
                      <a:lnTo>
                        <a:pt x="119" y="616"/>
                      </a:lnTo>
                      <a:lnTo>
                        <a:pt x="113" y="641"/>
                      </a:lnTo>
                      <a:lnTo>
                        <a:pt x="106" y="668"/>
                      </a:lnTo>
                      <a:lnTo>
                        <a:pt x="100" y="700"/>
                      </a:lnTo>
                      <a:lnTo>
                        <a:pt x="93" y="727"/>
                      </a:lnTo>
                      <a:lnTo>
                        <a:pt x="86" y="759"/>
                      </a:lnTo>
                      <a:lnTo>
                        <a:pt x="79" y="792"/>
                      </a:lnTo>
                      <a:lnTo>
                        <a:pt x="73" y="827"/>
                      </a:lnTo>
                      <a:lnTo>
                        <a:pt x="66" y="866"/>
                      </a:lnTo>
                      <a:lnTo>
                        <a:pt x="59" y="911"/>
                      </a:lnTo>
                      <a:lnTo>
                        <a:pt x="53" y="957"/>
                      </a:lnTo>
                      <a:lnTo>
                        <a:pt x="45" y="1008"/>
                      </a:lnTo>
                      <a:lnTo>
                        <a:pt x="47" y="947"/>
                      </a:lnTo>
                      <a:lnTo>
                        <a:pt x="50" y="908"/>
                      </a:lnTo>
                      <a:lnTo>
                        <a:pt x="52" y="860"/>
                      </a:lnTo>
                      <a:lnTo>
                        <a:pt x="53" y="833"/>
                      </a:lnTo>
                      <a:lnTo>
                        <a:pt x="57" y="813"/>
                      </a:lnTo>
                      <a:lnTo>
                        <a:pt x="61" y="773"/>
                      </a:lnTo>
                      <a:lnTo>
                        <a:pt x="66" y="735"/>
                      </a:lnTo>
                      <a:lnTo>
                        <a:pt x="71" y="703"/>
                      </a:lnTo>
                      <a:lnTo>
                        <a:pt x="78" y="668"/>
                      </a:lnTo>
                      <a:lnTo>
                        <a:pt x="86" y="633"/>
                      </a:lnTo>
                      <a:lnTo>
                        <a:pt x="95" y="595"/>
                      </a:lnTo>
                      <a:lnTo>
                        <a:pt x="103" y="556"/>
                      </a:lnTo>
                      <a:lnTo>
                        <a:pt x="109" y="534"/>
                      </a:lnTo>
                      <a:lnTo>
                        <a:pt x="116" y="513"/>
                      </a:lnTo>
                      <a:lnTo>
                        <a:pt x="125" y="488"/>
                      </a:lnTo>
                      <a:lnTo>
                        <a:pt x="134" y="464"/>
                      </a:lnTo>
                      <a:lnTo>
                        <a:pt x="142" y="437"/>
                      </a:lnTo>
                      <a:lnTo>
                        <a:pt x="150" y="404"/>
                      </a:lnTo>
                      <a:lnTo>
                        <a:pt x="147" y="394"/>
                      </a:lnTo>
                      <a:lnTo>
                        <a:pt x="140" y="377"/>
                      </a:lnTo>
                      <a:lnTo>
                        <a:pt x="134" y="366"/>
                      </a:lnTo>
                      <a:lnTo>
                        <a:pt x="128" y="374"/>
                      </a:lnTo>
                      <a:lnTo>
                        <a:pt x="119" y="394"/>
                      </a:lnTo>
                      <a:lnTo>
                        <a:pt x="110" y="415"/>
                      </a:lnTo>
                      <a:lnTo>
                        <a:pt x="101" y="437"/>
                      </a:lnTo>
                      <a:lnTo>
                        <a:pt x="94" y="464"/>
                      </a:lnTo>
                      <a:lnTo>
                        <a:pt x="83" y="500"/>
                      </a:lnTo>
                      <a:lnTo>
                        <a:pt x="73" y="535"/>
                      </a:lnTo>
                      <a:lnTo>
                        <a:pt x="65" y="562"/>
                      </a:lnTo>
                      <a:lnTo>
                        <a:pt x="58" y="586"/>
                      </a:lnTo>
                      <a:lnTo>
                        <a:pt x="49" y="616"/>
                      </a:lnTo>
                      <a:lnTo>
                        <a:pt x="41" y="651"/>
                      </a:lnTo>
                      <a:lnTo>
                        <a:pt x="34" y="686"/>
                      </a:lnTo>
                      <a:lnTo>
                        <a:pt x="25" y="722"/>
                      </a:lnTo>
                      <a:lnTo>
                        <a:pt x="17" y="759"/>
                      </a:lnTo>
                      <a:lnTo>
                        <a:pt x="10" y="798"/>
                      </a:lnTo>
                      <a:lnTo>
                        <a:pt x="0" y="843"/>
                      </a:lnTo>
                      <a:lnTo>
                        <a:pt x="5" y="786"/>
                      </a:lnTo>
                      <a:lnTo>
                        <a:pt x="7" y="741"/>
                      </a:lnTo>
                      <a:lnTo>
                        <a:pt x="10" y="702"/>
                      </a:lnTo>
                      <a:lnTo>
                        <a:pt x="11" y="689"/>
                      </a:lnTo>
                      <a:lnTo>
                        <a:pt x="17" y="672"/>
                      </a:lnTo>
                      <a:lnTo>
                        <a:pt x="23" y="646"/>
                      </a:lnTo>
                      <a:lnTo>
                        <a:pt x="32" y="619"/>
                      </a:lnTo>
                      <a:lnTo>
                        <a:pt x="41" y="591"/>
                      </a:lnTo>
                      <a:lnTo>
                        <a:pt x="50" y="562"/>
                      </a:lnTo>
                      <a:lnTo>
                        <a:pt x="61" y="529"/>
                      </a:lnTo>
                      <a:lnTo>
                        <a:pt x="69" y="507"/>
                      </a:lnTo>
                      <a:lnTo>
                        <a:pt x="78" y="480"/>
                      </a:lnTo>
                      <a:lnTo>
                        <a:pt x="90" y="450"/>
                      </a:lnTo>
                      <a:lnTo>
                        <a:pt x="101" y="423"/>
                      </a:lnTo>
                      <a:lnTo>
                        <a:pt x="111" y="400"/>
                      </a:lnTo>
                      <a:lnTo>
                        <a:pt x="128" y="369"/>
                      </a:lnTo>
                      <a:lnTo>
                        <a:pt x="137" y="355"/>
                      </a:lnTo>
                      <a:lnTo>
                        <a:pt x="142" y="348"/>
                      </a:lnTo>
                      <a:lnTo>
                        <a:pt x="134" y="331"/>
                      </a:lnTo>
                      <a:lnTo>
                        <a:pt x="124" y="305"/>
                      </a:lnTo>
                      <a:lnTo>
                        <a:pt x="114" y="280"/>
                      </a:lnTo>
                      <a:lnTo>
                        <a:pt x="105" y="261"/>
                      </a:lnTo>
                      <a:lnTo>
                        <a:pt x="95" y="242"/>
                      </a:lnTo>
                      <a:lnTo>
                        <a:pt x="87" y="220"/>
                      </a:lnTo>
                      <a:lnTo>
                        <a:pt x="79" y="201"/>
                      </a:lnTo>
                      <a:lnTo>
                        <a:pt x="69" y="168"/>
                      </a:lnTo>
                      <a:lnTo>
                        <a:pt x="59" y="137"/>
                      </a:lnTo>
                      <a:lnTo>
                        <a:pt x="47" y="109"/>
                      </a:lnTo>
                      <a:lnTo>
                        <a:pt x="35" y="76"/>
                      </a:lnTo>
                      <a:lnTo>
                        <a:pt x="26" y="53"/>
                      </a:lnTo>
                      <a:lnTo>
                        <a:pt x="21" y="34"/>
                      </a:lnTo>
                      <a:lnTo>
                        <a:pt x="14" y="12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49" y="14"/>
                      </a:lnTo>
                      <a:lnTo>
                        <a:pt x="49" y="14"/>
                      </a:lnTo>
                      <a:lnTo>
                        <a:pt x="49" y="14"/>
                      </a:lnTo>
                      <a:lnTo>
                        <a:pt x="49" y="14"/>
                      </a:lnTo>
                      <a:lnTo>
                        <a:pt x="49" y="14"/>
                      </a:lnTo>
                      <a:lnTo>
                        <a:pt x="57" y="30"/>
                      </a:lnTo>
                      <a:lnTo>
                        <a:pt x="69" y="63"/>
                      </a:lnTo>
                      <a:lnTo>
                        <a:pt x="78" y="8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6402240" y="8430480"/>
                  <a:ext cx="1359720" cy="1614240"/>
                  <a:chOff x="6402240" y="8430480"/>
                  <a:chExt cx="1359720" cy="161424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6530400" y="8430480"/>
                    <a:ext cx="1231560" cy="15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916">
                        <a:moveTo>
                          <a:pt x="241" y="234"/>
                        </a:moveTo>
                        <a:lnTo>
                          <a:pt x="247" y="210"/>
                        </a:lnTo>
                        <a:lnTo>
                          <a:pt x="255" y="185"/>
                        </a:lnTo>
                        <a:lnTo>
                          <a:pt x="266" y="161"/>
                        </a:lnTo>
                        <a:lnTo>
                          <a:pt x="278" y="137"/>
                        </a:lnTo>
                        <a:lnTo>
                          <a:pt x="290" y="115"/>
                        </a:lnTo>
                        <a:lnTo>
                          <a:pt x="300" y="98"/>
                        </a:lnTo>
                        <a:lnTo>
                          <a:pt x="310" y="83"/>
                        </a:lnTo>
                        <a:lnTo>
                          <a:pt x="321" y="71"/>
                        </a:lnTo>
                        <a:lnTo>
                          <a:pt x="331" y="58"/>
                        </a:lnTo>
                        <a:lnTo>
                          <a:pt x="341" y="49"/>
                        </a:lnTo>
                        <a:lnTo>
                          <a:pt x="353" y="37"/>
                        </a:lnTo>
                        <a:lnTo>
                          <a:pt x="363" y="30"/>
                        </a:lnTo>
                        <a:lnTo>
                          <a:pt x="373" y="23"/>
                        </a:lnTo>
                        <a:lnTo>
                          <a:pt x="387" y="18"/>
                        </a:lnTo>
                        <a:lnTo>
                          <a:pt x="401" y="14"/>
                        </a:lnTo>
                        <a:lnTo>
                          <a:pt x="413" y="11"/>
                        </a:lnTo>
                        <a:lnTo>
                          <a:pt x="426" y="7"/>
                        </a:lnTo>
                        <a:lnTo>
                          <a:pt x="439" y="6"/>
                        </a:lnTo>
                        <a:lnTo>
                          <a:pt x="453" y="4"/>
                        </a:lnTo>
                        <a:lnTo>
                          <a:pt x="471" y="3"/>
                        </a:lnTo>
                        <a:lnTo>
                          <a:pt x="484" y="4"/>
                        </a:lnTo>
                        <a:lnTo>
                          <a:pt x="497" y="6"/>
                        </a:lnTo>
                        <a:lnTo>
                          <a:pt x="509" y="7"/>
                        </a:lnTo>
                        <a:lnTo>
                          <a:pt x="520" y="4"/>
                        </a:lnTo>
                        <a:lnTo>
                          <a:pt x="534" y="3"/>
                        </a:lnTo>
                        <a:lnTo>
                          <a:pt x="547" y="0"/>
                        </a:lnTo>
                        <a:lnTo>
                          <a:pt x="541" y="6"/>
                        </a:lnTo>
                        <a:lnTo>
                          <a:pt x="534" y="11"/>
                        </a:lnTo>
                        <a:lnTo>
                          <a:pt x="529" y="18"/>
                        </a:lnTo>
                        <a:lnTo>
                          <a:pt x="524" y="28"/>
                        </a:lnTo>
                        <a:lnTo>
                          <a:pt x="513" y="28"/>
                        </a:lnTo>
                        <a:lnTo>
                          <a:pt x="502" y="30"/>
                        </a:lnTo>
                        <a:lnTo>
                          <a:pt x="493" y="33"/>
                        </a:lnTo>
                        <a:lnTo>
                          <a:pt x="484" y="36"/>
                        </a:lnTo>
                        <a:lnTo>
                          <a:pt x="474" y="39"/>
                        </a:lnTo>
                        <a:lnTo>
                          <a:pt x="464" y="44"/>
                        </a:lnTo>
                        <a:lnTo>
                          <a:pt x="453" y="49"/>
                        </a:lnTo>
                        <a:lnTo>
                          <a:pt x="442" y="53"/>
                        </a:lnTo>
                        <a:lnTo>
                          <a:pt x="431" y="58"/>
                        </a:lnTo>
                        <a:lnTo>
                          <a:pt x="421" y="63"/>
                        </a:lnTo>
                        <a:lnTo>
                          <a:pt x="411" y="71"/>
                        </a:lnTo>
                        <a:lnTo>
                          <a:pt x="399" y="79"/>
                        </a:lnTo>
                        <a:lnTo>
                          <a:pt x="387" y="88"/>
                        </a:lnTo>
                        <a:lnTo>
                          <a:pt x="375" y="99"/>
                        </a:lnTo>
                        <a:lnTo>
                          <a:pt x="363" y="110"/>
                        </a:lnTo>
                        <a:lnTo>
                          <a:pt x="350" y="128"/>
                        </a:lnTo>
                        <a:lnTo>
                          <a:pt x="339" y="148"/>
                        </a:lnTo>
                        <a:lnTo>
                          <a:pt x="328" y="174"/>
                        </a:lnTo>
                        <a:lnTo>
                          <a:pt x="316" y="205"/>
                        </a:lnTo>
                        <a:lnTo>
                          <a:pt x="305" y="243"/>
                        </a:lnTo>
                        <a:lnTo>
                          <a:pt x="290" y="286"/>
                        </a:lnTo>
                        <a:lnTo>
                          <a:pt x="313" y="269"/>
                        </a:lnTo>
                        <a:lnTo>
                          <a:pt x="334" y="251"/>
                        </a:lnTo>
                        <a:lnTo>
                          <a:pt x="360" y="232"/>
                        </a:lnTo>
                        <a:lnTo>
                          <a:pt x="387" y="212"/>
                        </a:lnTo>
                        <a:lnTo>
                          <a:pt x="399" y="205"/>
                        </a:lnTo>
                        <a:lnTo>
                          <a:pt x="410" y="199"/>
                        </a:lnTo>
                        <a:lnTo>
                          <a:pt x="424" y="194"/>
                        </a:lnTo>
                        <a:lnTo>
                          <a:pt x="439" y="188"/>
                        </a:lnTo>
                        <a:lnTo>
                          <a:pt x="454" y="183"/>
                        </a:lnTo>
                        <a:lnTo>
                          <a:pt x="468" y="182"/>
                        </a:lnTo>
                        <a:lnTo>
                          <a:pt x="480" y="180"/>
                        </a:lnTo>
                        <a:lnTo>
                          <a:pt x="497" y="178"/>
                        </a:lnTo>
                        <a:lnTo>
                          <a:pt x="513" y="180"/>
                        </a:lnTo>
                        <a:lnTo>
                          <a:pt x="526" y="182"/>
                        </a:lnTo>
                        <a:lnTo>
                          <a:pt x="542" y="183"/>
                        </a:lnTo>
                        <a:lnTo>
                          <a:pt x="556" y="185"/>
                        </a:lnTo>
                        <a:lnTo>
                          <a:pt x="571" y="186"/>
                        </a:lnTo>
                        <a:lnTo>
                          <a:pt x="586" y="189"/>
                        </a:lnTo>
                        <a:lnTo>
                          <a:pt x="601" y="191"/>
                        </a:lnTo>
                        <a:lnTo>
                          <a:pt x="616" y="194"/>
                        </a:lnTo>
                        <a:lnTo>
                          <a:pt x="632" y="196"/>
                        </a:lnTo>
                        <a:lnTo>
                          <a:pt x="647" y="199"/>
                        </a:lnTo>
                        <a:lnTo>
                          <a:pt x="665" y="202"/>
                        </a:lnTo>
                        <a:lnTo>
                          <a:pt x="682" y="204"/>
                        </a:lnTo>
                        <a:lnTo>
                          <a:pt x="699" y="208"/>
                        </a:lnTo>
                        <a:lnTo>
                          <a:pt x="725" y="213"/>
                        </a:lnTo>
                        <a:lnTo>
                          <a:pt x="734" y="213"/>
                        </a:lnTo>
                        <a:lnTo>
                          <a:pt x="740" y="213"/>
                        </a:lnTo>
                        <a:lnTo>
                          <a:pt x="749" y="218"/>
                        </a:lnTo>
                        <a:lnTo>
                          <a:pt x="764" y="226"/>
                        </a:lnTo>
                        <a:lnTo>
                          <a:pt x="738" y="218"/>
                        </a:lnTo>
                        <a:lnTo>
                          <a:pt x="726" y="215"/>
                        </a:lnTo>
                        <a:lnTo>
                          <a:pt x="716" y="215"/>
                        </a:lnTo>
                        <a:lnTo>
                          <a:pt x="692" y="218"/>
                        </a:lnTo>
                        <a:lnTo>
                          <a:pt x="676" y="220"/>
                        </a:lnTo>
                        <a:lnTo>
                          <a:pt x="656" y="221"/>
                        </a:lnTo>
                        <a:lnTo>
                          <a:pt x="639" y="221"/>
                        </a:lnTo>
                        <a:lnTo>
                          <a:pt x="622" y="223"/>
                        </a:lnTo>
                        <a:lnTo>
                          <a:pt x="607" y="224"/>
                        </a:lnTo>
                        <a:lnTo>
                          <a:pt x="592" y="221"/>
                        </a:lnTo>
                        <a:lnTo>
                          <a:pt x="574" y="220"/>
                        </a:lnTo>
                        <a:lnTo>
                          <a:pt x="556" y="221"/>
                        </a:lnTo>
                        <a:lnTo>
                          <a:pt x="540" y="224"/>
                        </a:lnTo>
                        <a:lnTo>
                          <a:pt x="526" y="226"/>
                        </a:lnTo>
                        <a:lnTo>
                          <a:pt x="509" y="227"/>
                        </a:lnTo>
                        <a:lnTo>
                          <a:pt x="497" y="227"/>
                        </a:lnTo>
                        <a:lnTo>
                          <a:pt x="481" y="229"/>
                        </a:lnTo>
                        <a:lnTo>
                          <a:pt x="468" y="234"/>
                        </a:lnTo>
                        <a:lnTo>
                          <a:pt x="455" y="237"/>
                        </a:lnTo>
                        <a:lnTo>
                          <a:pt x="442" y="242"/>
                        </a:lnTo>
                        <a:lnTo>
                          <a:pt x="428" y="246"/>
                        </a:lnTo>
                        <a:lnTo>
                          <a:pt x="415" y="253"/>
                        </a:lnTo>
                        <a:lnTo>
                          <a:pt x="399" y="259"/>
                        </a:lnTo>
                        <a:lnTo>
                          <a:pt x="387" y="264"/>
                        </a:lnTo>
                        <a:lnTo>
                          <a:pt x="363" y="273"/>
                        </a:lnTo>
                        <a:lnTo>
                          <a:pt x="349" y="278"/>
                        </a:lnTo>
                        <a:lnTo>
                          <a:pt x="328" y="292"/>
                        </a:lnTo>
                        <a:lnTo>
                          <a:pt x="300" y="308"/>
                        </a:lnTo>
                        <a:lnTo>
                          <a:pt x="329" y="313"/>
                        </a:lnTo>
                        <a:lnTo>
                          <a:pt x="364" y="316"/>
                        </a:lnTo>
                        <a:lnTo>
                          <a:pt x="370" y="319"/>
                        </a:lnTo>
                        <a:lnTo>
                          <a:pt x="387" y="332"/>
                        </a:lnTo>
                        <a:lnTo>
                          <a:pt x="397" y="340"/>
                        </a:lnTo>
                        <a:lnTo>
                          <a:pt x="407" y="348"/>
                        </a:lnTo>
                        <a:lnTo>
                          <a:pt x="410" y="353"/>
                        </a:lnTo>
                        <a:lnTo>
                          <a:pt x="415" y="367"/>
                        </a:lnTo>
                        <a:lnTo>
                          <a:pt x="426" y="394"/>
                        </a:lnTo>
                        <a:lnTo>
                          <a:pt x="414" y="383"/>
                        </a:lnTo>
                        <a:lnTo>
                          <a:pt x="399" y="368"/>
                        </a:lnTo>
                        <a:lnTo>
                          <a:pt x="387" y="364"/>
                        </a:lnTo>
                        <a:lnTo>
                          <a:pt x="364" y="354"/>
                        </a:lnTo>
                        <a:lnTo>
                          <a:pt x="347" y="348"/>
                        </a:lnTo>
                        <a:lnTo>
                          <a:pt x="329" y="340"/>
                        </a:lnTo>
                        <a:lnTo>
                          <a:pt x="320" y="335"/>
                        </a:lnTo>
                        <a:lnTo>
                          <a:pt x="300" y="340"/>
                        </a:lnTo>
                        <a:lnTo>
                          <a:pt x="288" y="343"/>
                        </a:lnTo>
                        <a:lnTo>
                          <a:pt x="271" y="348"/>
                        </a:lnTo>
                        <a:lnTo>
                          <a:pt x="279" y="353"/>
                        </a:lnTo>
                        <a:lnTo>
                          <a:pt x="289" y="357"/>
                        </a:lnTo>
                        <a:lnTo>
                          <a:pt x="301" y="365"/>
                        </a:lnTo>
                        <a:lnTo>
                          <a:pt x="316" y="364"/>
                        </a:lnTo>
                        <a:lnTo>
                          <a:pt x="340" y="365"/>
                        </a:lnTo>
                        <a:lnTo>
                          <a:pt x="354" y="370"/>
                        </a:lnTo>
                        <a:lnTo>
                          <a:pt x="373" y="376"/>
                        </a:lnTo>
                        <a:lnTo>
                          <a:pt x="387" y="384"/>
                        </a:lnTo>
                        <a:lnTo>
                          <a:pt x="403" y="391"/>
                        </a:lnTo>
                        <a:lnTo>
                          <a:pt x="422" y="398"/>
                        </a:lnTo>
                        <a:lnTo>
                          <a:pt x="438" y="405"/>
                        </a:lnTo>
                        <a:lnTo>
                          <a:pt x="452" y="408"/>
                        </a:lnTo>
                        <a:lnTo>
                          <a:pt x="464" y="413"/>
                        </a:lnTo>
                        <a:lnTo>
                          <a:pt x="476" y="417"/>
                        </a:lnTo>
                        <a:lnTo>
                          <a:pt x="491" y="424"/>
                        </a:lnTo>
                        <a:lnTo>
                          <a:pt x="506" y="433"/>
                        </a:lnTo>
                        <a:lnTo>
                          <a:pt x="520" y="444"/>
                        </a:lnTo>
                        <a:lnTo>
                          <a:pt x="527" y="452"/>
                        </a:lnTo>
                        <a:lnTo>
                          <a:pt x="538" y="471"/>
                        </a:lnTo>
                        <a:lnTo>
                          <a:pt x="550" y="492"/>
                        </a:lnTo>
                        <a:lnTo>
                          <a:pt x="559" y="509"/>
                        </a:lnTo>
                        <a:lnTo>
                          <a:pt x="567" y="530"/>
                        </a:lnTo>
                        <a:lnTo>
                          <a:pt x="576" y="549"/>
                        </a:lnTo>
                        <a:lnTo>
                          <a:pt x="584" y="569"/>
                        </a:lnTo>
                        <a:lnTo>
                          <a:pt x="592" y="587"/>
                        </a:lnTo>
                        <a:lnTo>
                          <a:pt x="601" y="607"/>
                        </a:lnTo>
                        <a:lnTo>
                          <a:pt x="611" y="630"/>
                        </a:lnTo>
                        <a:lnTo>
                          <a:pt x="619" y="653"/>
                        </a:lnTo>
                        <a:lnTo>
                          <a:pt x="629" y="671"/>
                        </a:lnTo>
                        <a:lnTo>
                          <a:pt x="641" y="693"/>
                        </a:lnTo>
                        <a:lnTo>
                          <a:pt x="625" y="675"/>
                        </a:lnTo>
                        <a:lnTo>
                          <a:pt x="614" y="664"/>
                        </a:lnTo>
                        <a:lnTo>
                          <a:pt x="600" y="650"/>
                        </a:lnTo>
                        <a:lnTo>
                          <a:pt x="586" y="634"/>
                        </a:lnTo>
                        <a:lnTo>
                          <a:pt x="574" y="620"/>
                        </a:lnTo>
                        <a:lnTo>
                          <a:pt x="563" y="607"/>
                        </a:lnTo>
                        <a:lnTo>
                          <a:pt x="553" y="598"/>
                        </a:lnTo>
                        <a:lnTo>
                          <a:pt x="542" y="587"/>
                        </a:lnTo>
                        <a:lnTo>
                          <a:pt x="529" y="574"/>
                        </a:lnTo>
                        <a:lnTo>
                          <a:pt x="518" y="563"/>
                        </a:lnTo>
                        <a:lnTo>
                          <a:pt x="508" y="552"/>
                        </a:lnTo>
                        <a:lnTo>
                          <a:pt x="494" y="538"/>
                        </a:lnTo>
                        <a:lnTo>
                          <a:pt x="480" y="523"/>
                        </a:lnTo>
                        <a:lnTo>
                          <a:pt x="466" y="506"/>
                        </a:lnTo>
                        <a:lnTo>
                          <a:pt x="452" y="492"/>
                        </a:lnTo>
                        <a:lnTo>
                          <a:pt x="439" y="481"/>
                        </a:lnTo>
                        <a:lnTo>
                          <a:pt x="428" y="468"/>
                        </a:lnTo>
                        <a:lnTo>
                          <a:pt x="412" y="457"/>
                        </a:lnTo>
                        <a:lnTo>
                          <a:pt x="399" y="449"/>
                        </a:lnTo>
                        <a:lnTo>
                          <a:pt x="387" y="443"/>
                        </a:lnTo>
                        <a:lnTo>
                          <a:pt x="368" y="435"/>
                        </a:lnTo>
                        <a:lnTo>
                          <a:pt x="351" y="427"/>
                        </a:lnTo>
                        <a:lnTo>
                          <a:pt x="338" y="422"/>
                        </a:lnTo>
                        <a:lnTo>
                          <a:pt x="324" y="416"/>
                        </a:lnTo>
                        <a:lnTo>
                          <a:pt x="305" y="402"/>
                        </a:lnTo>
                        <a:lnTo>
                          <a:pt x="284" y="387"/>
                        </a:lnTo>
                        <a:lnTo>
                          <a:pt x="315" y="417"/>
                        </a:lnTo>
                        <a:lnTo>
                          <a:pt x="318" y="424"/>
                        </a:lnTo>
                        <a:lnTo>
                          <a:pt x="324" y="436"/>
                        </a:lnTo>
                        <a:lnTo>
                          <a:pt x="332" y="452"/>
                        </a:lnTo>
                        <a:lnTo>
                          <a:pt x="341" y="471"/>
                        </a:lnTo>
                        <a:lnTo>
                          <a:pt x="350" y="489"/>
                        </a:lnTo>
                        <a:lnTo>
                          <a:pt x="358" y="509"/>
                        </a:lnTo>
                        <a:lnTo>
                          <a:pt x="370" y="530"/>
                        </a:lnTo>
                        <a:lnTo>
                          <a:pt x="378" y="547"/>
                        </a:lnTo>
                        <a:lnTo>
                          <a:pt x="387" y="565"/>
                        </a:lnTo>
                        <a:lnTo>
                          <a:pt x="395" y="584"/>
                        </a:lnTo>
                        <a:lnTo>
                          <a:pt x="406" y="609"/>
                        </a:lnTo>
                        <a:lnTo>
                          <a:pt x="415" y="630"/>
                        </a:lnTo>
                        <a:lnTo>
                          <a:pt x="422" y="645"/>
                        </a:lnTo>
                        <a:lnTo>
                          <a:pt x="428" y="666"/>
                        </a:lnTo>
                        <a:lnTo>
                          <a:pt x="435" y="685"/>
                        </a:lnTo>
                        <a:lnTo>
                          <a:pt x="439" y="704"/>
                        </a:lnTo>
                        <a:lnTo>
                          <a:pt x="443" y="718"/>
                        </a:lnTo>
                        <a:lnTo>
                          <a:pt x="445" y="739"/>
                        </a:lnTo>
                        <a:lnTo>
                          <a:pt x="447" y="766"/>
                        </a:lnTo>
                        <a:lnTo>
                          <a:pt x="449" y="791"/>
                        </a:lnTo>
                        <a:lnTo>
                          <a:pt x="451" y="818"/>
                        </a:lnTo>
                        <a:lnTo>
                          <a:pt x="454" y="842"/>
                        </a:lnTo>
                        <a:lnTo>
                          <a:pt x="456" y="867"/>
                        </a:lnTo>
                        <a:lnTo>
                          <a:pt x="444" y="842"/>
                        </a:lnTo>
                        <a:lnTo>
                          <a:pt x="435" y="824"/>
                        </a:lnTo>
                        <a:lnTo>
                          <a:pt x="426" y="807"/>
                        </a:lnTo>
                        <a:lnTo>
                          <a:pt x="421" y="793"/>
                        </a:lnTo>
                        <a:lnTo>
                          <a:pt x="415" y="774"/>
                        </a:lnTo>
                        <a:lnTo>
                          <a:pt x="410" y="753"/>
                        </a:lnTo>
                        <a:lnTo>
                          <a:pt x="405" y="729"/>
                        </a:lnTo>
                        <a:lnTo>
                          <a:pt x="398" y="707"/>
                        </a:lnTo>
                        <a:lnTo>
                          <a:pt x="391" y="682"/>
                        </a:lnTo>
                        <a:lnTo>
                          <a:pt x="385" y="661"/>
                        </a:lnTo>
                        <a:lnTo>
                          <a:pt x="378" y="641"/>
                        </a:lnTo>
                        <a:lnTo>
                          <a:pt x="370" y="622"/>
                        </a:lnTo>
                        <a:lnTo>
                          <a:pt x="363" y="606"/>
                        </a:lnTo>
                        <a:lnTo>
                          <a:pt x="353" y="587"/>
                        </a:lnTo>
                        <a:lnTo>
                          <a:pt x="341" y="568"/>
                        </a:lnTo>
                        <a:lnTo>
                          <a:pt x="333" y="552"/>
                        </a:lnTo>
                        <a:lnTo>
                          <a:pt x="324" y="536"/>
                        </a:lnTo>
                        <a:lnTo>
                          <a:pt x="322" y="520"/>
                        </a:lnTo>
                        <a:lnTo>
                          <a:pt x="316" y="498"/>
                        </a:lnTo>
                        <a:lnTo>
                          <a:pt x="309" y="481"/>
                        </a:lnTo>
                        <a:lnTo>
                          <a:pt x="304" y="460"/>
                        </a:lnTo>
                        <a:lnTo>
                          <a:pt x="300" y="454"/>
                        </a:lnTo>
                        <a:lnTo>
                          <a:pt x="289" y="435"/>
                        </a:lnTo>
                        <a:lnTo>
                          <a:pt x="281" y="417"/>
                        </a:lnTo>
                        <a:lnTo>
                          <a:pt x="273" y="400"/>
                        </a:lnTo>
                        <a:lnTo>
                          <a:pt x="266" y="384"/>
                        </a:lnTo>
                        <a:lnTo>
                          <a:pt x="252" y="394"/>
                        </a:lnTo>
                        <a:lnTo>
                          <a:pt x="239" y="406"/>
                        </a:lnTo>
                        <a:lnTo>
                          <a:pt x="225" y="425"/>
                        </a:lnTo>
                        <a:lnTo>
                          <a:pt x="210" y="441"/>
                        </a:lnTo>
                        <a:lnTo>
                          <a:pt x="200" y="457"/>
                        </a:lnTo>
                        <a:lnTo>
                          <a:pt x="191" y="474"/>
                        </a:lnTo>
                        <a:lnTo>
                          <a:pt x="181" y="497"/>
                        </a:lnTo>
                        <a:lnTo>
                          <a:pt x="169" y="523"/>
                        </a:lnTo>
                        <a:lnTo>
                          <a:pt x="160" y="544"/>
                        </a:lnTo>
                        <a:lnTo>
                          <a:pt x="149" y="571"/>
                        </a:lnTo>
                        <a:lnTo>
                          <a:pt x="140" y="593"/>
                        </a:lnTo>
                        <a:lnTo>
                          <a:pt x="132" y="614"/>
                        </a:lnTo>
                        <a:lnTo>
                          <a:pt x="123" y="636"/>
                        </a:lnTo>
                        <a:lnTo>
                          <a:pt x="116" y="658"/>
                        </a:lnTo>
                        <a:lnTo>
                          <a:pt x="108" y="682"/>
                        </a:lnTo>
                        <a:lnTo>
                          <a:pt x="100" y="706"/>
                        </a:lnTo>
                        <a:lnTo>
                          <a:pt x="89" y="732"/>
                        </a:lnTo>
                        <a:lnTo>
                          <a:pt x="79" y="759"/>
                        </a:lnTo>
                        <a:lnTo>
                          <a:pt x="68" y="789"/>
                        </a:lnTo>
                        <a:lnTo>
                          <a:pt x="57" y="813"/>
                        </a:lnTo>
                        <a:lnTo>
                          <a:pt x="50" y="829"/>
                        </a:lnTo>
                        <a:lnTo>
                          <a:pt x="41" y="846"/>
                        </a:lnTo>
                        <a:lnTo>
                          <a:pt x="33" y="862"/>
                        </a:lnTo>
                        <a:lnTo>
                          <a:pt x="23" y="878"/>
                        </a:lnTo>
                        <a:lnTo>
                          <a:pt x="12" y="894"/>
                        </a:lnTo>
                        <a:lnTo>
                          <a:pt x="0" y="915"/>
                        </a:lnTo>
                        <a:lnTo>
                          <a:pt x="4" y="889"/>
                        </a:lnTo>
                        <a:lnTo>
                          <a:pt x="8" y="870"/>
                        </a:lnTo>
                        <a:lnTo>
                          <a:pt x="15" y="848"/>
                        </a:lnTo>
                        <a:lnTo>
                          <a:pt x="23" y="829"/>
                        </a:lnTo>
                        <a:lnTo>
                          <a:pt x="34" y="801"/>
                        </a:lnTo>
                        <a:lnTo>
                          <a:pt x="47" y="772"/>
                        </a:lnTo>
                        <a:lnTo>
                          <a:pt x="61" y="739"/>
                        </a:lnTo>
                        <a:lnTo>
                          <a:pt x="72" y="712"/>
                        </a:lnTo>
                        <a:lnTo>
                          <a:pt x="83" y="685"/>
                        </a:lnTo>
                        <a:lnTo>
                          <a:pt x="94" y="661"/>
                        </a:lnTo>
                        <a:lnTo>
                          <a:pt x="102" y="641"/>
                        </a:lnTo>
                        <a:lnTo>
                          <a:pt x="112" y="620"/>
                        </a:lnTo>
                        <a:lnTo>
                          <a:pt x="121" y="603"/>
                        </a:lnTo>
                        <a:lnTo>
                          <a:pt x="132" y="580"/>
                        </a:lnTo>
                        <a:lnTo>
                          <a:pt x="143" y="558"/>
                        </a:lnTo>
                        <a:lnTo>
                          <a:pt x="154" y="536"/>
                        </a:lnTo>
                        <a:lnTo>
                          <a:pt x="165" y="511"/>
                        </a:lnTo>
                        <a:lnTo>
                          <a:pt x="174" y="490"/>
                        </a:lnTo>
                        <a:lnTo>
                          <a:pt x="184" y="470"/>
                        </a:lnTo>
                        <a:lnTo>
                          <a:pt x="191" y="451"/>
                        </a:lnTo>
                        <a:lnTo>
                          <a:pt x="195" y="435"/>
                        </a:lnTo>
                        <a:lnTo>
                          <a:pt x="200" y="421"/>
                        </a:lnTo>
                        <a:lnTo>
                          <a:pt x="205" y="405"/>
                        </a:lnTo>
                        <a:lnTo>
                          <a:pt x="213" y="391"/>
                        </a:lnTo>
                        <a:lnTo>
                          <a:pt x="224" y="370"/>
                        </a:lnTo>
                        <a:lnTo>
                          <a:pt x="233" y="353"/>
                        </a:lnTo>
                        <a:lnTo>
                          <a:pt x="242" y="338"/>
                        </a:lnTo>
                        <a:lnTo>
                          <a:pt x="249" y="322"/>
                        </a:lnTo>
                        <a:lnTo>
                          <a:pt x="247" y="307"/>
                        </a:lnTo>
                        <a:lnTo>
                          <a:pt x="243" y="284"/>
                        </a:lnTo>
                        <a:lnTo>
                          <a:pt x="221" y="273"/>
                        </a:lnTo>
                        <a:lnTo>
                          <a:pt x="197" y="248"/>
                        </a:lnTo>
                        <a:lnTo>
                          <a:pt x="173" y="224"/>
                        </a:lnTo>
                        <a:lnTo>
                          <a:pt x="160" y="210"/>
                        </a:lnTo>
                        <a:lnTo>
                          <a:pt x="149" y="201"/>
                        </a:lnTo>
                        <a:lnTo>
                          <a:pt x="130" y="188"/>
                        </a:lnTo>
                        <a:lnTo>
                          <a:pt x="111" y="178"/>
                        </a:lnTo>
                        <a:lnTo>
                          <a:pt x="91" y="169"/>
                        </a:lnTo>
                        <a:lnTo>
                          <a:pt x="76" y="161"/>
                        </a:lnTo>
                        <a:lnTo>
                          <a:pt x="58" y="151"/>
                        </a:lnTo>
                        <a:lnTo>
                          <a:pt x="42" y="144"/>
                        </a:lnTo>
                        <a:lnTo>
                          <a:pt x="27" y="139"/>
                        </a:lnTo>
                        <a:lnTo>
                          <a:pt x="13" y="132"/>
                        </a:lnTo>
                        <a:lnTo>
                          <a:pt x="26" y="131"/>
                        </a:lnTo>
                        <a:lnTo>
                          <a:pt x="35" y="128"/>
                        </a:lnTo>
                        <a:lnTo>
                          <a:pt x="43" y="126"/>
                        </a:lnTo>
                        <a:lnTo>
                          <a:pt x="52" y="125"/>
                        </a:lnTo>
                        <a:lnTo>
                          <a:pt x="60" y="126"/>
                        </a:lnTo>
                        <a:lnTo>
                          <a:pt x="78" y="139"/>
                        </a:lnTo>
                        <a:lnTo>
                          <a:pt x="93" y="150"/>
                        </a:lnTo>
                        <a:lnTo>
                          <a:pt x="109" y="164"/>
                        </a:lnTo>
                        <a:lnTo>
                          <a:pt x="126" y="178"/>
                        </a:lnTo>
                        <a:lnTo>
                          <a:pt x="145" y="193"/>
                        </a:lnTo>
                        <a:lnTo>
                          <a:pt x="162" y="208"/>
                        </a:lnTo>
                        <a:lnTo>
                          <a:pt x="176" y="218"/>
                        </a:lnTo>
                        <a:lnTo>
                          <a:pt x="200" y="237"/>
                        </a:lnTo>
                        <a:lnTo>
                          <a:pt x="213" y="243"/>
                        </a:lnTo>
                        <a:lnTo>
                          <a:pt x="222" y="240"/>
                        </a:lnTo>
                        <a:lnTo>
                          <a:pt x="231" y="237"/>
                        </a:lnTo>
                        <a:lnTo>
                          <a:pt x="241" y="2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950520" y="9199080"/>
                    <a:ext cx="111240" cy="8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15">
                        <a:moveTo>
                          <a:pt x="37" y="0"/>
                        </a:moveTo>
                        <a:lnTo>
                          <a:pt x="44" y="25"/>
                        </a:lnTo>
                        <a:lnTo>
                          <a:pt x="50" y="41"/>
                        </a:lnTo>
                        <a:lnTo>
                          <a:pt x="61" y="65"/>
                        </a:lnTo>
                        <a:lnTo>
                          <a:pt x="64" y="87"/>
                        </a:lnTo>
                        <a:lnTo>
                          <a:pt x="67" y="117"/>
                        </a:lnTo>
                        <a:lnTo>
                          <a:pt x="67" y="152"/>
                        </a:lnTo>
                        <a:lnTo>
                          <a:pt x="68" y="174"/>
                        </a:lnTo>
                        <a:lnTo>
                          <a:pt x="67" y="199"/>
                        </a:lnTo>
                        <a:lnTo>
                          <a:pt x="64" y="233"/>
                        </a:lnTo>
                        <a:lnTo>
                          <a:pt x="61" y="260"/>
                        </a:lnTo>
                        <a:lnTo>
                          <a:pt x="56" y="304"/>
                        </a:lnTo>
                        <a:lnTo>
                          <a:pt x="52" y="326"/>
                        </a:lnTo>
                        <a:lnTo>
                          <a:pt x="43" y="355"/>
                        </a:lnTo>
                        <a:lnTo>
                          <a:pt x="32" y="387"/>
                        </a:lnTo>
                        <a:lnTo>
                          <a:pt x="23" y="415"/>
                        </a:lnTo>
                        <a:lnTo>
                          <a:pt x="13" y="444"/>
                        </a:lnTo>
                        <a:lnTo>
                          <a:pt x="6" y="467"/>
                        </a:lnTo>
                        <a:lnTo>
                          <a:pt x="0" y="514"/>
                        </a:lnTo>
                        <a:lnTo>
                          <a:pt x="3" y="467"/>
                        </a:lnTo>
                        <a:lnTo>
                          <a:pt x="6" y="434"/>
                        </a:lnTo>
                        <a:lnTo>
                          <a:pt x="7" y="404"/>
                        </a:lnTo>
                        <a:lnTo>
                          <a:pt x="9" y="372"/>
                        </a:lnTo>
                        <a:lnTo>
                          <a:pt x="12" y="333"/>
                        </a:lnTo>
                        <a:lnTo>
                          <a:pt x="18" y="304"/>
                        </a:lnTo>
                        <a:lnTo>
                          <a:pt x="23" y="276"/>
                        </a:lnTo>
                        <a:lnTo>
                          <a:pt x="28" y="249"/>
                        </a:lnTo>
                        <a:lnTo>
                          <a:pt x="32" y="222"/>
                        </a:lnTo>
                        <a:lnTo>
                          <a:pt x="37" y="193"/>
                        </a:lnTo>
                        <a:lnTo>
                          <a:pt x="39" y="164"/>
                        </a:lnTo>
                        <a:lnTo>
                          <a:pt x="41" y="141"/>
                        </a:lnTo>
                        <a:lnTo>
                          <a:pt x="43" y="112"/>
                        </a:lnTo>
                        <a:lnTo>
                          <a:pt x="43" y="80"/>
                        </a:lnTo>
                        <a:lnTo>
                          <a:pt x="43" y="41"/>
                        </a:lnTo>
                        <a:lnTo>
                          <a:pt x="40" y="23"/>
                        </a:lnTo>
                        <a:lnTo>
                          <a:pt x="37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422760" y="8734320"/>
                    <a:ext cx="48276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31">
                        <a:moveTo>
                          <a:pt x="299" y="130"/>
                        </a:moveTo>
                        <a:lnTo>
                          <a:pt x="293" y="107"/>
                        </a:lnTo>
                        <a:lnTo>
                          <a:pt x="287" y="87"/>
                        </a:lnTo>
                        <a:lnTo>
                          <a:pt x="281" y="84"/>
                        </a:lnTo>
                        <a:lnTo>
                          <a:pt x="270" y="77"/>
                        </a:lnTo>
                        <a:lnTo>
                          <a:pt x="258" y="72"/>
                        </a:lnTo>
                        <a:lnTo>
                          <a:pt x="247" y="77"/>
                        </a:lnTo>
                        <a:lnTo>
                          <a:pt x="233" y="80"/>
                        </a:lnTo>
                        <a:lnTo>
                          <a:pt x="217" y="71"/>
                        </a:lnTo>
                        <a:lnTo>
                          <a:pt x="196" y="60"/>
                        </a:lnTo>
                        <a:lnTo>
                          <a:pt x="177" y="49"/>
                        </a:lnTo>
                        <a:lnTo>
                          <a:pt x="163" y="42"/>
                        </a:lnTo>
                        <a:lnTo>
                          <a:pt x="141" y="33"/>
                        </a:lnTo>
                        <a:lnTo>
                          <a:pt x="119" y="22"/>
                        </a:lnTo>
                        <a:lnTo>
                          <a:pt x="97" y="12"/>
                        </a:lnTo>
                        <a:lnTo>
                          <a:pt x="74" y="4"/>
                        </a:lnTo>
                        <a:lnTo>
                          <a:pt x="50" y="1"/>
                        </a:lnTo>
                        <a:lnTo>
                          <a:pt x="28" y="0"/>
                        </a:lnTo>
                        <a:lnTo>
                          <a:pt x="22" y="3"/>
                        </a:lnTo>
                        <a:lnTo>
                          <a:pt x="13" y="11"/>
                        </a:lnTo>
                        <a:lnTo>
                          <a:pt x="5" y="20"/>
                        </a:lnTo>
                        <a:lnTo>
                          <a:pt x="0" y="28"/>
                        </a:lnTo>
                        <a:lnTo>
                          <a:pt x="10" y="30"/>
                        </a:lnTo>
                        <a:lnTo>
                          <a:pt x="22" y="31"/>
                        </a:lnTo>
                        <a:lnTo>
                          <a:pt x="33" y="33"/>
                        </a:lnTo>
                        <a:lnTo>
                          <a:pt x="41" y="31"/>
                        </a:lnTo>
                        <a:lnTo>
                          <a:pt x="52" y="30"/>
                        </a:lnTo>
                        <a:lnTo>
                          <a:pt x="69" y="28"/>
                        </a:lnTo>
                        <a:lnTo>
                          <a:pt x="90" y="30"/>
                        </a:lnTo>
                        <a:lnTo>
                          <a:pt x="109" y="33"/>
                        </a:lnTo>
                        <a:lnTo>
                          <a:pt x="126" y="38"/>
                        </a:lnTo>
                        <a:lnTo>
                          <a:pt x="143" y="42"/>
                        </a:lnTo>
                        <a:lnTo>
                          <a:pt x="161" y="44"/>
                        </a:lnTo>
                        <a:lnTo>
                          <a:pt x="175" y="52"/>
                        </a:lnTo>
                        <a:lnTo>
                          <a:pt x="190" y="61"/>
                        </a:lnTo>
                        <a:lnTo>
                          <a:pt x="204" y="72"/>
                        </a:lnTo>
                        <a:lnTo>
                          <a:pt x="220" y="84"/>
                        </a:lnTo>
                        <a:lnTo>
                          <a:pt x="227" y="85"/>
                        </a:lnTo>
                        <a:lnTo>
                          <a:pt x="235" y="84"/>
                        </a:lnTo>
                        <a:lnTo>
                          <a:pt x="246" y="91"/>
                        </a:lnTo>
                        <a:lnTo>
                          <a:pt x="258" y="99"/>
                        </a:lnTo>
                        <a:lnTo>
                          <a:pt x="269" y="107"/>
                        </a:lnTo>
                        <a:lnTo>
                          <a:pt x="284" y="118"/>
                        </a:lnTo>
                        <a:lnTo>
                          <a:pt x="293" y="125"/>
                        </a:lnTo>
                        <a:lnTo>
                          <a:pt x="299" y="13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402240" y="8862480"/>
                    <a:ext cx="5004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55">
                        <a:moveTo>
                          <a:pt x="310" y="54"/>
                        </a:moveTo>
                        <a:lnTo>
                          <a:pt x="302" y="49"/>
                        </a:lnTo>
                        <a:lnTo>
                          <a:pt x="293" y="42"/>
                        </a:lnTo>
                        <a:lnTo>
                          <a:pt x="283" y="38"/>
                        </a:lnTo>
                        <a:lnTo>
                          <a:pt x="275" y="33"/>
                        </a:lnTo>
                        <a:lnTo>
                          <a:pt x="263" y="27"/>
                        </a:lnTo>
                        <a:lnTo>
                          <a:pt x="249" y="17"/>
                        </a:lnTo>
                        <a:lnTo>
                          <a:pt x="237" y="7"/>
                        </a:lnTo>
                        <a:lnTo>
                          <a:pt x="225" y="7"/>
                        </a:lnTo>
                        <a:lnTo>
                          <a:pt x="212" y="11"/>
                        </a:lnTo>
                        <a:lnTo>
                          <a:pt x="195" y="14"/>
                        </a:lnTo>
                        <a:lnTo>
                          <a:pt x="187" y="14"/>
                        </a:lnTo>
                        <a:lnTo>
                          <a:pt x="164" y="9"/>
                        </a:lnTo>
                        <a:lnTo>
                          <a:pt x="138" y="4"/>
                        </a:lnTo>
                        <a:lnTo>
                          <a:pt x="121" y="1"/>
                        </a:lnTo>
                        <a:lnTo>
                          <a:pt x="100" y="0"/>
                        </a:lnTo>
                        <a:lnTo>
                          <a:pt x="77" y="1"/>
                        </a:lnTo>
                        <a:lnTo>
                          <a:pt x="64" y="4"/>
                        </a:lnTo>
                        <a:lnTo>
                          <a:pt x="47" y="6"/>
                        </a:lnTo>
                        <a:lnTo>
                          <a:pt x="33" y="9"/>
                        </a:lnTo>
                        <a:lnTo>
                          <a:pt x="17" y="12"/>
                        </a:lnTo>
                        <a:lnTo>
                          <a:pt x="15" y="23"/>
                        </a:lnTo>
                        <a:lnTo>
                          <a:pt x="11" y="31"/>
                        </a:lnTo>
                        <a:lnTo>
                          <a:pt x="7" y="41"/>
                        </a:lnTo>
                        <a:lnTo>
                          <a:pt x="0" y="47"/>
                        </a:lnTo>
                        <a:lnTo>
                          <a:pt x="12" y="42"/>
                        </a:lnTo>
                        <a:lnTo>
                          <a:pt x="27" y="39"/>
                        </a:lnTo>
                        <a:lnTo>
                          <a:pt x="39" y="34"/>
                        </a:lnTo>
                        <a:lnTo>
                          <a:pt x="52" y="31"/>
                        </a:lnTo>
                        <a:lnTo>
                          <a:pt x="66" y="28"/>
                        </a:lnTo>
                        <a:lnTo>
                          <a:pt x="88" y="27"/>
                        </a:lnTo>
                        <a:lnTo>
                          <a:pt x="113" y="23"/>
                        </a:lnTo>
                        <a:lnTo>
                          <a:pt x="139" y="22"/>
                        </a:lnTo>
                        <a:lnTo>
                          <a:pt x="166" y="19"/>
                        </a:lnTo>
                        <a:lnTo>
                          <a:pt x="191" y="17"/>
                        </a:lnTo>
                        <a:lnTo>
                          <a:pt x="212" y="20"/>
                        </a:lnTo>
                        <a:lnTo>
                          <a:pt x="228" y="27"/>
                        </a:lnTo>
                        <a:lnTo>
                          <a:pt x="244" y="33"/>
                        </a:lnTo>
                        <a:lnTo>
                          <a:pt x="261" y="39"/>
                        </a:lnTo>
                        <a:lnTo>
                          <a:pt x="280" y="47"/>
                        </a:lnTo>
                        <a:lnTo>
                          <a:pt x="294" y="50"/>
                        </a:lnTo>
                        <a:lnTo>
                          <a:pt x="310" y="5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10858320"/>
              <a:ext cx="7914240" cy="7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0"/>
                  </a:moveTo>
                  <a:arcTo wR="10800" hR="10800" stAng="10752145" swAng="10895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0"/>
                  </a:moveTo>
                  <a:arcTo wR="10800" hR="10800" stAng="10752145" swAng="10895728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11220120"/>
              <a:ext cx="79128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619080" y="9250200"/>
              <a:ext cx="685800" cy="11383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49600" y="10147320"/>
              <a:ext cx="792360" cy="665280"/>
            </a:xfrm>
            <a:custGeom>
              <a:avLst/>
              <a:gdLst/>
              <a:ahLst/>
              <a:rect l="l" t="t" r="r" b="b"/>
              <a:pathLst>
                <a:path w="492" h="405">
                  <a:moveTo>
                    <a:pt x="43" y="6"/>
                  </a:moveTo>
                  <a:lnTo>
                    <a:pt x="431" y="6"/>
                  </a:lnTo>
                  <a:lnTo>
                    <a:pt x="431" y="0"/>
                  </a:lnTo>
                  <a:lnTo>
                    <a:pt x="444" y="0"/>
                  </a:lnTo>
                  <a:lnTo>
                    <a:pt x="450" y="20"/>
                  </a:lnTo>
                  <a:lnTo>
                    <a:pt x="441" y="26"/>
                  </a:lnTo>
                  <a:lnTo>
                    <a:pt x="429" y="34"/>
                  </a:lnTo>
                  <a:lnTo>
                    <a:pt x="420" y="34"/>
                  </a:lnTo>
                  <a:lnTo>
                    <a:pt x="416" y="55"/>
                  </a:lnTo>
                  <a:lnTo>
                    <a:pt x="425" y="55"/>
                  </a:lnTo>
                  <a:lnTo>
                    <a:pt x="435" y="55"/>
                  </a:lnTo>
                  <a:lnTo>
                    <a:pt x="444" y="55"/>
                  </a:lnTo>
                  <a:lnTo>
                    <a:pt x="454" y="61"/>
                  </a:lnTo>
                  <a:lnTo>
                    <a:pt x="456" y="82"/>
                  </a:lnTo>
                  <a:lnTo>
                    <a:pt x="447" y="102"/>
                  </a:lnTo>
                  <a:lnTo>
                    <a:pt x="438" y="102"/>
                  </a:lnTo>
                  <a:lnTo>
                    <a:pt x="429" y="102"/>
                  </a:lnTo>
                  <a:lnTo>
                    <a:pt x="420" y="102"/>
                  </a:lnTo>
                  <a:lnTo>
                    <a:pt x="410" y="102"/>
                  </a:lnTo>
                  <a:lnTo>
                    <a:pt x="408" y="123"/>
                  </a:lnTo>
                  <a:lnTo>
                    <a:pt x="420" y="136"/>
                  </a:lnTo>
                  <a:lnTo>
                    <a:pt x="431" y="144"/>
                  </a:lnTo>
                  <a:lnTo>
                    <a:pt x="441" y="144"/>
                  </a:lnTo>
                  <a:lnTo>
                    <a:pt x="450" y="144"/>
                  </a:lnTo>
                  <a:lnTo>
                    <a:pt x="463" y="144"/>
                  </a:lnTo>
                  <a:lnTo>
                    <a:pt x="472" y="144"/>
                  </a:lnTo>
                  <a:lnTo>
                    <a:pt x="481" y="144"/>
                  </a:lnTo>
                  <a:lnTo>
                    <a:pt x="491" y="164"/>
                  </a:lnTo>
                  <a:lnTo>
                    <a:pt x="481" y="185"/>
                  </a:lnTo>
                  <a:lnTo>
                    <a:pt x="472" y="185"/>
                  </a:lnTo>
                  <a:lnTo>
                    <a:pt x="463" y="185"/>
                  </a:lnTo>
                  <a:lnTo>
                    <a:pt x="450" y="185"/>
                  </a:lnTo>
                  <a:lnTo>
                    <a:pt x="441" y="185"/>
                  </a:lnTo>
                  <a:lnTo>
                    <a:pt x="431" y="177"/>
                  </a:lnTo>
                  <a:lnTo>
                    <a:pt x="420" y="177"/>
                  </a:lnTo>
                  <a:lnTo>
                    <a:pt x="408" y="177"/>
                  </a:lnTo>
                  <a:lnTo>
                    <a:pt x="404" y="198"/>
                  </a:lnTo>
                  <a:lnTo>
                    <a:pt x="401" y="218"/>
                  </a:lnTo>
                  <a:lnTo>
                    <a:pt x="416" y="226"/>
                  </a:lnTo>
                  <a:lnTo>
                    <a:pt x="425" y="232"/>
                  </a:lnTo>
                  <a:lnTo>
                    <a:pt x="435" y="232"/>
                  </a:lnTo>
                  <a:lnTo>
                    <a:pt x="444" y="239"/>
                  </a:lnTo>
                  <a:lnTo>
                    <a:pt x="454" y="239"/>
                  </a:lnTo>
                  <a:lnTo>
                    <a:pt x="463" y="239"/>
                  </a:lnTo>
                  <a:lnTo>
                    <a:pt x="463" y="259"/>
                  </a:lnTo>
                  <a:lnTo>
                    <a:pt x="450" y="267"/>
                  </a:lnTo>
                  <a:lnTo>
                    <a:pt x="438" y="267"/>
                  </a:lnTo>
                  <a:lnTo>
                    <a:pt x="425" y="267"/>
                  </a:lnTo>
                  <a:lnTo>
                    <a:pt x="416" y="267"/>
                  </a:lnTo>
                  <a:lnTo>
                    <a:pt x="401" y="267"/>
                  </a:lnTo>
                  <a:lnTo>
                    <a:pt x="389" y="267"/>
                  </a:lnTo>
                  <a:lnTo>
                    <a:pt x="379" y="267"/>
                  </a:lnTo>
                  <a:lnTo>
                    <a:pt x="370" y="267"/>
                  </a:lnTo>
                  <a:lnTo>
                    <a:pt x="373" y="288"/>
                  </a:lnTo>
                  <a:lnTo>
                    <a:pt x="385" y="307"/>
                  </a:lnTo>
                  <a:lnTo>
                    <a:pt x="398" y="307"/>
                  </a:lnTo>
                  <a:lnTo>
                    <a:pt x="408" y="307"/>
                  </a:lnTo>
                  <a:lnTo>
                    <a:pt x="408" y="327"/>
                  </a:lnTo>
                  <a:lnTo>
                    <a:pt x="395" y="335"/>
                  </a:lnTo>
                  <a:lnTo>
                    <a:pt x="383" y="335"/>
                  </a:lnTo>
                  <a:lnTo>
                    <a:pt x="370" y="335"/>
                  </a:lnTo>
                  <a:lnTo>
                    <a:pt x="360" y="335"/>
                  </a:lnTo>
                  <a:lnTo>
                    <a:pt x="352" y="335"/>
                  </a:lnTo>
                  <a:lnTo>
                    <a:pt x="352" y="356"/>
                  </a:lnTo>
                  <a:lnTo>
                    <a:pt x="360" y="362"/>
                  </a:lnTo>
                  <a:lnTo>
                    <a:pt x="352" y="369"/>
                  </a:lnTo>
                  <a:lnTo>
                    <a:pt x="339" y="377"/>
                  </a:lnTo>
                  <a:lnTo>
                    <a:pt x="330" y="377"/>
                  </a:lnTo>
                  <a:lnTo>
                    <a:pt x="320" y="377"/>
                  </a:lnTo>
                  <a:lnTo>
                    <a:pt x="312" y="377"/>
                  </a:lnTo>
                  <a:lnTo>
                    <a:pt x="302" y="377"/>
                  </a:lnTo>
                  <a:lnTo>
                    <a:pt x="293" y="377"/>
                  </a:lnTo>
                  <a:lnTo>
                    <a:pt x="283" y="377"/>
                  </a:lnTo>
                  <a:lnTo>
                    <a:pt x="293" y="389"/>
                  </a:lnTo>
                  <a:lnTo>
                    <a:pt x="283" y="404"/>
                  </a:lnTo>
                  <a:lnTo>
                    <a:pt x="272" y="404"/>
                  </a:lnTo>
                  <a:lnTo>
                    <a:pt x="259" y="404"/>
                  </a:lnTo>
                  <a:lnTo>
                    <a:pt x="243" y="404"/>
                  </a:lnTo>
                  <a:lnTo>
                    <a:pt x="228" y="404"/>
                  </a:lnTo>
                  <a:lnTo>
                    <a:pt x="216" y="404"/>
                  </a:lnTo>
                  <a:lnTo>
                    <a:pt x="203" y="404"/>
                  </a:lnTo>
                  <a:lnTo>
                    <a:pt x="194" y="404"/>
                  </a:lnTo>
                  <a:lnTo>
                    <a:pt x="185" y="404"/>
                  </a:lnTo>
                  <a:lnTo>
                    <a:pt x="194" y="404"/>
                  </a:lnTo>
                  <a:lnTo>
                    <a:pt x="203" y="404"/>
                  </a:lnTo>
                  <a:lnTo>
                    <a:pt x="212" y="404"/>
                  </a:lnTo>
                  <a:lnTo>
                    <a:pt x="212" y="383"/>
                  </a:lnTo>
                  <a:lnTo>
                    <a:pt x="203" y="383"/>
                  </a:lnTo>
                  <a:lnTo>
                    <a:pt x="191" y="383"/>
                  </a:lnTo>
                  <a:lnTo>
                    <a:pt x="182" y="383"/>
                  </a:lnTo>
                  <a:lnTo>
                    <a:pt x="166" y="383"/>
                  </a:lnTo>
                  <a:lnTo>
                    <a:pt x="154" y="377"/>
                  </a:lnTo>
                  <a:lnTo>
                    <a:pt x="141" y="377"/>
                  </a:lnTo>
                  <a:lnTo>
                    <a:pt x="154" y="369"/>
                  </a:lnTo>
                  <a:lnTo>
                    <a:pt x="166" y="369"/>
                  </a:lnTo>
                  <a:lnTo>
                    <a:pt x="176" y="369"/>
                  </a:lnTo>
                  <a:lnTo>
                    <a:pt x="188" y="369"/>
                  </a:lnTo>
                  <a:lnTo>
                    <a:pt x="201" y="369"/>
                  </a:lnTo>
                  <a:lnTo>
                    <a:pt x="209" y="369"/>
                  </a:lnTo>
                  <a:lnTo>
                    <a:pt x="209" y="348"/>
                  </a:lnTo>
                  <a:lnTo>
                    <a:pt x="201" y="342"/>
                  </a:lnTo>
                  <a:lnTo>
                    <a:pt x="188" y="342"/>
                  </a:lnTo>
                  <a:lnTo>
                    <a:pt x="178" y="342"/>
                  </a:lnTo>
                  <a:lnTo>
                    <a:pt x="163" y="342"/>
                  </a:lnTo>
                  <a:lnTo>
                    <a:pt x="151" y="342"/>
                  </a:lnTo>
                  <a:lnTo>
                    <a:pt x="141" y="342"/>
                  </a:lnTo>
                  <a:lnTo>
                    <a:pt x="130" y="342"/>
                  </a:lnTo>
                  <a:lnTo>
                    <a:pt x="117" y="335"/>
                  </a:lnTo>
                  <a:lnTo>
                    <a:pt x="105" y="335"/>
                  </a:lnTo>
                  <a:lnTo>
                    <a:pt x="95" y="335"/>
                  </a:lnTo>
                  <a:lnTo>
                    <a:pt x="80" y="327"/>
                  </a:lnTo>
                  <a:lnTo>
                    <a:pt x="92" y="307"/>
                  </a:lnTo>
                  <a:lnTo>
                    <a:pt x="105" y="307"/>
                  </a:lnTo>
                  <a:lnTo>
                    <a:pt x="117" y="307"/>
                  </a:lnTo>
                  <a:lnTo>
                    <a:pt x="130" y="307"/>
                  </a:lnTo>
                  <a:lnTo>
                    <a:pt x="138" y="307"/>
                  </a:lnTo>
                  <a:lnTo>
                    <a:pt x="147" y="307"/>
                  </a:lnTo>
                  <a:lnTo>
                    <a:pt x="138" y="288"/>
                  </a:lnTo>
                  <a:lnTo>
                    <a:pt x="130" y="288"/>
                  </a:lnTo>
                  <a:lnTo>
                    <a:pt x="117" y="288"/>
                  </a:lnTo>
                  <a:lnTo>
                    <a:pt x="105" y="288"/>
                  </a:lnTo>
                  <a:lnTo>
                    <a:pt x="92" y="288"/>
                  </a:lnTo>
                  <a:lnTo>
                    <a:pt x="80" y="288"/>
                  </a:lnTo>
                  <a:lnTo>
                    <a:pt x="70" y="288"/>
                  </a:lnTo>
                  <a:lnTo>
                    <a:pt x="61" y="288"/>
                  </a:lnTo>
                  <a:lnTo>
                    <a:pt x="43" y="280"/>
                  </a:lnTo>
                  <a:lnTo>
                    <a:pt x="30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24" y="274"/>
                  </a:lnTo>
                  <a:lnTo>
                    <a:pt x="34" y="274"/>
                  </a:lnTo>
                  <a:lnTo>
                    <a:pt x="43" y="274"/>
                  </a:lnTo>
                  <a:lnTo>
                    <a:pt x="59" y="274"/>
                  </a:lnTo>
                  <a:lnTo>
                    <a:pt x="74" y="274"/>
                  </a:lnTo>
                  <a:lnTo>
                    <a:pt x="82" y="274"/>
                  </a:lnTo>
                  <a:lnTo>
                    <a:pt x="92" y="274"/>
                  </a:lnTo>
                  <a:lnTo>
                    <a:pt x="101" y="274"/>
                  </a:lnTo>
                  <a:lnTo>
                    <a:pt x="111" y="274"/>
                  </a:lnTo>
                  <a:lnTo>
                    <a:pt x="114" y="253"/>
                  </a:lnTo>
                  <a:lnTo>
                    <a:pt x="105" y="239"/>
                  </a:lnTo>
                  <a:lnTo>
                    <a:pt x="89" y="232"/>
                  </a:lnTo>
                  <a:lnTo>
                    <a:pt x="80" y="232"/>
                  </a:lnTo>
                  <a:lnTo>
                    <a:pt x="67" y="232"/>
                  </a:lnTo>
                  <a:lnTo>
                    <a:pt x="55" y="232"/>
                  </a:lnTo>
                  <a:lnTo>
                    <a:pt x="43" y="232"/>
                  </a:lnTo>
                  <a:lnTo>
                    <a:pt x="34" y="232"/>
                  </a:lnTo>
                  <a:lnTo>
                    <a:pt x="24" y="232"/>
                  </a:lnTo>
                  <a:lnTo>
                    <a:pt x="15" y="232"/>
                  </a:lnTo>
                  <a:lnTo>
                    <a:pt x="5" y="226"/>
                  </a:lnTo>
                  <a:lnTo>
                    <a:pt x="18" y="218"/>
                  </a:lnTo>
                  <a:lnTo>
                    <a:pt x="27" y="218"/>
                  </a:lnTo>
                  <a:lnTo>
                    <a:pt x="36" y="212"/>
                  </a:lnTo>
                  <a:lnTo>
                    <a:pt x="49" y="212"/>
                  </a:lnTo>
                  <a:lnTo>
                    <a:pt x="65" y="212"/>
                  </a:lnTo>
                  <a:lnTo>
                    <a:pt x="74" y="212"/>
                  </a:lnTo>
                  <a:lnTo>
                    <a:pt x="86" y="212"/>
                  </a:lnTo>
                  <a:lnTo>
                    <a:pt x="95" y="212"/>
                  </a:lnTo>
                  <a:lnTo>
                    <a:pt x="89" y="191"/>
                  </a:lnTo>
                  <a:lnTo>
                    <a:pt x="80" y="191"/>
                  </a:lnTo>
                  <a:lnTo>
                    <a:pt x="70" y="191"/>
                  </a:lnTo>
                  <a:lnTo>
                    <a:pt x="59" y="191"/>
                  </a:lnTo>
                  <a:lnTo>
                    <a:pt x="49" y="191"/>
                  </a:lnTo>
                  <a:lnTo>
                    <a:pt x="36" y="191"/>
                  </a:lnTo>
                  <a:lnTo>
                    <a:pt x="27" y="177"/>
                  </a:lnTo>
                  <a:lnTo>
                    <a:pt x="27" y="156"/>
                  </a:lnTo>
                  <a:lnTo>
                    <a:pt x="36" y="150"/>
                  </a:lnTo>
                  <a:lnTo>
                    <a:pt x="46" y="150"/>
                  </a:lnTo>
                  <a:lnTo>
                    <a:pt x="59" y="150"/>
                  </a:lnTo>
                  <a:lnTo>
                    <a:pt x="67" y="150"/>
                  </a:lnTo>
                  <a:lnTo>
                    <a:pt x="80" y="150"/>
                  </a:lnTo>
                  <a:lnTo>
                    <a:pt x="89" y="150"/>
                  </a:lnTo>
                  <a:lnTo>
                    <a:pt x="99" y="150"/>
                  </a:lnTo>
                  <a:lnTo>
                    <a:pt x="107" y="150"/>
                  </a:lnTo>
                  <a:lnTo>
                    <a:pt x="111" y="129"/>
                  </a:lnTo>
                  <a:lnTo>
                    <a:pt x="101" y="123"/>
                  </a:lnTo>
                  <a:lnTo>
                    <a:pt x="92" y="123"/>
                  </a:lnTo>
                  <a:lnTo>
                    <a:pt x="76" y="123"/>
                  </a:lnTo>
                  <a:lnTo>
                    <a:pt x="67" y="123"/>
                  </a:lnTo>
                  <a:lnTo>
                    <a:pt x="55" y="123"/>
                  </a:lnTo>
                  <a:lnTo>
                    <a:pt x="46" y="123"/>
                  </a:lnTo>
                  <a:lnTo>
                    <a:pt x="36" y="123"/>
                  </a:lnTo>
                  <a:lnTo>
                    <a:pt x="46" y="109"/>
                  </a:lnTo>
                  <a:lnTo>
                    <a:pt x="59" y="109"/>
                  </a:lnTo>
                  <a:lnTo>
                    <a:pt x="67" y="109"/>
                  </a:lnTo>
                  <a:lnTo>
                    <a:pt x="76" y="109"/>
                  </a:lnTo>
                  <a:lnTo>
                    <a:pt x="80" y="88"/>
                  </a:lnTo>
                  <a:lnTo>
                    <a:pt x="70" y="82"/>
                  </a:lnTo>
                  <a:lnTo>
                    <a:pt x="55" y="82"/>
                  </a:lnTo>
                  <a:lnTo>
                    <a:pt x="46" y="82"/>
                  </a:lnTo>
                  <a:lnTo>
                    <a:pt x="36" y="82"/>
                  </a:lnTo>
                  <a:lnTo>
                    <a:pt x="27" y="82"/>
                  </a:lnTo>
                  <a:lnTo>
                    <a:pt x="18" y="82"/>
                  </a:lnTo>
                  <a:lnTo>
                    <a:pt x="9" y="82"/>
                  </a:lnTo>
                  <a:lnTo>
                    <a:pt x="0" y="82"/>
                  </a:lnTo>
                  <a:lnTo>
                    <a:pt x="5" y="55"/>
                  </a:lnTo>
                  <a:lnTo>
                    <a:pt x="18" y="47"/>
                  </a:lnTo>
                  <a:lnTo>
                    <a:pt x="30" y="47"/>
                  </a:lnTo>
                  <a:lnTo>
                    <a:pt x="43" y="47"/>
                  </a:lnTo>
                  <a:lnTo>
                    <a:pt x="55" y="47"/>
                  </a:lnTo>
                  <a:lnTo>
                    <a:pt x="65" y="47"/>
                  </a:lnTo>
                  <a:lnTo>
                    <a:pt x="74" y="47"/>
                  </a:lnTo>
                  <a:lnTo>
                    <a:pt x="67" y="26"/>
                  </a:lnTo>
                  <a:lnTo>
                    <a:pt x="55" y="26"/>
                  </a:lnTo>
                  <a:lnTo>
                    <a:pt x="46" y="26"/>
                  </a:lnTo>
                  <a:lnTo>
                    <a:pt x="36" y="26"/>
                  </a:lnTo>
                  <a:lnTo>
                    <a:pt x="43" y="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3280" y="655200"/>
            <a:ext cx="6737400" cy="1903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593280" y="2933280"/>
            <a:ext cx="6737400" cy="671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339840" indent="-33984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7160">
              <a:spcBef>
                <a:spcPts val="774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587600" indent="-22716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39760" indent="-22680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39760" indent="-22680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39760" indent="-22680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593640" y="10486800"/>
            <a:ext cx="1650960" cy="74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2707920" y="10486800"/>
            <a:ext cx="2508120" cy="74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5680080" y="10486800"/>
            <a:ext cx="1650960" cy="74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D5E9386-5659-481B-B308-8E5133E361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873000"/>
            <a:ext cx="7954200" cy="10694520"/>
            <a:chOff x="0" y="873000"/>
            <a:chExt cx="7954200" cy="10694520"/>
          </a:xfrm>
        </p:grpSpPr>
        <p:sp>
          <p:nvSpPr>
            <p:cNvPr id="70" name=""/>
            <p:cNvSpPr/>
            <p:nvPr/>
          </p:nvSpPr>
          <p:spPr>
            <a:xfrm>
              <a:off x="0" y="10146240"/>
              <a:ext cx="7943400" cy="107316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873000"/>
              <a:ext cx="1981440" cy="10364040"/>
              <a:chOff x="0" y="873000"/>
              <a:chExt cx="1981440" cy="10364040"/>
            </a:xfrm>
          </p:grpSpPr>
          <p:sp>
            <p:nvSpPr>
              <p:cNvPr id="72" name=""/>
              <p:cNvSpPr/>
              <p:nvPr/>
            </p:nvSpPr>
            <p:spPr>
              <a:xfrm>
                <a:off x="275040" y="3461040"/>
                <a:ext cx="325080" cy="7776000"/>
              </a:xfrm>
              <a:custGeom>
                <a:avLst/>
                <a:gdLst/>
                <a:ahLst/>
                <a:rect l="l" t="t" r="r" b="b"/>
                <a:pathLst>
                  <a:path w="202" h="4732">
                    <a:moveTo>
                      <a:pt x="0" y="282"/>
                    </a:moveTo>
                    <a:lnTo>
                      <a:pt x="30" y="1385"/>
                    </a:lnTo>
                    <a:lnTo>
                      <a:pt x="60" y="2274"/>
                    </a:lnTo>
                    <a:lnTo>
                      <a:pt x="81" y="2931"/>
                    </a:lnTo>
                    <a:lnTo>
                      <a:pt x="75" y="4731"/>
                    </a:lnTo>
                    <a:lnTo>
                      <a:pt x="115" y="4731"/>
                    </a:lnTo>
                    <a:lnTo>
                      <a:pt x="133" y="2807"/>
                    </a:lnTo>
                    <a:lnTo>
                      <a:pt x="140" y="2231"/>
                    </a:lnTo>
                    <a:lnTo>
                      <a:pt x="155" y="1693"/>
                    </a:lnTo>
                    <a:lnTo>
                      <a:pt x="164" y="1287"/>
                    </a:lnTo>
                    <a:lnTo>
                      <a:pt x="180" y="696"/>
                    </a:lnTo>
                    <a:lnTo>
                      <a:pt x="201" y="190"/>
                    </a:lnTo>
                    <a:lnTo>
                      <a:pt x="188" y="60"/>
                    </a:lnTo>
                    <a:lnTo>
                      <a:pt x="167" y="0"/>
                    </a:lnTo>
                    <a:lnTo>
                      <a:pt x="143" y="624"/>
                    </a:lnTo>
                    <a:lnTo>
                      <a:pt x="123" y="1154"/>
                    </a:lnTo>
                    <a:lnTo>
                      <a:pt x="115" y="1569"/>
                    </a:lnTo>
                    <a:lnTo>
                      <a:pt x="109" y="2007"/>
                    </a:lnTo>
                    <a:lnTo>
                      <a:pt x="91" y="2444"/>
                    </a:lnTo>
                    <a:lnTo>
                      <a:pt x="67" y="1684"/>
                    </a:lnTo>
                    <a:lnTo>
                      <a:pt x="40" y="964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8400" y="5598720"/>
                <a:ext cx="521640" cy="5636520"/>
              </a:xfrm>
              <a:custGeom>
                <a:avLst/>
                <a:gdLst/>
                <a:ahLst/>
                <a:rect l="l" t="t" r="r" b="b"/>
                <a:pathLst>
                  <a:path w="324" h="3430">
                    <a:moveTo>
                      <a:pt x="0" y="832"/>
                    </a:moveTo>
                    <a:lnTo>
                      <a:pt x="27" y="1194"/>
                    </a:lnTo>
                    <a:lnTo>
                      <a:pt x="55" y="1488"/>
                    </a:lnTo>
                    <a:lnTo>
                      <a:pt x="72" y="1701"/>
                    </a:lnTo>
                    <a:lnTo>
                      <a:pt x="46" y="3429"/>
                    </a:lnTo>
                    <a:lnTo>
                      <a:pt x="87" y="3357"/>
                    </a:lnTo>
                    <a:lnTo>
                      <a:pt x="119" y="1664"/>
                    </a:lnTo>
                    <a:lnTo>
                      <a:pt x="124" y="1474"/>
                    </a:lnTo>
                    <a:lnTo>
                      <a:pt x="140" y="1295"/>
                    </a:lnTo>
                    <a:lnTo>
                      <a:pt x="147" y="1163"/>
                    </a:lnTo>
                    <a:lnTo>
                      <a:pt x="162" y="970"/>
                    </a:lnTo>
                    <a:lnTo>
                      <a:pt x="179" y="803"/>
                    </a:lnTo>
                    <a:lnTo>
                      <a:pt x="194" y="656"/>
                    </a:lnTo>
                    <a:lnTo>
                      <a:pt x="209" y="498"/>
                    </a:lnTo>
                    <a:lnTo>
                      <a:pt x="235" y="339"/>
                    </a:lnTo>
                    <a:lnTo>
                      <a:pt x="262" y="207"/>
                    </a:lnTo>
                    <a:lnTo>
                      <a:pt x="307" y="80"/>
                    </a:lnTo>
                    <a:lnTo>
                      <a:pt x="323" y="28"/>
                    </a:lnTo>
                    <a:lnTo>
                      <a:pt x="304" y="0"/>
                    </a:lnTo>
                    <a:lnTo>
                      <a:pt x="275" y="51"/>
                    </a:lnTo>
                    <a:lnTo>
                      <a:pt x="235" y="172"/>
                    </a:lnTo>
                    <a:lnTo>
                      <a:pt x="204" y="293"/>
                    </a:lnTo>
                    <a:lnTo>
                      <a:pt x="179" y="420"/>
                    </a:lnTo>
                    <a:lnTo>
                      <a:pt x="164" y="584"/>
                    </a:lnTo>
                    <a:lnTo>
                      <a:pt x="149" y="739"/>
                    </a:lnTo>
                    <a:lnTo>
                      <a:pt x="128" y="947"/>
                    </a:lnTo>
                    <a:lnTo>
                      <a:pt x="109" y="1119"/>
                    </a:lnTo>
                    <a:lnTo>
                      <a:pt x="103" y="1255"/>
                    </a:lnTo>
                    <a:lnTo>
                      <a:pt x="98" y="1399"/>
                    </a:lnTo>
                    <a:lnTo>
                      <a:pt x="82" y="1543"/>
                    </a:lnTo>
                    <a:lnTo>
                      <a:pt x="60" y="1292"/>
                    </a:lnTo>
                    <a:lnTo>
                      <a:pt x="36" y="1056"/>
                    </a:lnTo>
                    <a:lnTo>
                      <a:pt x="0" y="832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2833200"/>
                <a:ext cx="1146600" cy="3286440"/>
              </a:xfrm>
              <a:custGeom>
                <a:avLst/>
                <a:gdLst/>
                <a:ahLst/>
                <a:rect l="l" t="t" r="r" b="b"/>
                <a:pathLst>
                  <a:path w="712" h="2000">
                    <a:moveTo>
                      <a:pt x="335" y="489"/>
                    </a:moveTo>
                    <a:lnTo>
                      <a:pt x="321" y="521"/>
                    </a:lnTo>
                    <a:lnTo>
                      <a:pt x="310" y="555"/>
                    </a:lnTo>
                    <a:lnTo>
                      <a:pt x="300" y="590"/>
                    </a:lnTo>
                    <a:lnTo>
                      <a:pt x="288" y="630"/>
                    </a:lnTo>
                    <a:lnTo>
                      <a:pt x="279" y="665"/>
                    </a:lnTo>
                    <a:lnTo>
                      <a:pt x="276" y="699"/>
                    </a:lnTo>
                    <a:lnTo>
                      <a:pt x="269" y="728"/>
                    </a:lnTo>
                    <a:lnTo>
                      <a:pt x="287" y="711"/>
                    </a:lnTo>
                    <a:lnTo>
                      <a:pt x="311" y="694"/>
                    </a:lnTo>
                    <a:lnTo>
                      <a:pt x="336" y="674"/>
                    </a:lnTo>
                    <a:lnTo>
                      <a:pt x="361" y="653"/>
                    </a:lnTo>
                    <a:lnTo>
                      <a:pt x="388" y="636"/>
                    </a:lnTo>
                    <a:lnTo>
                      <a:pt x="414" y="613"/>
                    </a:lnTo>
                    <a:lnTo>
                      <a:pt x="437" y="587"/>
                    </a:lnTo>
                    <a:lnTo>
                      <a:pt x="470" y="553"/>
                    </a:lnTo>
                    <a:lnTo>
                      <a:pt x="494" y="518"/>
                    </a:lnTo>
                    <a:lnTo>
                      <a:pt x="525" y="481"/>
                    </a:lnTo>
                    <a:lnTo>
                      <a:pt x="547" y="457"/>
                    </a:lnTo>
                    <a:lnTo>
                      <a:pt x="568" y="417"/>
                    </a:lnTo>
                    <a:lnTo>
                      <a:pt x="586" y="385"/>
                    </a:lnTo>
                    <a:lnTo>
                      <a:pt x="601" y="342"/>
                    </a:lnTo>
                    <a:lnTo>
                      <a:pt x="611" y="302"/>
                    </a:lnTo>
                    <a:lnTo>
                      <a:pt x="618" y="264"/>
                    </a:lnTo>
                    <a:lnTo>
                      <a:pt x="625" y="236"/>
                    </a:lnTo>
                    <a:lnTo>
                      <a:pt x="626" y="267"/>
                    </a:lnTo>
                    <a:lnTo>
                      <a:pt x="626" y="288"/>
                    </a:lnTo>
                    <a:lnTo>
                      <a:pt x="621" y="316"/>
                    </a:lnTo>
                    <a:lnTo>
                      <a:pt x="610" y="348"/>
                    </a:lnTo>
                    <a:lnTo>
                      <a:pt x="592" y="394"/>
                    </a:lnTo>
                    <a:lnTo>
                      <a:pt x="582" y="429"/>
                    </a:lnTo>
                    <a:lnTo>
                      <a:pt x="564" y="452"/>
                    </a:lnTo>
                    <a:lnTo>
                      <a:pt x="543" y="483"/>
                    </a:lnTo>
                    <a:lnTo>
                      <a:pt x="516" y="521"/>
                    </a:lnTo>
                    <a:lnTo>
                      <a:pt x="492" y="558"/>
                    </a:lnTo>
                    <a:lnTo>
                      <a:pt x="466" y="596"/>
                    </a:lnTo>
                    <a:lnTo>
                      <a:pt x="448" y="627"/>
                    </a:lnTo>
                    <a:lnTo>
                      <a:pt x="428" y="662"/>
                    </a:lnTo>
                    <a:lnTo>
                      <a:pt x="405" y="685"/>
                    </a:lnTo>
                    <a:lnTo>
                      <a:pt x="383" y="711"/>
                    </a:lnTo>
                    <a:lnTo>
                      <a:pt x="359" y="737"/>
                    </a:lnTo>
                    <a:lnTo>
                      <a:pt x="336" y="760"/>
                    </a:lnTo>
                    <a:lnTo>
                      <a:pt x="317" y="780"/>
                    </a:lnTo>
                    <a:lnTo>
                      <a:pt x="292" y="803"/>
                    </a:lnTo>
                    <a:lnTo>
                      <a:pt x="276" y="818"/>
                    </a:lnTo>
                    <a:lnTo>
                      <a:pt x="268" y="826"/>
                    </a:lnTo>
                    <a:lnTo>
                      <a:pt x="276" y="849"/>
                    </a:lnTo>
                    <a:lnTo>
                      <a:pt x="284" y="872"/>
                    </a:lnTo>
                    <a:lnTo>
                      <a:pt x="297" y="904"/>
                    </a:lnTo>
                    <a:lnTo>
                      <a:pt x="320" y="913"/>
                    </a:lnTo>
                    <a:lnTo>
                      <a:pt x="336" y="915"/>
                    </a:lnTo>
                    <a:lnTo>
                      <a:pt x="363" y="924"/>
                    </a:lnTo>
                    <a:lnTo>
                      <a:pt x="388" y="927"/>
                    </a:lnTo>
                    <a:lnTo>
                      <a:pt x="388" y="927"/>
                    </a:lnTo>
                    <a:lnTo>
                      <a:pt x="417" y="927"/>
                    </a:lnTo>
                    <a:lnTo>
                      <a:pt x="443" y="933"/>
                    </a:lnTo>
                    <a:lnTo>
                      <a:pt x="471" y="936"/>
                    </a:lnTo>
                    <a:lnTo>
                      <a:pt x="496" y="944"/>
                    </a:lnTo>
                    <a:lnTo>
                      <a:pt x="518" y="950"/>
                    </a:lnTo>
                    <a:lnTo>
                      <a:pt x="542" y="962"/>
                    </a:lnTo>
                    <a:lnTo>
                      <a:pt x="559" y="973"/>
                    </a:lnTo>
                    <a:lnTo>
                      <a:pt x="578" y="990"/>
                    </a:lnTo>
                    <a:lnTo>
                      <a:pt x="593" y="1008"/>
                    </a:lnTo>
                    <a:lnTo>
                      <a:pt x="616" y="1025"/>
                    </a:lnTo>
                    <a:lnTo>
                      <a:pt x="641" y="1048"/>
                    </a:lnTo>
                    <a:lnTo>
                      <a:pt x="668" y="1068"/>
                    </a:lnTo>
                    <a:lnTo>
                      <a:pt x="688" y="1083"/>
                    </a:lnTo>
                    <a:lnTo>
                      <a:pt x="711" y="1097"/>
                    </a:lnTo>
                    <a:lnTo>
                      <a:pt x="693" y="1106"/>
                    </a:lnTo>
                    <a:lnTo>
                      <a:pt x="675" y="1103"/>
                    </a:lnTo>
                    <a:lnTo>
                      <a:pt x="655" y="1094"/>
                    </a:lnTo>
                    <a:lnTo>
                      <a:pt x="635" y="1083"/>
                    </a:lnTo>
                    <a:lnTo>
                      <a:pt x="606" y="1065"/>
                    </a:lnTo>
                    <a:lnTo>
                      <a:pt x="589" y="1057"/>
                    </a:lnTo>
                    <a:lnTo>
                      <a:pt x="572" y="1048"/>
                    </a:lnTo>
                    <a:lnTo>
                      <a:pt x="549" y="1039"/>
                    </a:lnTo>
                    <a:lnTo>
                      <a:pt x="524" y="1034"/>
                    </a:lnTo>
                    <a:lnTo>
                      <a:pt x="495" y="1028"/>
                    </a:lnTo>
                    <a:lnTo>
                      <a:pt x="466" y="1022"/>
                    </a:lnTo>
                    <a:lnTo>
                      <a:pt x="434" y="1019"/>
                    </a:lnTo>
                    <a:lnTo>
                      <a:pt x="409" y="1019"/>
                    </a:lnTo>
                    <a:lnTo>
                      <a:pt x="381" y="1016"/>
                    </a:lnTo>
                    <a:lnTo>
                      <a:pt x="360" y="1013"/>
                    </a:lnTo>
                    <a:lnTo>
                      <a:pt x="335" y="1011"/>
                    </a:lnTo>
                    <a:lnTo>
                      <a:pt x="307" y="999"/>
                    </a:lnTo>
                    <a:lnTo>
                      <a:pt x="276" y="987"/>
                    </a:lnTo>
                    <a:lnTo>
                      <a:pt x="248" y="973"/>
                    </a:lnTo>
                    <a:lnTo>
                      <a:pt x="215" y="964"/>
                    </a:lnTo>
                    <a:lnTo>
                      <a:pt x="225" y="999"/>
                    </a:lnTo>
                    <a:lnTo>
                      <a:pt x="238" y="1045"/>
                    </a:lnTo>
                    <a:lnTo>
                      <a:pt x="250" y="1103"/>
                    </a:lnTo>
                    <a:lnTo>
                      <a:pt x="254" y="1146"/>
                    </a:lnTo>
                    <a:lnTo>
                      <a:pt x="255" y="1198"/>
                    </a:lnTo>
                    <a:lnTo>
                      <a:pt x="254" y="1235"/>
                    </a:lnTo>
                    <a:lnTo>
                      <a:pt x="252" y="1276"/>
                    </a:lnTo>
                    <a:lnTo>
                      <a:pt x="249" y="1330"/>
                    </a:lnTo>
                    <a:lnTo>
                      <a:pt x="247" y="1402"/>
                    </a:lnTo>
                    <a:lnTo>
                      <a:pt x="248" y="1463"/>
                    </a:lnTo>
                    <a:lnTo>
                      <a:pt x="249" y="1526"/>
                    </a:lnTo>
                    <a:lnTo>
                      <a:pt x="249" y="1575"/>
                    </a:lnTo>
                    <a:lnTo>
                      <a:pt x="247" y="1624"/>
                    </a:lnTo>
                    <a:lnTo>
                      <a:pt x="239" y="1673"/>
                    </a:lnTo>
                    <a:lnTo>
                      <a:pt x="229" y="1734"/>
                    </a:lnTo>
                    <a:lnTo>
                      <a:pt x="220" y="1777"/>
                    </a:lnTo>
                    <a:lnTo>
                      <a:pt x="209" y="1814"/>
                    </a:lnTo>
                    <a:lnTo>
                      <a:pt x="196" y="1863"/>
                    </a:lnTo>
                    <a:lnTo>
                      <a:pt x="186" y="1892"/>
                    </a:lnTo>
                    <a:lnTo>
                      <a:pt x="167" y="1929"/>
                    </a:lnTo>
                    <a:lnTo>
                      <a:pt x="143" y="1961"/>
                    </a:lnTo>
                    <a:lnTo>
                      <a:pt x="123" y="1999"/>
                    </a:lnTo>
                    <a:lnTo>
                      <a:pt x="121" y="1958"/>
                    </a:lnTo>
                    <a:lnTo>
                      <a:pt x="123" y="1909"/>
                    </a:lnTo>
                    <a:lnTo>
                      <a:pt x="127" y="1857"/>
                    </a:lnTo>
                    <a:lnTo>
                      <a:pt x="129" y="1811"/>
                    </a:lnTo>
                    <a:lnTo>
                      <a:pt x="136" y="1777"/>
                    </a:lnTo>
                    <a:lnTo>
                      <a:pt x="142" y="1731"/>
                    </a:lnTo>
                    <a:lnTo>
                      <a:pt x="152" y="1682"/>
                    </a:lnTo>
                    <a:lnTo>
                      <a:pt x="157" y="1641"/>
                    </a:lnTo>
                    <a:lnTo>
                      <a:pt x="158" y="1604"/>
                    </a:lnTo>
                    <a:lnTo>
                      <a:pt x="163" y="1535"/>
                    </a:lnTo>
                    <a:lnTo>
                      <a:pt x="167" y="1463"/>
                    </a:lnTo>
                    <a:lnTo>
                      <a:pt x="171" y="1399"/>
                    </a:lnTo>
                    <a:lnTo>
                      <a:pt x="175" y="1336"/>
                    </a:lnTo>
                    <a:lnTo>
                      <a:pt x="180" y="1270"/>
                    </a:lnTo>
                    <a:lnTo>
                      <a:pt x="181" y="1224"/>
                    </a:lnTo>
                    <a:lnTo>
                      <a:pt x="181" y="1186"/>
                    </a:lnTo>
                    <a:lnTo>
                      <a:pt x="182" y="1140"/>
                    </a:lnTo>
                    <a:lnTo>
                      <a:pt x="181" y="1088"/>
                    </a:lnTo>
                    <a:lnTo>
                      <a:pt x="179" y="1059"/>
                    </a:lnTo>
                    <a:lnTo>
                      <a:pt x="172" y="1016"/>
                    </a:lnTo>
                    <a:lnTo>
                      <a:pt x="167" y="962"/>
                    </a:lnTo>
                    <a:lnTo>
                      <a:pt x="157" y="1002"/>
                    </a:lnTo>
                    <a:lnTo>
                      <a:pt x="146" y="1045"/>
                    </a:lnTo>
                    <a:lnTo>
                      <a:pt x="136" y="1088"/>
                    </a:lnTo>
                    <a:lnTo>
                      <a:pt x="129" y="1137"/>
                    </a:lnTo>
                    <a:lnTo>
                      <a:pt x="123" y="1189"/>
                    </a:lnTo>
                    <a:lnTo>
                      <a:pt x="118" y="1229"/>
                    </a:lnTo>
                    <a:lnTo>
                      <a:pt x="115" y="1278"/>
                    </a:lnTo>
                    <a:lnTo>
                      <a:pt x="110" y="1336"/>
                    </a:lnTo>
                    <a:lnTo>
                      <a:pt x="107" y="1399"/>
                    </a:lnTo>
                    <a:lnTo>
                      <a:pt x="103" y="1451"/>
                    </a:lnTo>
                    <a:lnTo>
                      <a:pt x="99" y="1515"/>
                    </a:lnTo>
                    <a:lnTo>
                      <a:pt x="97" y="1564"/>
                    </a:lnTo>
                    <a:lnTo>
                      <a:pt x="90" y="1618"/>
                    </a:lnTo>
                    <a:lnTo>
                      <a:pt x="86" y="1670"/>
                    </a:lnTo>
                    <a:lnTo>
                      <a:pt x="81" y="1708"/>
                    </a:lnTo>
                    <a:lnTo>
                      <a:pt x="70" y="1745"/>
                    </a:lnTo>
                    <a:lnTo>
                      <a:pt x="57" y="1788"/>
                    </a:lnTo>
                    <a:lnTo>
                      <a:pt x="42" y="1829"/>
                    </a:lnTo>
                    <a:lnTo>
                      <a:pt x="27" y="1869"/>
                    </a:lnTo>
                    <a:lnTo>
                      <a:pt x="15" y="1889"/>
                    </a:lnTo>
                    <a:lnTo>
                      <a:pt x="6" y="1869"/>
                    </a:lnTo>
                    <a:lnTo>
                      <a:pt x="6" y="1765"/>
                    </a:lnTo>
                    <a:lnTo>
                      <a:pt x="6" y="1765"/>
                    </a:lnTo>
                    <a:lnTo>
                      <a:pt x="6" y="1869"/>
                    </a:lnTo>
                    <a:lnTo>
                      <a:pt x="6" y="1765"/>
                    </a:lnTo>
                    <a:lnTo>
                      <a:pt x="6" y="1765"/>
                    </a:lnTo>
                    <a:lnTo>
                      <a:pt x="6" y="1765"/>
                    </a:lnTo>
                    <a:lnTo>
                      <a:pt x="6" y="1765"/>
                    </a:lnTo>
                    <a:lnTo>
                      <a:pt x="6" y="1664"/>
                    </a:lnTo>
                    <a:lnTo>
                      <a:pt x="6" y="1664"/>
                    </a:lnTo>
                    <a:lnTo>
                      <a:pt x="13" y="1624"/>
                    </a:lnTo>
                    <a:lnTo>
                      <a:pt x="26" y="1572"/>
                    </a:lnTo>
                    <a:lnTo>
                      <a:pt x="36" y="1526"/>
                    </a:lnTo>
                    <a:lnTo>
                      <a:pt x="46" y="1474"/>
                    </a:lnTo>
                    <a:lnTo>
                      <a:pt x="56" y="1428"/>
                    </a:lnTo>
                    <a:lnTo>
                      <a:pt x="68" y="1376"/>
                    </a:lnTo>
                    <a:lnTo>
                      <a:pt x="75" y="1327"/>
                    </a:lnTo>
                    <a:lnTo>
                      <a:pt x="84" y="1278"/>
                    </a:lnTo>
                    <a:lnTo>
                      <a:pt x="93" y="1229"/>
                    </a:lnTo>
                    <a:lnTo>
                      <a:pt x="97" y="1195"/>
                    </a:lnTo>
                    <a:lnTo>
                      <a:pt x="104" y="1157"/>
                    </a:lnTo>
                    <a:lnTo>
                      <a:pt x="110" y="1111"/>
                    </a:lnTo>
                    <a:lnTo>
                      <a:pt x="118" y="1077"/>
                    </a:lnTo>
                    <a:lnTo>
                      <a:pt x="114" y="1048"/>
                    </a:lnTo>
                    <a:lnTo>
                      <a:pt x="112" y="1013"/>
                    </a:lnTo>
                    <a:lnTo>
                      <a:pt x="113" y="985"/>
                    </a:lnTo>
                    <a:lnTo>
                      <a:pt x="117" y="950"/>
                    </a:lnTo>
                    <a:lnTo>
                      <a:pt x="97" y="944"/>
                    </a:lnTo>
                    <a:lnTo>
                      <a:pt x="71" y="933"/>
                    </a:lnTo>
                    <a:lnTo>
                      <a:pt x="50" y="959"/>
                    </a:lnTo>
                    <a:lnTo>
                      <a:pt x="30" y="979"/>
                    </a:lnTo>
                    <a:lnTo>
                      <a:pt x="8" y="999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843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947"/>
                    </a:lnTo>
                    <a:lnTo>
                      <a:pt x="6" y="843"/>
                    </a:lnTo>
                    <a:lnTo>
                      <a:pt x="13" y="843"/>
                    </a:lnTo>
                    <a:lnTo>
                      <a:pt x="36" y="826"/>
                    </a:lnTo>
                    <a:lnTo>
                      <a:pt x="41" y="800"/>
                    </a:lnTo>
                    <a:lnTo>
                      <a:pt x="46" y="777"/>
                    </a:lnTo>
                    <a:lnTo>
                      <a:pt x="51" y="751"/>
                    </a:lnTo>
                    <a:lnTo>
                      <a:pt x="50" y="743"/>
                    </a:lnTo>
                    <a:lnTo>
                      <a:pt x="36" y="711"/>
                    </a:lnTo>
                    <a:lnTo>
                      <a:pt x="16" y="676"/>
                    </a:lnTo>
                    <a:lnTo>
                      <a:pt x="0" y="642"/>
                    </a:lnTo>
                    <a:lnTo>
                      <a:pt x="6" y="639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6" y="538"/>
                    </a:lnTo>
                    <a:lnTo>
                      <a:pt x="3" y="529"/>
                    </a:lnTo>
                    <a:lnTo>
                      <a:pt x="30" y="567"/>
                    </a:lnTo>
                    <a:lnTo>
                      <a:pt x="51" y="602"/>
                    </a:lnTo>
                    <a:lnTo>
                      <a:pt x="65" y="627"/>
                    </a:lnTo>
                    <a:lnTo>
                      <a:pt x="76" y="659"/>
                    </a:lnTo>
                    <a:lnTo>
                      <a:pt x="94" y="702"/>
                    </a:lnTo>
                    <a:lnTo>
                      <a:pt x="109" y="737"/>
                    </a:lnTo>
                    <a:lnTo>
                      <a:pt x="123" y="769"/>
                    </a:lnTo>
                    <a:lnTo>
                      <a:pt x="142" y="809"/>
                    </a:lnTo>
                    <a:lnTo>
                      <a:pt x="150" y="794"/>
                    </a:lnTo>
                    <a:lnTo>
                      <a:pt x="158" y="763"/>
                    </a:lnTo>
                    <a:lnTo>
                      <a:pt x="167" y="737"/>
                    </a:lnTo>
                    <a:lnTo>
                      <a:pt x="162" y="711"/>
                    </a:lnTo>
                    <a:lnTo>
                      <a:pt x="150" y="671"/>
                    </a:lnTo>
                    <a:lnTo>
                      <a:pt x="137" y="630"/>
                    </a:lnTo>
                    <a:lnTo>
                      <a:pt x="123" y="593"/>
                    </a:lnTo>
                    <a:lnTo>
                      <a:pt x="109" y="558"/>
                    </a:lnTo>
                    <a:lnTo>
                      <a:pt x="85" y="512"/>
                    </a:lnTo>
                    <a:lnTo>
                      <a:pt x="65" y="466"/>
                    </a:lnTo>
                    <a:lnTo>
                      <a:pt x="47" y="432"/>
                    </a:lnTo>
                    <a:lnTo>
                      <a:pt x="32" y="400"/>
                    </a:lnTo>
                    <a:lnTo>
                      <a:pt x="16" y="362"/>
                    </a:lnTo>
                    <a:lnTo>
                      <a:pt x="6" y="334"/>
                    </a:lnTo>
                    <a:lnTo>
                      <a:pt x="6" y="334"/>
                    </a:lnTo>
                    <a:lnTo>
                      <a:pt x="6" y="334"/>
                    </a:lnTo>
                    <a:lnTo>
                      <a:pt x="6" y="334"/>
                    </a:lnTo>
                    <a:lnTo>
                      <a:pt x="6" y="230"/>
                    </a:lnTo>
                    <a:lnTo>
                      <a:pt x="6" y="334"/>
                    </a:lnTo>
                    <a:lnTo>
                      <a:pt x="6" y="334"/>
                    </a:lnTo>
                    <a:lnTo>
                      <a:pt x="6" y="334"/>
                    </a:lnTo>
                    <a:lnTo>
                      <a:pt x="6" y="230"/>
                    </a:lnTo>
                    <a:lnTo>
                      <a:pt x="6" y="230"/>
                    </a:lnTo>
                    <a:lnTo>
                      <a:pt x="6" y="276"/>
                    </a:lnTo>
                    <a:lnTo>
                      <a:pt x="6" y="247"/>
                    </a:lnTo>
                    <a:lnTo>
                      <a:pt x="12" y="285"/>
                    </a:lnTo>
                    <a:lnTo>
                      <a:pt x="31" y="325"/>
                    </a:lnTo>
                    <a:lnTo>
                      <a:pt x="46" y="362"/>
                    </a:lnTo>
                    <a:lnTo>
                      <a:pt x="68" y="414"/>
                    </a:lnTo>
                    <a:lnTo>
                      <a:pt x="81" y="446"/>
                    </a:lnTo>
                    <a:lnTo>
                      <a:pt x="99" y="489"/>
                    </a:lnTo>
                    <a:lnTo>
                      <a:pt x="115" y="547"/>
                    </a:lnTo>
                    <a:lnTo>
                      <a:pt x="131" y="590"/>
                    </a:lnTo>
                    <a:lnTo>
                      <a:pt x="144" y="636"/>
                    </a:lnTo>
                    <a:lnTo>
                      <a:pt x="165" y="711"/>
                    </a:lnTo>
                    <a:lnTo>
                      <a:pt x="172" y="751"/>
                    </a:lnTo>
                    <a:lnTo>
                      <a:pt x="177" y="777"/>
                    </a:lnTo>
                    <a:lnTo>
                      <a:pt x="187" y="737"/>
                    </a:lnTo>
                    <a:lnTo>
                      <a:pt x="201" y="694"/>
                    </a:lnTo>
                    <a:lnTo>
                      <a:pt x="216" y="650"/>
                    </a:lnTo>
                    <a:lnTo>
                      <a:pt x="229" y="607"/>
                    </a:lnTo>
                    <a:lnTo>
                      <a:pt x="242" y="567"/>
                    </a:lnTo>
                    <a:lnTo>
                      <a:pt x="254" y="529"/>
                    </a:lnTo>
                    <a:lnTo>
                      <a:pt x="268" y="495"/>
                    </a:lnTo>
                    <a:lnTo>
                      <a:pt x="286" y="449"/>
                    </a:lnTo>
                    <a:lnTo>
                      <a:pt x="305" y="403"/>
                    </a:lnTo>
                    <a:lnTo>
                      <a:pt x="322" y="351"/>
                    </a:lnTo>
                    <a:lnTo>
                      <a:pt x="341" y="299"/>
                    </a:lnTo>
                    <a:lnTo>
                      <a:pt x="355" y="256"/>
                    </a:lnTo>
                    <a:lnTo>
                      <a:pt x="373" y="204"/>
                    </a:lnTo>
                    <a:lnTo>
                      <a:pt x="387" y="169"/>
                    </a:lnTo>
                    <a:lnTo>
                      <a:pt x="404" y="135"/>
                    </a:lnTo>
                    <a:lnTo>
                      <a:pt x="419" y="109"/>
                    </a:lnTo>
                    <a:lnTo>
                      <a:pt x="432" y="77"/>
                    </a:lnTo>
                    <a:lnTo>
                      <a:pt x="445" y="34"/>
                    </a:lnTo>
                    <a:lnTo>
                      <a:pt x="456" y="0"/>
                    </a:lnTo>
                    <a:lnTo>
                      <a:pt x="453" y="28"/>
                    </a:lnTo>
                    <a:lnTo>
                      <a:pt x="451" y="69"/>
                    </a:lnTo>
                    <a:lnTo>
                      <a:pt x="447" y="112"/>
                    </a:lnTo>
                    <a:lnTo>
                      <a:pt x="438" y="152"/>
                    </a:lnTo>
                    <a:lnTo>
                      <a:pt x="428" y="190"/>
                    </a:lnTo>
                    <a:lnTo>
                      <a:pt x="412" y="244"/>
                    </a:lnTo>
                    <a:lnTo>
                      <a:pt x="399" y="290"/>
                    </a:lnTo>
                    <a:lnTo>
                      <a:pt x="384" y="348"/>
                    </a:lnTo>
                    <a:lnTo>
                      <a:pt x="368" y="394"/>
                    </a:lnTo>
                    <a:lnTo>
                      <a:pt x="350" y="449"/>
                    </a:lnTo>
                    <a:lnTo>
                      <a:pt x="335" y="48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95920" y="4609800"/>
                <a:ext cx="1685520" cy="3106800"/>
                <a:chOff x="295920" y="4609800"/>
                <a:chExt cx="1685520" cy="3106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55400" y="4609800"/>
                  <a:ext cx="1526040" cy="2895480"/>
                </a:xfrm>
                <a:custGeom>
                  <a:avLst/>
                  <a:gdLst/>
                  <a:ahLst/>
                  <a:rect l="l" t="t" r="r" b="b"/>
                  <a:pathLst>
                    <a:path w="948" h="1762">
                      <a:moveTo>
                        <a:pt x="298" y="449"/>
                      </a:moveTo>
                      <a:lnTo>
                        <a:pt x="305" y="406"/>
                      </a:lnTo>
                      <a:lnTo>
                        <a:pt x="317" y="357"/>
                      </a:lnTo>
                      <a:lnTo>
                        <a:pt x="330" y="308"/>
                      </a:lnTo>
                      <a:lnTo>
                        <a:pt x="345" y="265"/>
                      </a:lnTo>
                      <a:lnTo>
                        <a:pt x="360" y="221"/>
                      </a:lnTo>
                      <a:lnTo>
                        <a:pt x="372" y="190"/>
                      </a:lnTo>
                      <a:lnTo>
                        <a:pt x="384" y="161"/>
                      </a:lnTo>
                      <a:lnTo>
                        <a:pt x="398" y="135"/>
                      </a:lnTo>
                      <a:lnTo>
                        <a:pt x="410" y="112"/>
                      </a:lnTo>
                      <a:lnTo>
                        <a:pt x="423" y="92"/>
                      </a:lnTo>
                      <a:lnTo>
                        <a:pt x="437" y="74"/>
                      </a:lnTo>
                      <a:lnTo>
                        <a:pt x="450" y="57"/>
                      </a:lnTo>
                      <a:lnTo>
                        <a:pt x="463" y="46"/>
                      </a:lnTo>
                      <a:lnTo>
                        <a:pt x="480" y="37"/>
                      </a:lnTo>
                      <a:lnTo>
                        <a:pt x="497" y="28"/>
                      </a:lnTo>
                      <a:lnTo>
                        <a:pt x="512" y="20"/>
                      </a:lnTo>
                      <a:lnTo>
                        <a:pt x="529" y="17"/>
                      </a:lnTo>
                      <a:lnTo>
                        <a:pt x="545" y="14"/>
                      </a:lnTo>
                      <a:lnTo>
                        <a:pt x="562" y="11"/>
                      </a:lnTo>
                      <a:lnTo>
                        <a:pt x="584" y="5"/>
                      </a:lnTo>
                      <a:lnTo>
                        <a:pt x="600" y="11"/>
                      </a:lnTo>
                      <a:lnTo>
                        <a:pt x="615" y="14"/>
                      </a:lnTo>
                      <a:lnTo>
                        <a:pt x="630" y="14"/>
                      </a:lnTo>
                      <a:lnTo>
                        <a:pt x="645" y="11"/>
                      </a:lnTo>
                      <a:lnTo>
                        <a:pt x="662" y="5"/>
                      </a:lnTo>
                      <a:lnTo>
                        <a:pt x="678" y="0"/>
                      </a:lnTo>
                      <a:lnTo>
                        <a:pt x="670" y="11"/>
                      </a:lnTo>
                      <a:lnTo>
                        <a:pt x="662" y="23"/>
                      </a:lnTo>
                      <a:lnTo>
                        <a:pt x="656" y="37"/>
                      </a:lnTo>
                      <a:lnTo>
                        <a:pt x="649" y="54"/>
                      </a:lnTo>
                      <a:lnTo>
                        <a:pt x="637" y="54"/>
                      </a:lnTo>
                      <a:lnTo>
                        <a:pt x="622" y="57"/>
                      </a:lnTo>
                      <a:lnTo>
                        <a:pt x="612" y="63"/>
                      </a:lnTo>
                      <a:lnTo>
                        <a:pt x="600" y="72"/>
                      </a:lnTo>
                      <a:lnTo>
                        <a:pt x="588" y="77"/>
                      </a:lnTo>
                      <a:lnTo>
                        <a:pt x="575" y="83"/>
                      </a:lnTo>
                      <a:lnTo>
                        <a:pt x="562" y="92"/>
                      </a:lnTo>
                      <a:lnTo>
                        <a:pt x="549" y="100"/>
                      </a:lnTo>
                      <a:lnTo>
                        <a:pt x="535" y="112"/>
                      </a:lnTo>
                      <a:lnTo>
                        <a:pt x="521" y="123"/>
                      </a:lnTo>
                      <a:lnTo>
                        <a:pt x="509" y="135"/>
                      </a:lnTo>
                      <a:lnTo>
                        <a:pt x="494" y="152"/>
                      </a:lnTo>
                      <a:lnTo>
                        <a:pt x="480" y="170"/>
                      </a:lnTo>
                      <a:lnTo>
                        <a:pt x="464" y="190"/>
                      </a:lnTo>
                      <a:lnTo>
                        <a:pt x="450" y="213"/>
                      </a:lnTo>
                      <a:lnTo>
                        <a:pt x="434" y="247"/>
                      </a:lnTo>
                      <a:lnTo>
                        <a:pt x="421" y="285"/>
                      </a:lnTo>
                      <a:lnTo>
                        <a:pt x="407" y="334"/>
                      </a:lnTo>
                      <a:lnTo>
                        <a:pt x="392" y="397"/>
                      </a:lnTo>
                      <a:lnTo>
                        <a:pt x="378" y="466"/>
                      </a:lnTo>
                      <a:lnTo>
                        <a:pt x="360" y="550"/>
                      </a:lnTo>
                      <a:lnTo>
                        <a:pt x="389" y="515"/>
                      </a:lnTo>
                      <a:lnTo>
                        <a:pt x="413" y="487"/>
                      </a:lnTo>
                      <a:lnTo>
                        <a:pt x="446" y="446"/>
                      </a:lnTo>
                      <a:lnTo>
                        <a:pt x="480" y="406"/>
                      </a:lnTo>
                      <a:lnTo>
                        <a:pt x="494" y="397"/>
                      </a:lnTo>
                      <a:lnTo>
                        <a:pt x="509" y="383"/>
                      </a:lnTo>
                      <a:lnTo>
                        <a:pt x="525" y="374"/>
                      </a:lnTo>
                      <a:lnTo>
                        <a:pt x="544" y="363"/>
                      </a:lnTo>
                      <a:lnTo>
                        <a:pt x="563" y="354"/>
                      </a:lnTo>
                      <a:lnTo>
                        <a:pt x="581" y="351"/>
                      </a:lnTo>
                      <a:lnTo>
                        <a:pt x="595" y="348"/>
                      </a:lnTo>
                      <a:lnTo>
                        <a:pt x="616" y="342"/>
                      </a:lnTo>
                      <a:lnTo>
                        <a:pt x="636" y="345"/>
                      </a:lnTo>
                      <a:lnTo>
                        <a:pt x="651" y="348"/>
                      </a:lnTo>
                      <a:lnTo>
                        <a:pt x="671" y="354"/>
                      </a:lnTo>
                      <a:lnTo>
                        <a:pt x="690" y="357"/>
                      </a:lnTo>
                      <a:lnTo>
                        <a:pt x="708" y="360"/>
                      </a:lnTo>
                      <a:lnTo>
                        <a:pt x="726" y="366"/>
                      </a:lnTo>
                      <a:lnTo>
                        <a:pt x="745" y="368"/>
                      </a:lnTo>
                      <a:lnTo>
                        <a:pt x="764" y="374"/>
                      </a:lnTo>
                      <a:lnTo>
                        <a:pt x="783" y="377"/>
                      </a:lnTo>
                      <a:lnTo>
                        <a:pt x="802" y="383"/>
                      </a:lnTo>
                      <a:lnTo>
                        <a:pt x="823" y="389"/>
                      </a:lnTo>
                      <a:lnTo>
                        <a:pt x="846" y="394"/>
                      </a:lnTo>
                      <a:lnTo>
                        <a:pt x="866" y="400"/>
                      </a:lnTo>
                      <a:lnTo>
                        <a:pt x="899" y="412"/>
                      </a:lnTo>
                      <a:lnTo>
                        <a:pt x="910" y="409"/>
                      </a:lnTo>
                      <a:lnTo>
                        <a:pt x="918" y="412"/>
                      </a:lnTo>
                      <a:lnTo>
                        <a:pt x="928" y="420"/>
                      </a:lnTo>
                      <a:lnTo>
                        <a:pt x="947" y="435"/>
                      </a:lnTo>
                      <a:lnTo>
                        <a:pt x="915" y="420"/>
                      </a:lnTo>
                      <a:lnTo>
                        <a:pt x="901" y="415"/>
                      </a:lnTo>
                      <a:lnTo>
                        <a:pt x="886" y="415"/>
                      </a:lnTo>
                      <a:lnTo>
                        <a:pt x="858" y="420"/>
                      </a:lnTo>
                      <a:lnTo>
                        <a:pt x="838" y="423"/>
                      </a:lnTo>
                      <a:lnTo>
                        <a:pt x="813" y="426"/>
                      </a:lnTo>
                      <a:lnTo>
                        <a:pt x="792" y="426"/>
                      </a:lnTo>
                      <a:lnTo>
                        <a:pt x="771" y="429"/>
                      </a:lnTo>
                      <a:lnTo>
                        <a:pt x="752" y="432"/>
                      </a:lnTo>
                      <a:lnTo>
                        <a:pt x="733" y="426"/>
                      </a:lnTo>
                      <a:lnTo>
                        <a:pt x="712" y="423"/>
                      </a:lnTo>
                      <a:lnTo>
                        <a:pt x="690" y="426"/>
                      </a:lnTo>
                      <a:lnTo>
                        <a:pt x="670" y="432"/>
                      </a:lnTo>
                      <a:lnTo>
                        <a:pt x="652" y="435"/>
                      </a:lnTo>
                      <a:lnTo>
                        <a:pt x="632" y="438"/>
                      </a:lnTo>
                      <a:lnTo>
                        <a:pt x="616" y="438"/>
                      </a:lnTo>
                      <a:lnTo>
                        <a:pt x="597" y="440"/>
                      </a:lnTo>
                      <a:lnTo>
                        <a:pt x="581" y="449"/>
                      </a:lnTo>
                      <a:lnTo>
                        <a:pt x="564" y="458"/>
                      </a:lnTo>
                      <a:lnTo>
                        <a:pt x="549" y="466"/>
                      </a:lnTo>
                      <a:lnTo>
                        <a:pt x="532" y="475"/>
                      </a:lnTo>
                      <a:lnTo>
                        <a:pt x="514" y="487"/>
                      </a:lnTo>
                      <a:lnTo>
                        <a:pt x="495" y="498"/>
                      </a:lnTo>
                      <a:lnTo>
                        <a:pt x="480" y="507"/>
                      </a:lnTo>
                      <a:lnTo>
                        <a:pt x="450" y="527"/>
                      </a:lnTo>
                      <a:lnTo>
                        <a:pt x="433" y="536"/>
                      </a:lnTo>
                      <a:lnTo>
                        <a:pt x="407" y="562"/>
                      </a:lnTo>
                      <a:lnTo>
                        <a:pt x="372" y="596"/>
                      </a:lnTo>
                      <a:lnTo>
                        <a:pt x="409" y="605"/>
                      </a:lnTo>
                      <a:lnTo>
                        <a:pt x="451" y="611"/>
                      </a:lnTo>
                      <a:lnTo>
                        <a:pt x="459" y="613"/>
                      </a:lnTo>
                      <a:lnTo>
                        <a:pt x="480" y="639"/>
                      </a:lnTo>
                      <a:lnTo>
                        <a:pt x="493" y="654"/>
                      </a:lnTo>
                      <a:lnTo>
                        <a:pt x="505" y="668"/>
                      </a:lnTo>
                      <a:lnTo>
                        <a:pt x="507" y="677"/>
                      </a:lnTo>
                      <a:lnTo>
                        <a:pt x="514" y="709"/>
                      </a:lnTo>
                      <a:lnTo>
                        <a:pt x="529" y="758"/>
                      </a:lnTo>
                      <a:lnTo>
                        <a:pt x="513" y="737"/>
                      </a:lnTo>
                      <a:lnTo>
                        <a:pt x="495" y="711"/>
                      </a:lnTo>
                      <a:lnTo>
                        <a:pt x="480" y="700"/>
                      </a:lnTo>
                      <a:lnTo>
                        <a:pt x="451" y="683"/>
                      </a:lnTo>
                      <a:lnTo>
                        <a:pt x="430" y="668"/>
                      </a:lnTo>
                      <a:lnTo>
                        <a:pt x="409" y="654"/>
                      </a:lnTo>
                      <a:lnTo>
                        <a:pt x="397" y="645"/>
                      </a:lnTo>
                      <a:lnTo>
                        <a:pt x="373" y="654"/>
                      </a:lnTo>
                      <a:lnTo>
                        <a:pt x="356" y="660"/>
                      </a:lnTo>
                      <a:lnTo>
                        <a:pt x="336" y="668"/>
                      </a:lnTo>
                      <a:lnTo>
                        <a:pt x="346" y="677"/>
                      </a:lnTo>
                      <a:lnTo>
                        <a:pt x="358" y="685"/>
                      </a:lnTo>
                      <a:lnTo>
                        <a:pt x="374" y="703"/>
                      </a:lnTo>
                      <a:lnTo>
                        <a:pt x="392" y="700"/>
                      </a:lnTo>
                      <a:lnTo>
                        <a:pt x="422" y="703"/>
                      </a:lnTo>
                      <a:lnTo>
                        <a:pt x="439" y="711"/>
                      </a:lnTo>
                      <a:lnTo>
                        <a:pt x="463" y="726"/>
                      </a:lnTo>
                      <a:lnTo>
                        <a:pt x="480" y="740"/>
                      </a:lnTo>
                      <a:lnTo>
                        <a:pt x="500" y="752"/>
                      </a:lnTo>
                      <a:lnTo>
                        <a:pt x="522" y="766"/>
                      </a:lnTo>
                      <a:lnTo>
                        <a:pt x="543" y="781"/>
                      </a:lnTo>
                      <a:lnTo>
                        <a:pt x="560" y="786"/>
                      </a:lnTo>
                      <a:lnTo>
                        <a:pt x="575" y="792"/>
                      </a:lnTo>
                      <a:lnTo>
                        <a:pt x="590" y="804"/>
                      </a:lnTo>
                      <a:lnTo>
                        <a:pt x="608" y="815"/>
                      </a:lnTo>
                      <a:lnTo>
                        <a:pt x="627" y="835"/>
                      </a:lnTo>
                      <a:lnTo>
                        <a:pt x="646" y="856"/>
                      </a:lnTo>
                      <a:lnTo>
                        <a:pt x="654" y="873"/>
                      </a:lnTo>
                      <a:lnTo>
                        <a:pt x="666" y="907"/>
                      </a:lnTo>
                      <a:lnTo>
                        <a:pt x="682" y="948"/>
                      </a:lnTo>
                      <a:lnTo>
                        <a:pt x="693" y="982"/>
                      </a:lnTo>
                      <a:lnTo>
                        <a:pt x="704" y="1020"/>
                      </a:lnTo>
                      <a:lnTo>
                        <a:pt x="714" y="1057"/>
                      </a:lnTo>
                      <a:lnTo>
                        <a:pt x="724" y="1095"/>
                      </a:lnTo>
                      <a:lnTo>
                        <a:pt x="733" y="1129"/>
                      </a:lnTo>
                      <a:lnTo>
                        <a:pt x="745" y="1167"/>
                      </a:lnTo>
                      <a:lnTo>
                        <a:pt x="757" y="1213"/>
                      </a:lnTo>
                      <a:lnTo>
                        <a:pt x="768" y="1256"/>
                      </a:lnTo>
                      <a:lnTo>
                        <a:pt x="779" y="1294"/>
                      </a:lnTo>
                      <a:lnTo>
                        <a:pt x="795" y="1334"/>
                      </a:lnTo>
                      <a:lnTo>
                        <a:pt x="775" y="1299"/>
                      </a:lnTo>
                      <a:lnTo>
                        <a:pt x="762" y="1279"/>
                      </a:lnTo>
                      <a:lnTo>
                        <a:pt x="744" y="1250"/>
                      </a:lnTo>
                      <a:lnTo>
                        <a:pt x="726" y="1222"/>
                      </a:lnTo>
                      <a:lnTo>
                        <a:pt x="712" y="1193"/>
                      </a:lnTo>
                      <a:lnTo>
                        <a:pt x="698" y="1170"/>
                      </a:lnTo>
                      <a:lnTo>
                        <a:pt x="685" y="1149"/>
                      </a:lnTo>
                      <a:lnTo>
                        <a:pt x="671" y="1129"/>
                      </a:lnTo>
                      <a:lnTo>
                        <a:pt x="656" y="1106"/>
                      </a:lnTo>
                      <a:lnTo>
                        <a:pt x="642" y="1086"/>
                      </a:lnTo>
                      <a:lnTo>
                        <a:pt x="628" y="1063"/>
                      </a:lnTo>
                      <a:lnTo>
                        <a:pt x="612" y="1037"/>
                      </a:lnTo>
                      <a:lnTo>
                        <a:pt x="595" y="1008"/>
                      </a:lnTo>
                      <a:lnTo>
                        <a:pt x="577" y="977"/>
                      </a:lnTo>
                      <a:lnTo>
                        <a:pt x="560" y="948"/>
                      </a:lnTo>
                      <a:lnTo>
                        <a:pt x="545" y="925"/>
                      </a:lnTo>
                      <a:lnTo>
                        <a:pt x="530" y="902"/>
                      </a:lnTo>
                      <a:lnTo>
                        <a:pt x="511" y="881"/>
                      </a:lnTo>
                      <a:lnTo>
                        <a:pt x="495" y="867"/>
                      </a:lnTo>
                      <a:lnTo>
                        <a:pt x="480" y="853"/>
                      </a:lnTo>
                      <a:lnTo>
                        <a:pt x="456" y="838"/>
                      </a:lnTo>
                      <a:lnTo>
                        <a:pt x="435" y="824"/>
                      </a:lnTo>
                      <a:lnTo>
                        <a:pt x="419" y="812"/>
                      </a:lnTo>
                      <a:lnTo>
                        <a:pt x="402" y="801"/>
                      </a:lnTo>
                      <a:lnTo>
                        <a:pt x="378" y="772"/>
                      </a:lnTo>
                      <a:lnTo>
                        <a:pt x="353" y="746"/>
                      </a:lnTo>
                      <a:lnTo>
                        <a:pt x="390" y="804"/>
                      </a:lnTo>
                      <a:lnTo>
                        <a:pt x="394" y="815"/>
                      </a:lnTo>
                      <a:lnTo>
                        <a:pt x="402" y="841"/>
                      </a:lnTo>
                      <a:lnTo>
                        <a:pt x="411" y="870"/>
                      </a:lnTo>
                      <a:lnTo>
                        <a:pt x="422" y="907"/>
                      </a:lnTo>
                      <a:lnTo>
                        <a:pt x="434" y="942"/>
                      </a:lnTo>
                      <a:lnTo>
                        <a:pt x="445" y="979"/>
                      </a:lnTo>
                      <a:lnTo>
                        <a:pt x="458" y="1020"/>
                      </a:lnTo>
                      <a:lnTo>
                        <a:pt x="468" y="1054"/>
                      </a:lnTo>
                      <a:lnTo>
                        <a:pt x="480" y="1086"/>
                      </a:lnTo>
                      <a:lnTo>
                        <a:pt x="490" y="1124"/>
                      </a:lnTo>
                      <a:lnTo>
                        <a:pt x="503" y="1173"/>
                      </a:lnTo>
                      <a:lnTo>
                        <a:pt x="514" y="1213"/>
                      </a:lnTo>
                      <a:lnTo>
                        <a:pt x="523" y="1245"/>
                      </a:lnTo>
                      <a:lnTo>
                        <a:pt x="532" y="1282"/>
                      </a:lnTo>
                      <a:lnTo>
                        <a:pt x="540" y="1320"/>
                      </a:lnTo>
                      <a:lnTo>
                        <a:pt x="545" y="1357"/>
                      </a:lnTo>
                      <a:lnTo>
                        <a:pt x="549" y="1383"/>
                      </a:lnTo>
                      <a:lnTo>
                        <a:pt x="552" y="1423"/>
                      </a:lnTo>
                      <a:lnTo>
                        <a:pt x="554" y="1472"/>
                      </a:lnTo>
                      <a:lnTo>
                        <a:pt x="556" y="1521"/>
                      </a:lnTo>
                      <a:lnTo>
                        <a:pt x="560" y="1573"/>
                      </a:lnTo>
                      <a:lnTo>
                        <a:pt x="563" y="1619"/>
                      </a:lnTo>
                      <a:lnTo>
                        <a:pt x="565" y="1671"/>
                      </a:lnTo>
                      <a:lnTo>
                        <a:pt x="550" y="1619"/>
                      </a:lnTo>
                      <a:lnTo>
                        <a:pt x="539" y="1588"/>
                      </a:lnTo>
                      <a:lnTo>
                        <a:pt x="529" y="1553"/>
                      </a:lnTo>
                      <a:lnTo>
                        <a:pt x="521" y="1524"/>
                      </a:lnTo>
                      <a:lnTo>
                        <a:pt x="514" y="1490"/>
                      </a:lnTo>
                      <a:lnTo>
                        <a:pt x="509" y="1449"/>
                      </a:lnTo>
                      <a:lnTo>
                        <a:pt x="501" y="1403"/>
                      </a:lnTo>
                      <a:lnTo>
                        <a:pt x="493" y="1360"/>
                      </a:lnTo>
                      <a:lnTo>
                        <a:pt x="485" y="1314"/>
                      </a:lnTo>
                      <a:lnTo>
                        <a:pt x="478" y="1273"/>
                      </a:lnTo>
                      <a:lnTo>
                        <a:pt x="468" y="1233"/>
                      </a:lnTo>
                      <a:lnTo>
                        <a:pt x="458" y="1198"/>
                      </a:lnTo>
                      <a:lnTo>
                        <a:pt x="449" y="1167"/>
                      </a:lnTo>
                      <a:lnTo>
                        <a:pt x="437" y="1129"/>
                      </a:lnTo>
                      <a:lnTo>
                        <a:pt x="423" y="1092"/>
                      </a:lnTo>
                      <a:lnTo>
                        <a:pt x="412" y="1063"/>
                      </a:lnTo>
                      <a:lnTo>
                        <a:pt x="401" y="1031"/>
                      </a:lnTo>
                      <a:lnTo>
                        <a:pt x="399" y="1002"/>
                      </a:lnTo>
                      <a:lnTo>
                        <a:pt x="391" y="959"/>
                      </a:lnTo>
                      <a:lnTo>
                        <a:pt x="383" y="925"/>
                      </a:lnTo>
                      <a:lnTo>
                        <a:pt x="377" y="887"/>
                      </a:lnTo>
                      <a:lnTo>
                        <a:pt x="372" y="873"/>
                      </a:lnTo>
                      <a:lnTo>
                        <a:pt x="357" y="838"/>
                      </a:lnTo>
                      <a:lnTo>
                        <a:pt x="348" y="804"/>
                      </a:lnTo>
                      <a:lnTo>
                        <a:pt x="339" y="772"/>
                      </a:lnTo>
                      <a:lnTo>
                        <a:pt x="330" y="740"/>
                      </a:lnTo>
                      <a:lnTo>
                        <a:pt x="312" y="758"/>
                      </a:lnTo>
                      <a:lnTo>
                        <a:pt x="296" y="783"/>
                      </a:lnTo>
                      <a:lnTo>
                        <a:pt x="279" y="818"/>
                      </a:lnTo>
                      <a:lnTo>
                        <a:pt x="261" y="850"/>
                      </a:lnTo>
                      <a:lnTo>
                        <a:pt x="248" y="879"/>
                      </a:lnTo>
                      <a:lnTo>
                        <a:pt x="237" y="913"/>
                      </a:lnTo>
                      <a:lnTo>
                        <a:pt x="225" y="956"/>
                      </a:lnTo>
                      <a:lnTo>
                        <a:pt x="211" y="1008"/>
                      </a:lnTo>
                      <a:lnTo>
                        <a:pt x="198" y="1049"/>
                      </a:lnTo>
                      <a:lnTo>
                        <a:pt x="184" y="1098"/>
                      </a:lnTo>
                      <a:lnTo>
                        <a:pt x="174" y="1144"/>
                      </a:lnTo>
                      <a:lnTo>
                        <a:pt x="164" y="1184"/>
                      </a:lnTo>
                      <a:lnTo>
                        <a:pt x="153" y="1224"/>
                      </a:lnTo>
                      <a:lnTo>
                        <a:pt x="144" y="1268"/>
                      </a:lnTo>
                      <a:lnTo>
                        <a:pt x="134" y="1314"/>
                      </a:lnTo>
                      <a:lnTo>
                        <a:pt x="125" y="1360"/>
                      </a:lnTo>
                      <a:lnTo>
                        <a:pt x="111" y="1412"/>
                      </a:lnTo>
                      <a:lnTo>
                        <a:pt x="98" y="1464"/>
                      </a:lnTo>
                      <a:lnTo>
                        <a:pt x="83" y="1518"/>
                      </a:lnTo>
                      <a:lnTo>
                        <a:pt x="71" y="1567"/>
                      </a:lnTo>
                      <a:lnTo>
                        <a:pt x="62" y="1596"/>
                      </a:lnTo>
                      <a:lnTo>
                        <a:pt x="51" y="1628"/>
                      </a:lnTo>
                      <a:lnTo>
                        <a:pt x="40" y="1660"/>
                      </a:lnTo>
                      <a:lnTo>
                        <a:pt x="28" y="1691"/>
                      </a:lnTo>
                      <a:lnTo>
                        <a:pt x="16" y="1720"/>
                      </a:lnTo>
                      <a:lnTo>
                        <a:pt x="0" y="1761"/>
                      </a:lnTo>
                      <a:lnTo>
                        <a:pt x="6" y="1712"/>
                      </a:lnTo>
                      <a:lnTo>
                        <a:pt x="11" y="1674"/>
                      </a:lnTo>
                      <a:lnTo>
                        <a:pt x="19" y="1631"/>
                      </a:lnTo>
                      <a:lnTo>
                        <a:pt x="28" y="1596"/>
                      </a:lnTo>
                      <a:lnTo>
                        <a:pt x="43" y="1541"/>
                      </a:lnTo>
                      <a:lnTo>
                        <a:pt x="59" y="1487"/>
                      </a:lnTo>
                      <a:lnTo>
                        <a:pt x="76" y="1423"/>
                      </a:lnTo>
                      <a:lnTo>
                        <a:pt x="89" y="1369"/>
                      </a:lnTo>
                      <a:lnTo>
                        <a:pt x="102" y="1320"/>
                      </a:lnTo>
                      <a:lnTo>
                        <a:pt x="117" y="1273"/>
                      </a:lnTo>
                      <a:lnTo>
                        <a:pt x="127" y="1233"/>
                      </a:lnTo>
                      <a:lnTo>
                        <a:pt x="139" y="1193"/>
                      </a:lnTo>
                      <a:lnTo>
                        <a:pt x="149" y="1161"/>
                      </a:lnTo>
                      <a:lnTo>
                        <a:pt x="164" y="1118"/>
                      </a:lnTo>
                      <a:lnTo>
                        <a:pt x="177" y="1075"/>
                      </a:lnTo>
                      <a:lnTo>
                        <a:pt x="190" y="1031"/>
                      </a:lnTo>
                      <a:lnTo>
                        <a:pt x="205" y="985"/>
                      </a:lnTo>
                      <a:lnTo>
                        <a:pt x="217" y="945"/>
                      </a:lnTo>
                      <a:lnTo>
                        <a:pt x="227" y="904"/>
                      </a:lnTo>
                      <a:lnTo>
                        <a:pt x="237" y="867"/>
                      </a:lnTo>
                      <a:lnTo>
                        <a:pt x="242" y="838"/>
                      </a:lnTo>
                      <a:lnTo>
                        <a:pt x="247" y="809"/>
                      </a:lnTo>
                      <a:lnTo>
                        <a:pt x="254" y="781"/>
                      </a:lnTo>
                      <a:lnTo>
                        <a:pt x="264" y="752"/>
                      </a:lnTo>
                      <a:lnTo>
                        <a:pt x="278" y="714"/>
                      </a:lnTo>
                      <a:lnTo>
                        <a:pt x="289" y="677"/>
                      </a:lnTo>
                      <a:lnTo>
                        <a:pt x="300" y="651"/>
                      </a:lnTo>
                      <a:lnTo>
                        <a:pt x="309" y="619"/>
                      </a:lnTo>
                      <a:lnTo>
                        <a:pt x="305" y="590"/>
                      </a:lnTo>
                      <a:lnTo>
                        <a:pt x="300" y="547"/>
                      </a:lnTo>
                      <a:lnTo>
                        <a:pt x="274" y="527"/>
                      </a:lnTo>
                      <a:lnTo>
                        <a:pt x="245" y="478"/>
                      </a:lnTo>
                      <a:lnTo>
                        <a:pt x="215" y="432"/>
                      </a:lnTo>
                      <a:lnTo>
                        <a:pt x="198" y="406"/>
                      </a:lnTo>
                      <a:lnTo>
                        <a:pt x="185" y="386"/>
                      </a:lnTo>
                      <a:lnTo>
                        <a:pt x="162" y="363"/>
                      </a:lnTo>
                      <a:lnTo>
                        <a:pt x="138" y="342"/>
                      </a:lnTo>
                      <a:lnTo>
                        <a:pt x="113" y="325"/>
                      </a:lnTo>
                      <a:lnTo>
                        <a:pt x="94" y="311"/>
                      </a:lnTo>
                      <a:lnTo>
                        <a:pt x="72" y="291"/>
                      </a:lnTo>
                      <a:lnTo>
                        <a:pt x="53" y="276"/>
                      </a:lnTo>
                      <a:lnTo>
                        <a:pt x="33" y="268"/>
                      </a:lnTo>
                      <a:lnTo>
                        <a:pt x="17" y="256"/>
                      </a:lnTo>
                      <a:lnTo>
                        <a:pt x="32" y="253"/>
                      </a:lnTo>
                      <a:lnTo>
                        <a:pt x="44" y="247"/>
                      </a:lnTo>
                      <a:lnTo>
                        <a:pt x="54" y="244"/>
                      </a:lnTo>
                      <a:lnTo>
                        <a:pt x="64" y="242"/>
                      </a:lnTo>
                      <a:lnTo>
                        <a:pt x="74" y="244"/>
                      </a:lnTo>
                      <a:lnTo>
                        <a:pt x="97" y="268"/>
                      </a:lnTo>
                      <a:lnTo>
                        <a:pt x="116" y="291"/>
                      </a:lnTo>
                      <a:lnTo>
                        <a:pt x="136" y="317"/>
                      </a:lnTo>
                      <a:lnTo>
                        <a:pt x="156" y="342"/>
                      </a:lnTo>
                      <a:lnTo>
                        <a:pt x="181" y="371"/>
                      </a:lnTo>
                      <a:lnTo>
                        <a:pt x="201" y="400"/>
                      </a:lnTo>
                      <a:lnTo>
                        <a:pt x="219" y="420"/>
                      </a:lnTo>
                      <a:lnTo>
                        <a:pt x="248" y="455"/>
                      </a:lnTo>
                      <a:lnTo>
                        <a:pt x="264" y="469"/>
                      </a:lnTo>
                      <a:lnTo>
                        <a:pt x="276" y="464"/>
                      </a:lnTo>
                      <a:lnTo>
                        <a:pt x="287" y="458"/>
                      </a:lnTo>
                      <a:lnTo>
                        <a:pt x="298" y="449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973800" y="6091560"/>
                  <a:ext cx="136800" cy="1625040"/>
                </a:xfrm>
                <a:custGeom>
                  <a:avLst/>
                  <a:gdLst/>
                  <a:ahLst/>
                  <a:rect l="l" t="t" r="r" b="b"/>
                  <a:pathLst>
                    <a:path w="85" h="989">
                      <a:moveTo>
                        <a:pt x="46" y="0"/>
                      </a:moveTo>
                      <a:lnTo>
                        <a:pt x="55" y="48"/>
                      </a:lnTo>
                      <a:lnTo>
                        <a:pt x="62" y="80"/>
                      </a:lnTo>
                      <a:lnTo>
                        <a:pt x="75" y="126"/>
                      </a:lnTo>
                      <a:lnTo>
                        <a:pt x="79" y="169"/>
                      </a:lnTo>
                      <a:lnTo>
                        <a:pt x="82" y="224"/>
                      </a:lnTo>
                      <a:lnTo>
                        <a:pt x="82" y="290"/>
                      </a:lnTo>
                      <a:lnTo>
                        <a:pt x="84" y="334"/>
                      </a:lnTo>
                      <a:lnTo>
                        <a:pt x="82" y="385"/>
                      </a:lnTo>
                      <a:lnTo>
                        <a:pt x="79" y="446"/>
                      </a:lnTo>
                      <a:lnTo>
                        <a:pt x="76" y="501"/>
                      </a:lnTo>
                      <a:lnTo>
                        <a:pt x="70" y="584"/>
                      </a:lnTo>
                      <a:lnTo>
                        <a:pt x="64" y="627"/>
                      </a:lnTo>
                      <a:lnTo>
                        <a:pt x="54" y="682"/>
                      </a:lnTo>
                      <a:lnTo>
                        <a:pt x="39" y="743"/>
                      </a:lnTo>
                      <a:lnTo>
                        <a:pt x="28" y="800"/>
                      </a:lnTo>
                      <a:lnTo>
                        <a:pt x="17" y="852"/>
                      </a:lnTo>
                      <a:lnTo>
                        <a:pt x="8" y="898"/>
                      </a:lnTo>
                      <a:lnTo>
                        <a:pt x="0" y="988"/>
                      </a:lnTo>
                      <a:lnTo>
                        <a:pt x="4" y="898"/>
                      </a:lnTo>
                      <a:lnTo>
                        <a:pt x="7" y="835"/>
                      </a:lnTo>
                      <a:lnTo>
                        <a:pt x="9" y="777"/>
                      </a:lnTo>
                      <a:lnTo>
                        <a:pt x="11" y="717"/>
                      </a:lnTo>
                      <a:lnTo>
                        <a:pt x="16" y="642"/>
                      </a:lnTo>
                      <a:lnTo>
                        <a:pt x="22" y="584"/>
                      </a:lnTo>
                      <a:lnTo>
                        <a:pt x="28" y="530"/>
                      </a:lnTo>
                      <a:lnTo>
                        <a:pt x="34" y="481"/>
                      </a:lnTo>
                      <a:lnTo>
                        <a:pt x="39" y="426"/>
                      </a:lnTo>
                      <a:lnTo>
                        <a:pt x="46" y="371"/>
                      </a:lnTo>
                      <a:lnTo>
                        <a:pt x="49" y="316"/>
                      </a:lnTo>
                      <a:lnTo>
                        <a:pt x="51" y="270"/>
                      </a:lnTo>
                      <a:lnTo>
                        <a:pt x="53" y="216"/>
                      </a:lnTo>
                      <a:lnTo>
                        <a:pt x="53" y="155"/>
                      </a:lnTo>
                      <a:lnTo>
                        <a:pt x="53" y="80"/>
                      </a:lnTo>
                      <a:lnTo>
                        <a:pt x="50" y="46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23280" y="5197680"/>
                  <a:ext cx="599040" cy="410760"/>
                </a:xfrm>
                <a:custGeom>
                  <a:avLst/>
                  <a:gdLst/>
                  <a:ahLst/>
                  <a:rect l="l" t="t" r="r" b="b"/>
                  <a:pathLst>
                    <a:path w="372" h="250">
                      <a:moveTo>
                        <a:pt x="371" y="249"/>
                      </a:moveTo>
                      <a:lnTo>
                        <a:pt x="364" y="206"/>
                      </a:lnTo>
                      <a:lnTo>
                        <a:pt x="356" y="168"/>
                      </a:lnTo>
                      <a:lnTo>
                        <a:pt x="349" y="160"/>
                      </a:lnTo>
                      <a:lnTo>
                        <a:pt x="335" y="148"/>
                      </a:lnTo>
                      <a:lnTo>
                        <a:pt x="321" y="140"/>
                      </a:lnTo>
                      <a:lnTo>
                        <a:pt x="306" y="148"/>
                      </a:lnTo>
                      <a:lnTo>
                        <a:pt x="289" y="154"/>
                      </a:lnTo>
                      <a:lnTo>
                        <a:pt x="270" y="137"/>
                      </a:lnTo>
                      <a:lnTo>
                        <a:pt x="243" y="114"/>
                      </a:lnTo>
                      <a:lnTo>
                        <a:pt x="220" y="94"/>
                      </a:lnTo>
                      <a:lnTo>
                        <a:pt x="202" y="83"/>
                      </a:lnTo>
                      <a:lnTo>
                        <a:pt x="175" y="62"/>
                      </a:lnTo>
                      <a:lnTo>
                        <a:pt x="147" y="42"/>
                      </a:lnTo>
                      <a:lnTo>
                        <a:pt x="120" y="25"/>
                      </a:lnTo>
                      <a:lnTo>
                        <a:pt x="93" y="8"/>
                      </a:lnTo>
                      <a:lnTo>
                        <a:pt x="62" y="5"/>
                      </a:lnTo>
                      <a:lnTo>
                        <a:pt x="34" y="0"/>
                      </a:lnTo>
                      <a:lnTo>
                        <a:pt x="27" y="8"/>
                      </a:lnTo>
                      <a:lnTo>
                        <a:pt x="16" y="22"/>
                      </a:lnTo>
                      <a:lnTo>
                        <a:pt x="7" y="40"/>
                      </a:lnTo>
                      <a:lnTo>
                        <a:pt x="0" y="57"/>
                      </a:lnTo>
                      <a:lnTo>
                        <a:pt x="12" y="60"/>
                      </a:lnTo>
                      <a:lnTo>
                        <a:pt x="27" y="62"/>
                      </a:lnTo>
                      <a:lnTo>
                        <a:pt x="41" y="62"/>
                      </a:lnTo>
                      <a:lnTo>
                        <a:pt x="51" y="60"/>
                      </a:lnTo>
                      <a:lnTo>
                        <a:pt x="66" y="60"/>
                      </a:lnTo>
                      <a:lnTo>
                        <a:pt x="85" y="57"/>
                      </a:lnTo>
                      <a:lnTo>
                        <a:pt x="112" y="60"/>
                      </a:lnTo>
                      <a:lnTo>
                        <a:pt x="134" y="62"/>
                      </a:lnTo>
                      <a:lnTo>
                        <a:pt x="155" y="74"/>
                      </a:lnTo>
                      <a:lnTo>
                        <a:pt x="178" y="80"/>
                      </a:lnTo>
                      <a:lnTo>
                        <a:pt x="199" y="85"/>
                      </a:lnTo>
                      <a:lnTo>
                        <a:pt x="218" y="100"/>
                      </a:lnTo>
                      <a:lnTo>
                        <a:pt x="236" y="120"/>
                      </a:lnTo>
                      <a:lnTo>
                        <a:pt x="253" y="140"/>
                      </a:lnTo>
                      <a:lnTo>
                        <a:pt x="273" y="160"/>
                      </a:lnTo>
                      <a:lnTo>
                        <a:pt x="282" y="163"/>
                      </a:lnTo>
                      <a:lnTo>
                        <a:pt x="292" y="160"/>
                      </a:lnTo>
                      <a:lnTo>
                        <a:pt x="305" y="174"/>
                      </a:lnTo>
                      <a:lnTo>
                        <a:pt x="320" y="188"/>
                      </a:lnTo>
                      <a:lnTo>
                        <a:pt x="333" y="206"/>
                      </a:lnTo>
                      <a:lnTo>
                        <a:pt x="352" y="226"/>
                      </a:lnTo>
                      <a:lnTo>
                        <a:pt x="364" y="237"/>
                      </a:lnTo>
                      <a:lnTo>
                        <a:pt x="371" y="249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95920" y="5442480"/>
                  <a:ext cx="619920" cy="174240"/>
                </a:xfrm>
                <a:custGeom>
                  <a:avLst/>
                  <a:gdLst/>
                  <a:ahLst/>
                  <a:rect l="l" t="t" r="r" b="b"/>
                  <a:pathLst>
                    <a:path w="385" h="106">
                      <a:moveTo>
                        <a:pt x="384" y="105"/>
                      </a:moveTo>
                      <a:lnTo>
                        <a:pt x="374" y="96"/>
                      </a:lnTo>
                      <a:lnTo>
                        <a:pt x="363" y="84"/>
                      </a:lnTo>
                      <a:lnTo>
                        <a:pt x="351" y="72"/>
                      </a:lnTo>
                      <a:lnTo>
                        <a:pt x="340" y="64"/>
                      </a:lnTo>
                      <a:lnTo>
                        <a:pt x="325" y="52"/>
                      </a:lnTo>
                      <a:lnTo>
                        <a:pt x="308" y="32"/>
                      </a:lnTo>
                      <a:lnTo>
                        <a:pt x="294" y="17"/>
                      </a:lnTo>
                      <a:lnTo>
                        <a:pt x="280" y="14"/>
                      </a:lnTo>
                      <a:lnTo>
                        <a:pt x="263" y="20"/>
                      </a:lnTo>
                      <a:lnTo>
                        <a:pt x="241" y="29"/>
                      </a:lnTo>
                      <a:lnTo>
                        <a:pt x="232" y="26"/>
                      </a:lnTo>
                      <a:lnTo>
                        <a:pt x="203" y="17"/>
                      </a:lnTo>
                      <a:lnTo>
                        <a:pt x="172" y="8"/>
                      </a:lnTo>
                      <a:lnTo>
                        <a:pt x="151" y="2"/>
                      </a:lnTo>
                      <a:lnTo>
                        <a:pt x="125" y="0"/>
                      </a:lnTo>
                      <a:lnTo>
                        <a:pt x="96" y="2"/>
                      </a:lnTo>
                      <a:lnTo>
                        <a:pt x="79" y="8"/>
                      </a:lnTo>
                      <a:lnTo>
                        <a:pt x="59" y="14"/>
                      </a:lnTo>
                      <a:lnTo>
                        <a:pt x="40" y="17"/>
                      </a:lnTo>
                      <a:lnTo>
                        <a:pt x="21" y="23"/>
                      </a:lnTo>
                      <a:lnTo>
                        <a:pt x="19" y="46"/>
                      </a:lnTo>
                      <a:lnTo>
                        <a:pt x="15" y="61"/>
                      </a:lnTo>
                      <a:lnTo>
                        <a:pt x="9" y="78"/>
                      </a:lnTo>
                      <a:lnTo>
                        <a:pt x="0" y="93"/>
                      </a:lnTo>
                      <a:lnTo>
                        <a:pt x="15" y="84"/>
                      </a:lnTo>
                      <a:lnTo>
                        <a:pt x="33" y="75"/>
                      </a:lnTo>
                      <a:lnTo>
                        <a:pt x="48" y="67"/>
                      </a:lnTo>
                      <a:lnTo>
                        <a:pt x="65" y="61"/>
                      </a:lnTo>
                      <a:lnTo>
                        <a:pt x="82" y="55"/>
                      </a:lnTo>
                      <a:lnTo>
                        <a:pt x="110" y="52"/>
                      </a:lnTo>
                      <a:lnTo>
                        <a:pt x="139" y="46"/>
                      </a:lnTo>
                      <a:lnTo>
                        <a:pt x="173" y="43"/>
                      </a:lnTo>
                      <a:lnTo>
                        <a:pt x="206" y="37"/>
                      </a:lnTo>
                      <a:lnTo>
                        <a:pt x="237" y="32"/>
                      </a:lnTo>
                      <a:lnTo>
                        <a:pt x="263" y="40"/>
                      </a:lnTo>
                      <a:lnTo>
                        <a:pt x="282" y="52"/>
                      </a:lnTo>
                      <a:lnTo>
                        <a:pt x="302" y="64"/>
                      </a:lnTo>
                      <a:lnTo>
                        <a:pt x="323" y="75"/>
                      </a:lnTo>
                      <a:lnTo>
                        <a:pt x="347" y="90"/>
                      </a:lnTo>
                      <a:lnTo>
                        <a:pt x="364" y="99"/>
                      </a:lnTo>
                      <a:lnTo>
                        <a:pt x="384" y="10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90000" y="873000"/>
                <a:ext cx="1130400" cy="3155040"/>
              </a:xfrm>
              <a:custGeom>
                <a:avLst/>
                <a:gdLst/>
                <a:ahLst/>
                <a:rect l="l" t="t" r="r" b="b"/>
                <a:pathLst>
                  <a:path w="702" h="1920">
                    <a:moveTo>
                      <a:pt x="172" y="746"/>
                    </a:moveTo>
                    <a:lnTo>
                      <a:pt x="185" y="775"/>
                    </a:lnTo>
                    <a:lnTo>
                      <a:pt x="196" y="795"/>
                    </a:lnTo>
                    <a:lnTo>
                      <a:pt x="208" y="812"/>
                    </a:lnTo>
                    <a:lnTo>
                      <a:pt x="221" y="835"/>
                    </a:lnTo>
                    <a:lnTo>
                      <a:pt x="234" y="852"/>
                    </a:lnTo>
                    <a:lnTo>
                      <a:pt x="245" y="864"/>
                    </a:lnTo>
                    <a:lnTo>
                      <a:pt x="255" y="878"/>
                    </a:lnTo>
                    <a:lnTo>
                      <a:pt x="249" y="835"/>
                    </a:lnTo>
                    <a:lnTo>
                      <a:pt x="244" y="792"/>
                    </a:lnTo>
                    <a:lnTo>
                      <a:pt x="237" y="740"/>
                    </a:lnTo>
                    <a:lnTo>
                      <a:pt x="229" y="691"/>
                    </a:lnTo>
                    <a:lnTo>
                      <a:pt x="223" y="642"/>
                    </a:lnTo>
                    <a:lnTo>
                      <a:pt x="216" y="590"/>
                    </a:lnTo>
                    <a:lnTo>
                      <a:pt x="205" y="538"/>
                    </a:lnTo>
                    <a:lnTo>
                      <a:pt x="194" y="481"/>
                    </a:lnTo>
                    <a:lnTo>
                      <a:pt x="184" y="432"/>
                    </a:lnTo>
                    <a:lnTo>
                      <a:pt x="170" y="368"/>
                    </a:lnTo>
                    <a:lnTo>
                      <a:pt x="161" y="325"/>
                    </a:lnTo>
                    <a:lnTo>
                      <a:pt x="147" y="288"/>
                    </a:lnTo>
                    <a:lnTo>
                      <a:pt x="136" y="250"/>
                    </a:lnTo>
                    <a:lnTo>
                      <a:pt x="119" y="218"/>
                    </a:lnTo>
                    <a:lnTo>
                      <a:pt x="107" y="195"/>
                    </a:lnTo>
                    <a:lnTo>
                      <a:pt x="93" y="181"/>
                    </a:lnTo>
                    <a:lnTo>
                      <a:pt x="84" y="172"/>
                    </a:lnTo>
                    <a:lnTo>
                      <a:pt x="94" y="167"/>
                    </a:lnTo>
                    <a:lnTo>
                      <a:pt x="100" y="170"/>
                    </a:lnTo>
                    <a:lnTo>
                      <a:pt x="112" y="175"/>
                    </a:lnTo>
                    <a:lnTo>
                      <a:pt x="123" y="201"/>
                    </a:lnTo>
                    <a:lnTo>
                      <a:pt x="138" y="233"/>
                    </a:lnTo>
                    <a:lnTo>
                      <a:pt x="150" y="259"/>
                    </a:lnTo>
                    <a:lnTo>
                      <a:pt x="158" y="291"/>
                    </a:lnTo>
                    <a:lnTo>
                      <a:pt x="171" y="334"/>
                    </a:lnTo>
                    <a:lnTo>
                      <a:pt x="185" y="386"/>
                    </a:lnTo>
                    <a:lnTo>
                      <a:pt x="196" y="432"/>
                    </a:lnTo>
                    <a:lnTo>
                      <a:pt x="209" y="484"/>
                    </a:lnTo>
                    <a:lnTo>
                      <a:pt x="220" y="521"/>
                    </a:lnTo>
                    <a:lnTo>
                      <a:pt x="233" y="561"/>
                    </a:lnTo>
                    <a:lnTo>
                      <a:pt x="242" y="605"/>
                    </a:lnTo>
                    <a:lnTo>
                      <a:pt x="249" y="648"/>
                    </a:lnTo>
                    <a:lnTo>
                      <a:pt x="258" y="697"/>
                    </a:lnTo>
                    <a:lnTo>
                      <a:pt x="267" y="740"/>
                    </a:lnTo>
                    <a:lnTo>
                      <a:pt x="274" y="780"/>
                    </a:lnTo>
                    <a:lnTo>
                      <a:pt x="282" y="829"/>
                    </a:lnTo>
                    <a:lnTo>
                      <a:pt x="287" y="864"/>
                    </a:lnTo>
                    <a:lnTo>
                      <a:pt x="289" y="881"/>
                    </a:lnTo>
                    <a:lnTo>
                      <a:pt x="297" y="864"/>
                    </a:lnTo>
                    <a:lnTo>
                      <a:pt x="306" y="844"/>
                    </a:lnTo>
                    <a:lnTo>
                      <a:pt x="317" y="818"/>
                    </a:lnTo>
                    <a:lnTo>
                      <a:pt x="320" y="775"/>
                    </a:lnTo>
                    <a:lnTo>
                      <a:pt x="321" y="740"/>
                    </a:lnTo>
                    <a:lnTo>
                      <a:pt x="325" y="688"/>
                    </a:lnTo>
                    <a:lnTo>
                      <a:pt x="326" y="642"/>
                    </a:lnTo>
                    <a:lnTo>
                      <a:pt x="325" y="642"/>
                    </a:lnTo>
                    <a:lnTo>
                      <a:pt x="326" y="587"/>
                    </a:lnTo>
                    <a:lnTo>
                      <a:pt x="327" y="530"/>
                    </a:lnTo>
                    <a:lnTo>
                      <a:pt x="329" y="475"/>
                    </a:lnTo>
                    <a:lnTo>
                      <a:pt x="331" y="426"/>
                    </a:lnTo>
                    <a:lnTo>
                      <a:pt x="334" y="386"/>
                    </a:lnTo>
                    <a:lnTo>
                      <a:pt x="337" y="337"/>
                    </a:lnTo>
                    <a:lnTo>
                      <a:pt x="342" y="302"/>
                    </a:lnTo>
                    <a:lnTo>
                      <a:pt x="346" y="262"/>
                    </a:lnTo>
                    <a:lnTo>
                      <a:pt x="354" y="230"/>
                    </a:lnTo>
                    <a:lnTo>
                      <a:pt x="360" y="190"/>
                    </a:lnTo>
                    <a:lnTo>
                      <a:pt x="368" y="135"/>
                    </a:lnTo>
                    <a:lnTo>
                      <a:pt x="375" y="86"/>
                    </a:lnTo>
                    <a:lnTo>
                      <a:pt x="379" y="40"/>
                    </a:lnTo>
                    <a:lnTo>
                      <a:pt x="385" y="0"/>
                    </a:lnTo>
                    <a:lnTo>
                      <a:pt x="388" y="31"/>
                    </a:lnTo>
                    <a:lnTo>
                      <a:pt x="387" y="66"/>
                    </a:lnTo>
                    <a:lnTo>
                      <a:pt x="384" y="109"/>
                    </a:lnTo>
                    <a:lnTo>
                      <a:pt x="379" y="146"/>
                    </a:lnTo>
                    <a:lnTo>
                      <a:pt x="374" y="207"/>
                    </a:lnTo>
                    <a:lnTo>
                      <a:pt x="370" y="242"/>
                    </a:lnTo>
                    <a:lnTo>
                      <a:pt x="368" y="276"/>
                    </a:lnTo>
                    <a:lnTo>
                      <a:pt x="364" y="319"/>
                    </a:lnTo>
                    <a:lnTo>
                      <a:pt x="363" y="371"/>
                    </a:lnTo>
                    <a:lnTo>
                      <a:pt x="361" y="429"/>
                    </a:lnTo>
                    <a:lnTo>
                      <a:pt x="359" y="486"/>
                    </a:lnTo>
                    <a:lnTo>
                      <a:pt x="358" y="550"/>
                    </a:lnTo>
                    <a:lnTo>
                      <a:pt x="358" y="599"/>
                    </a:lnTo>
                    <a:lnTo>
                      <a:pt x="356" y="651"/>
                    </a:lnTo>
                    <a:lnTo>
                      <a:pt x="355" y="694"/>
                    </a:lnTo>
                    <a:lnTo>
                      <a:pt x="355" y="746"/>
                    </a:lnTo>
                    <a:lnTo>
                      <a:pt x="351" y="798"/>
                    </a:lnTo>
                    <a:lnTo>
                      <a:pt x="346" y="864"/>
                    </a:lnTo>
                    <a:lnTo>
                      <a:pt x="342" y="919"/>
                    </a:lnTo>
                    <a:lnTo>
                      <a:pt x="337" y="982"/>
                    </a:lnTo>
                    <a:lnTo>
                      <a:pt x="351" y="962"/>
                    </a:lnTo>
                    <a:lnTo>
                      <a:pt x="366" y="942"/>
                    </a:lnTo>
                    <a:lnTo>
                      <a:pt x="387" y="916"/>
                    </a:lnTo>
                    <a:lnTo>
                      <a:pt x="403" y="907"/>
                    </a:lnTo>
                    <a:lnTo>
                      <a:pt x="421" y="907"/>
                    </a:lnTo>
                    <a:lnTo>
                      <a:pt x="433" y="907"/>
                    </a:lnTo>
                    <a:lnTo>
                      <a:pt x="447" y="913"/>
                    </a:lnTo>
                    <a:lnTo>
                      <a:pt x="467" y="919"/>
                    </a:lnTo>
                    <a:lnTo>
                      <a:pt x="492" y="922"/>
                    </a:lnTo>
                    <a:lnTo>
                      <a:pt x="514" y="919"/>
                    </a:lnTo>
                    <a:lnTo>
                      <a:pt x="535" y="919"/>
                    </a:lnTo>
                    <a:lnTo>
                      <a:pt x="553" y="919"/>
                    </a:lnTo>
                    <a:lnTo>
                      <a:pt x="571" y="922"/>
                    </a:lnTo>
                    <a:lnTo>
                      <a:pt x="587" y="939"/>
                    </a:lnTo>
                    <a:lnTo>
                      <a:pt x="607" y="956"/>
                    </a:lnTo>
                    <a:lnTo>
                      <a:pt x="622" y="976"/>
                    </a:lnTo>
                    <a:lnTo>
                      <a:pt x="636" y="996"/>
                    </a:lnTo>
                    <a:lnTo>
                      <a:pt x="654" y="1025"/>
                    </a:lnTo>
                    <a:lnTo>
                      <a:pt x="663" y="1043"/>
                    </a:lnTo>
                    <a:lnTo>
                      <a:pt x="677" y="1083"/>
                    </a:lnTo>
                    <a:lnTo>
                      <a:pt x="688" y="1126"/>
                    </a:lnTo>
                    <a:lnTo>
                      <a:pt x="701" y="1169"/>
                    </a:lnTo>
                    <a:lnTo>
                      <a:pt x="687" y="1172"/>
                    </a:lnTo>
                    <a:lnTo>
                      <a:pt x="669" y="1166"/>
                    </a:lnTo>
                    <a:lnTo>
                      <a:pt x="651" y="1155"/>
                    </a:lnTo>
                    <a:lnTo>
                      <a:pt x="635" y="1155"/>
                    </a:lnTo>
                    <a:lnTo>
                      <a:pt x="622" y="1143"/>
                    </a:lnTo>
                    <a:lnTo>
                      <a:pt x="606" y="1126"/>
                    </a:lnTo>
                    <a:lnTo>
                      <a:pt x="590" y="1112"/>
                    </a:lnTo>
                    <a:lnTo>
                      <a:pt x="576" y="1097"/>
                    </a:lnTo>
                    <a:lnTo>
                      <a:pt x="563" y="1094"/>
                    </a:lnTo>
                    <a:lnTo>
                      <a:pt x="539" y="1086"/>
                    </a:lnTo>
                    <a:lnTo>
                      <a:pt x="514" y="1083"/>
                    </a:lnTo>
                    <a:lnTo>
                      <a:pt x="491" y="1071"/>
                    </a:lnTo>
                    <a:lnTo>
                      <a:pt x="467" y="1063"/>
                    </a:lnTo>
                    <a:lnTo>
                      <a:pt x="446" y="1057"/>
                    </a:lnTo>
                    <a:lnTo>
                      <a:pt x="429" y="1054"/>
                    </a:lnTo>
                    <a:lnTo>
                      <a:pt x="417" y="1051"/>
                    </a:lnTo>
                    <a:lnTo>
                      <a:pt x="399" y="1048"/>
                    </a:lnTo>
                    <a:lnTo>
                      <a:pt x="383" y="1054"/>
                    </a:lnTo>
                    <a:lnTo>
                      <a:pt x="371" y="1057"/>
                    </a:lnTo>
                    <a:lnTo>
                      <a:pt x="356" y="1071"/>
                    </a:lnTo>
                    <a:lnTo>
                      <a:pt x="337" y="1080"/>
                    </a:lnTo>
                    <a:lnTo>
                      <a:pt x="351" y="1097"/>
                    </a:lnTo>
                    <a:lnTo>
                      <a:pt x="368" y="1120"/>
                    </a:lnTo>
                    <a:lnTo>
                      <a:pt x="382" y="1143"/>
                    </a:lnTo>
                    <a:lnTo>
                      <a:pt x="398" y="1155"/>
                    </a:lnTo>
                    <a:lnTo>
                      <a:pt x="417" y="1169"/>
                    </a:lnTo>
                    <a:lnTo>
                      <a:pt x="432" y="1178"/>
                    </a:lnTo>
                    <a:lnTo>
                      <a:pt x="448" y="1181"/>
                    </a:lnTo>
                    <a:lnTo>
                      <a:pt x="469" y="1192"/>
                    </a:lnTo>
                    <a:lnTo>
                      <a:pt x="491" y="1201"/>
                    </a:lnTo>
                    <a:lnTo>
                      <a:pt x="510" y="1210"/>
                    </a:lnTo>
                    <a:lnTo>
                      <a:pt x="532" y="1213"/>
                    </a:lnTo>
                    <a:lnTo>
                      <a:pt x="549" y="1221"/>
                    </a:lnTo>
                    <a:lnTo>
                      <a:pt x="568" y="1230"/>
                    </a:lnTo>
                    <a:lnTo>
                      <a:pt x="586" y="1238"/>
                    </a:lnTo>
                    <a:lnTo>
                      <a:pt x="598" y="1250"/>
                    </a:lnTo>
                    <a:lnTo>
                      <a:pt x="612" y="1273"/>
                    </a:lnTo>
                    <a:lnTo>
                      <a:pt x="626" y="1296"/>
                    </a:lnTo>
                    <a:lnTo>
                      <a:pt x="641" y="1325"/>
                    </a:lnTo>
                    <a:lnTo>
                      <a:pt x="655" y="1360"/>
                    </a:lnTo>
                    <a:lnTo>
                      <a:pt x="663" y="1383"/>
                    </a:lnTo>
                    <a:lnTo>
                      <a:pt x="669" y="1417"/>
                    </a:lnTo>
                    <a:lnTo>
                      <a:pt x="675" y="1457"/>
                    </a:lnTo>
                    <a:lnTo>
                      <a:pt x="684" y="1498"/>
                    </a:lnTo>
                    <a:lnTo>
                      <a:pt x="690" y="1530"/>
                    </a:lnTo>
                    <a:lnTo>
                      <a:pt x="675" y="1509"/>
                    </a:lnTo>
                    <a:lnTo>
                      <a:pt x="656" y="1489"/>
                    </a:lnTo>
                    <a:lnTo>
                      <a:pt x="641" y="1472"/>
                    </a:lnTo>
                    <a:lnTo>
                      <a:pt x="624" y="1449"/>
                    </a:lnTo>
                    <a:lnTo>
                      <a:pt x="605" y="1426"/>
                    </a:lnTo>
                    <a:lnTo>
                      <a:pt x="588" y="1408"/>
                    </a:lnTo>
                    <a:lnTo>
                      <a:pt x="569" y="1385"/>
                    </a:lnTo>
                    <a:lnTo>
                      <a:pt x="552" y="1360"/>
                    </a:lnTo>
                    <a:lnTo>
                      <a:pt x="535" y="1342"/>
                    </a:lnTo>
                    <a:lnTo>
                      <a:pt x="516" y="1319"/>
                    </a:lnTo>
                    <a:lnTo>
                      <a:pt x="501" y="1299"/>
                    </a:lnTo>
                    <a:lnTo>
                      <a:pt x="484" y="1279"/>
                    </a:lnTo>
                    <a:lnTo>
                      <a:pt x="466" y="1262"/>
                    </a:lnTo>
                    <a:lnTo>
                      <a:pt x="448" y="1244"/>
                    </a:lnTo>
                    <a:lnTo>
                      <a:pt x="432" y="1227"/>
                    </a:lnTo>
                    <a:lnTo>
                      <a:pt x="419" y="1221"/>
                    </a:lnTo>
                    <a:lnTo>
                      <a:pt x="405" y="1207"/>
                    </a:lnTo>
                    <a:lnTo>
                      <a:pt x="390" y="1192"/>
                    </a:lnTo>
                    <a:lnTo>
                      <a:pt x="378" y="1178"/>
                    </a:lnTo>
                    <a:lnTo>
                      <a:pt x="368" y="1184"/>
                    </a:lnTo>
                    <a:lnTo>
                      <a:pt x="355" y="1190"/>
                    </a:lnTo>
                    <a:lnTo>
                      <a:pt x="345" y="1190"/>
                    </a:lnTo>
                    <a:lnTo>
                      <a:pt x="334" y="1181"/>
                    </a:lnTo>
                    <a:lnTo>
                      <a:pt x="332" y="1221"/>
                    </a:lnTo>
                    <a:lnTo>
                      <a:pt x="327" y="1270"/>
                    </a:lnTo>
                    <a:lnTo>
                      <a:pt x="336" y="1311"/>
                    </a:lnTo>
                    <a:lnTo>
                      <a:pt x="344" y="1354"/>
                    </a:lnTo>
                    <a:lnTo>
                      <a:pt x="351" y="1394"/>
                    </a:lnTo>
                    <a:lnTo>
                      <a:pt x="358" y="1443"/>
                    </a:lnTo>
                    <a:lnTo>
                      <a:pt x="364" y="1492"/>
                    </a:lnTo>
                    <a:lnTo>
                      <a:pt x="374" y="1555"/>
                    </a:lnTo>
                    <a:lnTo>
                      <a:pt x="376" y="1604"/>
                    </a:lnTo>
                    <a:lnTo>
                      <a:pt x="383" y="1653"/>
                    </a:lnTo>
                    <a:lnTo>
                      <a:pt x="387" y="1700"/>
                    </a:lnTo>
                    <a:lnTo>
                      <a:pt x="393" y="1760"/>
                    </a:lnTo>
                    <a:lnTo>
                      <a:pt x="399" y="1826"/>
                    </a:lnTo>
                    <a:lnTo>
                      <a:pt x="404" y="1919"/>
                    </a:lnTo>
                    <a:lnTo>
                      <a:pt x="353" y="1919"/>
                    </a:lnTo>
                    <a:lnTo>
                      <a:pt x="346" y="1841"/>
                    </a:lnTo>
                    <a:lnTo>
                      <a:pt x="342" y="1783"/>
                    </a:lnTo>
                    <a:lnTo>
                      <a:pt x="335" y="1711"/>
                    </a:lnTo>
                    <a:lnTo>
                      <a:pt x="330" y="1642"/>
                    </a:lnTo>
                    <a:lnTo>
                      <a:pt x="324" y="1587"/>
                    </a:lnTo>
                    <a:lnTo>
                      <a:pt x="320" y="1535"/>
                    </a:lnTo>
                    <a:lnTo>
                      <a:pt x="313" y="1492"/>
                    </a:lnTo>
                    <a:lnTo>
                      <a:pt x="305" y="1437"/>
                    </a:lnTo>
                    <a:lnTo>
                      <a:pt x="296" y="1385"/>
                    </a:lnTo>
                    <a:lnTo>
                      <a:pt x="289" y="1342"/>
                    </a:lnTo>
                    <a:lnTo>
                      <a:pt x="282" y="1328"/>
                    </a:lnTo>
                    <a:lnTo>
                      <a:pt x="272" y="1319"/>
                    </a:lnTo>
                    <a:lnTo>
                      <a:pt x="264" y="1308"/>
                    </a:lnTo>
                    <a:lnTo>
                      <a:pt x="260" y="1313"/>
                    </a:lnTo>
                    <a:lnTo>
                      <a:pt x="250" y="1342"/>
                    </a:lnTo>
                    <a:lnTo>
                      <a:pt x="237" y="1380"/>
                    </a:lnTo>
                    <a:lnTo>
                      <a:pt x="225" y="1414"/>
                    </a:lnTo>
                    <a:lnTo>
                      <a:pt x="215" y="1443"/>
                    </a:lnTo>
                    <a:lnTo>
                      <a:pt x="205" y="1483"/>
                    </a:lnTo>
                    <a:lnTo>
                      <a:pt x="196" y="1509"/>
                    </a:lnTo>
                    <a:lnTo>
                      <a:pt x="185" y="1550"/>
                    </a:lnTo>
                    <a:lnTo>
                      <a:pt x="173" y="1593"/>
                    </a:lnTo>
                    <a:lnTo>
                      <a:pt x="165" y="1636"/>
                    </a:lnTo>
                    <a:lnTo>
                      <a:pt x="155" y="1682"/>
                    </a:lnTo>
                    <a:lnTo>
                      <a:pt x="143" y="1734"/>
                    </a:lnTo>
                    <a:lnTo>
                      <a:pt x="133" y="1795"/>
                    </a:lnTo>
                    <a:lnTo>
                      <a:pt x="119" y="1852"/>
                    </a:lnTo>
                    <a:lnTo>
                      <a:pt x="124" y="1780"/>
                    </a:lnTo>
                    <a:lnTo>
                      <a:pt x="127" y="1731"/>
                    </a:lnTo>
                    <a:lnTo>
                      <a:pt x="131" y="1676"/>
                    </a:lnTo>
                    <a:lnTo>
                      <a:pt x="134" y="1642"/>
                    </a:lnTo>
                    <a:lnTo>
                      <a:pt x="138" y="1616"/>
                    </a:lnTo>
                    <a:lnTo>
                      <a:pt x="147" y="1570"/>
                    </a:lnTo>
                    <a:lnTo>
                      <a:pt x="155" y="1521"/>
                    </a:lnTo>
                    <a:lnTo>
                      <a:pt x="160" y="1486"/>
                    </a:lnTo>
                    <a:lnTo>
                      <a:pt x="173" y="1443"/>
                    </a:lnTo>
                    <a:lnTo>
                      <a:pt x="186" y="1403"/>
                    </a:lnTo>
                    <a:lnTo>
                      <a:pt x="199" y="1354"/>
                    </a:lnTo>
                    <a:lnTo>
                      <a:pt x="210" y="1308"/>
                    </a:lnTo>
                    <a:lnTo>
                      <a:pt x="220" y="1282"/>
                    </a:lnTo>
                    <a:lnTo>
                      <a:pt x="231" y="1259"/>
                    </a:lnTo>
                    <a:lnTo>
                      <a:pt x="245" y="1227"/>
                    </a:lnTo>
                    <a:lnTo>
                      <a:pt x="258" y="1195"/>
                    </a:lnTo>
                    <a:lnTo>
                      <a:pt x="271" y="1166"/>
                    </a:lnTo>
                    <a:lnTo>
                      <a:pt x="283" y="1126"/>
                    </a:lnTo>
                    <a:lnTo>
                      <a:pt x="278" y="1115"/>
                    </a:lnTo>
                    <a:lnTo>
                      <a:pt x="268" y="1094"/>
                    </a:lnTo>
                    <a:lnTo>
                      <a:pt x="259" y="1083"/>
                    </a:lnTo>
                    <a:lnTo>
                      <a:pt x="250" y="1089"/>
                    </a:lnTo>
                    <a:lnTo>
                      <a:pt x="235" y="1115"/>
                    </a:lnTo>
                    <a:lnTo>
                      <a:pt x="221" y="1141"/>
                    </a:lnTo>
                    <a:lnTo>
                      <a:pt x="209" y="1166"/>
                    </a:lnTo>
                    <a:lnTo>
                      <a:pt x="196" y="1195"/>
                    </a:lnTo>
                    <a:lnTo>
                      <a:pt x="181" y="1241"/>
                    </a:lnTo>
                    <a:lnTo>
                      <a:pt x="165" y="1285"/>
                    </a:lnTo>
                    <a:lnTo>
                      <a:pt x="151" y="1316"/>
                    </a:lnTo>
                    <a:lnTo>
                      <a:pt x="141" y="1345"/>
                    </a:lnTo>
                    <a:lnTo>
                      <a:pt x="127" y="1380"/>
                    </a:lnTo>
                    <a:lnTo>
                      <a:pt x="113" y="1423"/>
                    </a:lnTo>
                    <a:lnTo>
                      <a:pt x="103" y="1463"/>
                    </a:lnTo>
                    <a:lnTo>
                      <a:pt x="89" y="1509"/>
                    </a:lnTo>
                    <a:lnTo>
                      <a:pt x="76" y="1550"/>
                    </a:lnTo>
                    <a:lnTo>
                      <a:pt x="65" y="1599"/>
                    </a:lnTo>
                    <a:lnTo>
                      <a:pt x="49" y="1653"/>
                    </a:lnTo>
                    <a:lnTo>
                      <a:pt x="56" y="1581"/>
                    </a:lnTo>
                    <a:lnTo>
                      <a:pt x="61" y="1530"/>
                    </a:lnTo>
                    <a:lnTo>
                      <a:pt x="66" y="1486"/>
                    </a:lnTo>
                    <a:lnTo>
                      <a:pt x="69" y="1472"/>
                    </a:lnTo>
                    <a:lnTo>
                      <a:pt x="76" y="1449"/>
                    </a:lnTo>
                    <a:lnTo>
                      <a:pt x="88" y="1417"/>
                    </a:lnTo>
                    <a:lnTo>
                      <a:pt x="100" y="1388"/>
                    </a:lnTo>
                    <a:lnTo>
                      <a:pt x="114" y="1351"/>
                    </a:lnTo>
                    <a:lnTo>
                      <a:pt x="127" y="1319"/>
                    </a:lnTo>
                    <a:lnTo>
                      <a:pt x="146" y="1279"/>
                    </a:lnTo>
                    <a:lnTo>
                      <a:pt x="157" y="1250"/>
                    </a:lnTo>
                    <a:lnTo>
                      <a:pt x="173" y="1215"/>
                    </a:lnTo>
                    <a:lnTo>
                      <a:pt x="192" y="1181"/>
                    </a:lnTo>
                    <a:lnTo>
                      <a:pt x="208" y="1152"/>
                    </a:lnTo>
                    <a:lnTo>
                      <a:pt x="224" y="1123"/>
                    </a:lnTo>
                    <a:lnTo>
                      <a:pt x="250" y="1083"/>
                    </a:lnTo>
                    <a:lnTo>
                      <a:pt x="264" y="1071"/>
                    </a:lnTo>
                    <a:lnTo>
                      <a:pt x="272" y="1060"/>
                    </a:lnTo>
                    <a:lnTo>
                      <a:pt x="258" y="1040"/>
                    </a:lnTo>
                    <a:lnTo>
                      <a:pt x="244" y="1011"/>
                    </a:lnTo>
                    <a:lnTo>
                      <a:pt x="228" y="979"/>
                    </a:lnTo>
                    <a:lnTo>
                      <a:pt x="214" y="953"/>
                    </a:lnTo>
                    <a:lnTo>
                      <a:pt x="199" y="930"/>
                    </a:lnTo>
                    <a:lnTo>
                      <a:pt x="186" y="907"/>
                    </a:lnTo>
                    <a:lnTo>
                      <a:pt x="175" y="878"/>
                    </a:lnTo>
                    <a:lnTo>
                      <a:pt x="157" y="841"/>
                    </a:lnTo>
                    <a:lnTo>
                      <a:pt x="142" y="806"/>
                    </a:lnTo>
                    <a:lnTo>
                      <a:pt x="124" y="766"/>
                    </a:lnTo>
                    <a:lnTo>
                      <a:pt x="105" y="728"/>
                    </a:lnTo>
                    <a:lnTo>
                      <a:pt x="90" y="703"/>
                    </a:lnTo>
                    <a:lnTo>
                      <a:pt x="71" y="668"/>
                    </a:lnTo>
                    <a:lnTo>
                      <a:pt x="60" y="645"/>
                    </a:lnTo>
                    <a:lnTo>
                      <a:pt x="47" y="607"/>
                    </a:lnTo>
                    <a:lnTo>
                      <a:pt x="39" y="579"/>
                    </a:lnTo>
                    <a:lnTo>
                      <a:pt x="27" y="556"/>
                    </a:lnTo>
                    <a:lnTo>
                      <a:pt x="12" y="527"/>
                    </a:lnTo>
                    <a:lnTo>
                      <a:pt x="0" y="504"/>
                    </a:lnTo>
                    <a:lnTo>
                      <a:pt x="10" y="507"/>
                    </a:lnTo>
                    <a:lnTo>
                      <a:pt x="25" y="515"/>
                    </a:lnTo>
                    <a:lnTo>
                      <a:pt x="40" y="524"/>
                    </a:lnTo>
                    <a:lnTo>
                      <a:pt x="54" y="538"/>
                    </a:lnTo>
                    <a:lnTo>
                      <a:pt x="68" y="561"/>
                    </a:lnTo>
                    <a:lnTo>
                      <a:pt x="86" y="593"/>
                    </a:lnTo>
                    <a:lnTo>
                      <a:pt x="103" y="619"/>
                    </a:lnTo>
                    <a:lnTo>
                      <a:pt x="122" y="645"/>
                    </a:lnTo>
                    <a:lnTo>
                      <a:pt x="138" y="680"/>
                    </a:lnTo>
                    <a:lnTo>
                      <a:pt x="157" y="717"/>
                    </a:lnTo>
                    <a:lnTo>
                      <a:pt x="172" y="746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10857960"/>
              <a:ext cx="79142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0"/>
                  </a:moveTo>
                  <a:arcTo wR="10800" hR="10800" stAng="10752145" swAng="10895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0"/>
                  </a:moveTo>
                  <a:arcTo wR="10800" hR="10800" stAng="10752145" swAng="10895728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1219760"/>
              <a:ext cx="79128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103560" y="8741520"/>
              <a:ext cx="1574280" cy="2181960"/>
              <a:chOff x="3103560" y="8741520"/>
              <a:chExt cx="1574280" cy="2181960"/>
            </a:xfrm>
          </p:grpSpPr>
          <p:sp>
            <p:nvSpPr>
              <p:cNvPr id="84" name=""/>
              <p:cNvSpPr/>
              <p:nvPr/>
            </p:nvSpPr>
            <p:spPr>
              <a:xfrm>
                <a:off x="3240000" y="8741520"/>
                <a:ext cx="1365480" cy="204912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03560" y="10126440"/>
                <a:ext cx="1574280" cy="797040"/>
              </a:xfrm>
              <a:custGeom>
                <a:avLst/>
                <a:gdLst/>
                <a:ahLst/>
                <a:rect l="l" t="t" r="r" b="b"/>
                <a:pathLst>
                  <a:path w="978" h="485">
                    <a:moveTo>
                      <a:pt x="86" y="7"/>
                    </a:moveTo>
                    <a:lnTo>
                      <a:pt x="859" y="7"/>
                    </a:lnTo>
                    <a:lnTo>
                      <a:pt x="859" y="0"/>
                    </a:lnTo>
                    <a:lnTo>
                      <a:pt x="885" y="0"/>
                    </a:lnTo>
                    <a:lnTo>
                      <a:pt x="897" y="24"/>
                    </a:lnTo>
                    <a:lnTo>
                      <a:pt x="878" y="32"/>
                    </a:lnTo>
                    <a:lnTo>
                      <a:pt x="854" y="41"/>
                    </a:lnTo>
                    <a:lnTo>
                      <a:pt x="835" y="41"/>
                    </a:lnTo>
                    <a:lnTo>
                      <a:pt x="828" y="66"/>
                    </a:lnTo>
                    <a:lnTo>
                      <a:pt x="847" y="66"/>
                    </a:lnTo>
                    <a:lnTo>
                      <a:pt x="866" y="66"/>
                    </a:lnTo>
                    <a:lnTo>
                      <a:pt x="885" y="66"/>
                    </a:lnTo>
                    <a:lnTo>
                      <a:pt x="903" y="74"/>
                    </a:lnTo>
                    <a:lnTo>
                      <a:pt x="908" y="98"/>
                    </a:lnTo>
                    <a:lnTo>
                      <a:pt x="890" y="123"/>
                    </a:lnTo>
                    <a:lnTo>
                      <a:pt x="873" y="123"/>
                    </a:lnTo>
                    <a:lnTo>
                      <a:pt x="854" y="123"/>
                    </a:lnTo>
                    <a:lnTo>
                      <a:pt x="835" y="123"/>
                    </a:lnTo>
                    <a:lnTo>
                      <a:pt x="817" y="123"/>
                    </a:lnTo>
                    <a:lnTo>
                      <a:pt x="811" y="148"/>
                    </a:lnTo>
                    <a:lnTo>
                      <a:pt x="835" y="163"/>
                    </a:lnTo>
                    <a:lnTo>
                      <a:pt x="859" y="172"/>
                    </a:lnTo>
                    <a:lnTo>
                      <a:pt x="878" y="172"/>
                    </a:lnTo>
                    <a:lnTo>
                      <a:pt x="897" y="172"/>
                    </a:lnTo>
                    <a:lnTo>
                      <a:pt x="922" y="172"/>
                    </a:lnTo>
                    <a:lnTo>
                      <a:pt x="939" y="172"/>
                    </a:lnTo>
                    <a:lnTo>
                      <a:pt x="958" y="172"/>
                    </a:lnTo>
                    <a:lnTo>
                      <a:pt x="977" y="197"/>
                    </a:lnTo>
                    <a:lnTo>
                      <a:pt x="958" y="222"/>
                    </a:lnTo>
                    <a:lnTo>
                      <a:pt x="939" y="222"/>
                    </a:lnTo>
                    <a:lnTo>
                      <a:pt x="922" y="222"/>
                    </a:lnTo>
                    <a:lnTo>
                      <a:pt x="897" y="222"/>
                    </a:lnTo>
                    <a:lnTo>
                      <a:pt x="878" y="222"/>
                    </a:lnTo>
                    <a:lnTo>
                      <a:pt x="859" y="212"/>
                    </a:lnTo>
                    <a:lnTo>
                      <a:pt x="835" y="212"/>
                    </a:lnTo>
                    <a:lnTo>
                      <a:pt x="811" y="212"/>
                    </a:lnTo>
                    <a:lnTo>
                      <a:pt x="805" y="237"/>
                    </a:lnTo>
                    <a:lnTo>
                      <a:pt x="798" y="261"/>
                    </a:lnTo>
                    <a:lnTo>
                      <a:pt x="828" y="271"/>
                    </a:lnTo>
                    <a:lnTo>
                      <a:pt x="847" y="279"/>
                    </a:lnTo>
                    <a:lnTo>
                      <a:pt x="866" y="279"/>
                    </a:lnTo>
                    <a:lnTo>
                      <a:pt x="885" y="286"/>
                    </a:lnTo>
                    <a:lnTo>
                      <a:pt x="903" y="286"/>
                    </a:lnTo>
                    <a:lnTo>
                      <a:pt x="922" y="286"/>
                    </a:lnTo>
                    <a:lnTo>
                      <a:pt x="922" y="311"/>
                    </a:lnTo>
                    <a:lnTo>
                      <a:pt x="897" y="320"/>
                    </a:lnTo>
                    <a:lnTo>
                      <a:pt x="873" y="320"/>
                    </a:lnTo>
                    <a:lnTo>
                      <a:pt x="847" y="320"/>
                    </a:lnTo>
                    <a:lnTo>
                      <a:pt x="828" y="320"/>
                    </a:lnTo>
                    <a:lnTo>
                      <a:pt x="798" y="320"/>
                    </a:lnTo>
                    <a:lnTo>
                      <a:pt x="774" y="320"/>
                    </a:lnTo>
                    <a:lnTo>
                      <a:pt x="755" y="320"/>
                    </a:lnTo>
                    <a:lnTo>
                      <a:pt x="737" y="320"/>
                    </a:lnTo>
                    <a:lnTo>
                      <a:pt x="743" y="345"/>
                    </a:lnTo>
                    <a:lnTo>
                      <a:pt x="767" y="368"/>
                    </a:lnTo>
                    <a:lnTo>
                      <a:pt x="793" y="368"/>
                    </a:lnTo>
                    <a:lnTo>
                      <a:pt x="811" y="368"/>
                    </a:lnTo>
                    <a:lnTo>
                      <a:pt x="811" y="392"/>
                    </a:lnTo>
                    <a:lnTo>
                      <a:pt x="786" y="402"/>
                    </a:lnTo>
                    <a:lnTo>
                      <a:pt x="762" y="402"/>
                    </a:lnTo>
                    <a:lnTo>
                      <a:pt x="737" y="402"/>
                    </a:lnTo>
                    <a:lnTo>
                      <a:pt x="718" y="402"/>
                    </a:lnTo>
                    <a:lnTo>
                      <a:pt x="701" y="402"/>
                    </a:lnTo>
                    <a:lnTo>
                      <a:pt x="701" y="427"/>
                    </a:lnTo>
                    <a:lnTo>
                      <a:pt x="718" y="434"/>
                    </a:lnTo>
                    <a:lnTo>
                      <a:pt x="701" y="442"/>
                    </a:lnTo>
                    <a:lnTo>
                      <a:pt x="675" y="451"/>
                    </a:lnTo>
                    <a:lnTo>
                      <a:pt x="657" y="451"/>
                    </a:lnTo>
                    <a:lnTo>
                      <a:pt x="638" y="451"/>
                    </a:lnTo>
                    <a:lnTo>
                      <a:pt x="621" y="451"/>
                    </a:lnTo>
                    <a:lnTo>
                      <a:pt x="602" y="451"/>
                    </a:lnTo>
                    <a:lnTo>
                      <a:pt x="583" y="451"/>
                    </a:lnTo>
                    <a:lnTo>
                      <a:pt x="565" y="451"/>
                    </a:lnTo>
                    <a:lnTo>
                      <a:pt x="583" y="466"/>
                    </a:lnTo>
                    <a:lnTo>
                      <a:pt x="565" y="484"/>
                    </a:lnTo>
                    <a:lnTo>
                      <a:pt x="541" y="484"/>
                    </a:lnTo>
                    <a:lnTo>
                      <a:pt x="515" y="484"/>
                    </a:lnTo>
                    <a:lnTo>
                      <a:pt x="485" y="484"/>
                    </a:lnTo>
                    <a:lnTo>
                      <a:pt x="454" y="484"/>
                    </a:lnTo>
                    <a:lnTo>
                      <a:pt x="430" y="484"/>
                    </a:lnTo>
                    <a:lnTo>
                      <a:pt x="405" y="484"/>
                    </a:lnTo>
                    <a:lnTo>
                      <a:pt x="386" y="484"/>
                    </a:lnTo>
                    <a:lnTo>
                      <a:pt x="369" y="484"/>
                    </a:lnTo>
                    <a:lnTo>
                      <a:pt x="386" y="484"/>
                    </a:lnTo>
                    <a:lnTo>
                      <a:pt x="405" y="484"/>
                    </a:lnTo>
                    <a:lnTo>
                      <a:pt x="423" y="484"/>
                    </a:lnTo>
                    <a:lnTo>
                      <a:pt x="423" y="459"/>
                    </a:lnTo>
                    <a:lnTo>
                      <a:pt x="405" y="459"/>
                    </a:lnTo>
                    <a:lnTo>
                      <a:pt x="381" y="459"/>
                    </a:lnTo>
                    <a:lnTo>
                      <a:pt x="362" y="459"/>
                    </a:lnTo>
                    <a:lnTo>
                      <a:pt x="331" y="459"/>
                    </a:lnTo>
                    <a:lnTo>
                      <a:pt x="308" y="451"/>
                    </a:lnTo>
                    <a:lnTo>
                      <a:pt x="282" y="451"/>
                    </a:lnTo>
                    <a:lnTo>
                      <a:pt x="308" y="442"/>
                    </a:lnTo>
                    <a:lnTo>
                      <a:pt x="331" y="442"/>
                    </a:lnTo>
                    <a:lnTo>
                      <a:pt x="350" y="442"/>
                    </a:lnTo>
                    <a:lnTo>
                      <a:pt x="374" y="442"/>
                    </a:lnTo>
                    <a:lnTo>
                      <a:pt x="399" y="442"/>
                    </a:lnTo>
                    <a:lnTo>
                      <a:pt x="417" y="442"/>
                    </a:lnTo>
                    <a:lnTo>
                      <a:pt x="417" y="417"/>
                    </a:lnTo>
                    <a:lnTo>
                      <a:pt x="399" y="409"/>
                    </a:lnTo>
                    <a:lnTo>
                      <a:pt x="374" y="409"/>
                    </a:lnTo>
                    <a:lnTo>
                      <a:pt x="355" y="409"/>
                    </a:lnTo>
                    <a:lnTo>
                      <a:pt x="325" y="409"/>
                    </a:lnTo>
                    <a:lnTo>
                      <a:pt x="301" y="409"/>
                    </a:lnTo>
                    <a:lnTo>
                      <a:pt x="282" y="409"/>
                    </a:lnTo>
                    <a:lnTo>
                      <a:pt x="258" y="409"/>
                    </a:lnTo>
                    <a:lnTo>
                      <a:pt x="233" y="402"/>
                    </a:lnTo>
                    <a:lnTo>
                      <a:pt x="209" y="402"/>
                    </a:lnTo>
                    <a:lnTo>
                      <a:pt x="190" y="402"/>
                    </a:lnTo>
                    <a:lnTo>
                      <a:pt x="159" y="392"/>
                    </a:lnTo>
                    <a:lnTo>
                      <a:pt x="183" y="368"/>
                    </a:lnTo>
                    <a:lnTo>
                      <a:pt x="209" y="368"/>
                    </a:lnTo>
                    <a:lnTo>
                      <a:pt x="233" y="368"/>
                    </a:lnTo>
                    <a:lnTo>
                      <a:pt x="258" y="368"/>
                    </a:lnTo>
                    <a:lnTo>
                      <a:pt x="275" y="368"/>
                    </a:lnTo>
                    <a:lnTo>
                      <a:pt x="294" y="368"/>
                    </a:lnTo>
                    <a:lnTo>
                      <a:pt x="275" y="345"/>
                    </a:lnTo>
                    <a:lnTo>
                      <a:pt x="258" y="345"/>
                    </a:lnTo>
                    <a:lnTo>
                      <a:pt x="233" y="345"/>
                    </a:lnTo>
                    <a:lnTo>
                      <a:pt x="209" y="345"/>
                    </a:lnTo>
                    <a:lnTo>
                      <a:pt x="183" y="345"/>
                    </a:lnTo>
                    <a:lnTo>
                      <a:pt x="159" y="345"/>
                    </a:lnTo>
                    <a:lnTo>
                      <a:pt x="141" y="345"/>
                    </a:lnTo>
                    <a:lnTo>
                      <a:pt x="122" y="345"/>
                    </a:lnTo>
                    <a:lnTo>
                      <a:pt x="86" y="335"/>
                    </a:lnTo>
                    <a:lnTo>
                      <a:pt x="61" y="335"/>
                    </a:lnTo>
                    <a:lnTo>
                      <a:pt x="42" y="335"/>
                    </a:lnTo>
                    <a:lnTo>
                      <a:pt x="23" y="335"/>
                    </a:lnTo>
                    <a:lnTo>
                      <a:pt x="49" y="328"/>
                    </a:lnTo>
                    <a:lnTo>
                      <a:pt x="68" y="328"/>
                    </a:lnTo>
                    <a:lnTo>
                      <a:pt x="86" y="328"/>
                    </a:lnTo>
                    <a:lnTo>
                      <a:pt x="117" y="328"/>
                    </a:lnTo>
                    <a:lnTo>
                      <a:pt x="148" y="328"/>
                    </a:lnTo>
                    <a:lnTo>
                      <a:pt x="165" y="328"/>
                    </a:lnTo>
                    <a:lnTo>
                      <a:pt x="183" y="328"/>
                    </a:lnTo>
                    <a:lnTo>
                      <a:pt x="202" y="328"/>
                    </a:lnTo>
                    <a:lnTo>
                      <a:pt x="221" y="328"/>
                    </a:lnTo>
                    <a:lnTo>
                      <a:pt x="228" y="303"/>
                    </a:lnTo>
                    <a:lnTo>
                      <a:pt x="209" y="286"/>
                    </a:lnTo>
                    <a:lnTo>
                      <a:pt x="178" y="279"/>
                    </a:lnTo>
                    <a:lnTo>
                      <a:pt x="159" y="279"/>
                    </a:lnTo>
                    <a:lnTo>
                      <a:pt x="134" y="279"/>
                    </a:lnTo>
                    <a:lnTo>
                      <a:pt x="110" y="279"/>
                    </a:lnTo>
                    <a:lnTo>
                      <a:pt x="86" y="279"/>
                    </a:lnTo>
                    <a:lnTo>
                      <a:pt x="68" y="279"/>
                    </a:lnTo>
                    <a:lnTo>
                      <a:pt x="49" y="279"/>
                    </a:lnTo>
                    <a:lnTo>
                      <a:pt x="30" y="279"/>
                    </a:lnTo>
                    <a:lnTo>
                      <a:pt x="11" y="271"/>
                    </a:lnTo>
                    <a:lnTo>
                      <a:pt x="37" y="261"/>
                    </a:lnTo>
                    <a:lnTo>
                      <a:pt x="54" y="261"/>
                    </a:lnTo>
                    <a:lnTo>
                      <a:pt x="73" y="254"/>
                    </a:lnTo>
                    <a:lnTo>
                      <a:pt x="98" y="254"/>
                    </a:lnTo>
                    <a:lnTo>
                      <a:pt x="129" y="254"/>
                    </a:lnTo>
                    <a:lnTo>
                      <a:pt x="148" y="254"/>
                    </a:lnTo>
                    <a:lnTo>
                      <a:pt x="171" y="254"/>
                    </a:lnTo>
                    <a:lnTo>
                      <a:pt x="190" y="254"/>
                    </a:lnTo>
                    <a:lnTo>
                      <a:pt x="178" y="229"/>
                    </a:lnTo>
                    <a:lnTo>
                      <a:pt x="159" y="229"/>
                    </a:lnTo>
                    <a:lnTo>
                      <a:pt x="141" y="229"/>
                    </a:lnTo>
                    <a:lnTo>
                      <a:pt x="117" y="229"/>
                    </a:lnTo>
                    <a:lnTo>
                      <a:pt x="98" y="229"/>
                    </a:lnTo>
                    <a:lnTo>
                      <a:pt x="73" y="229"/>
                    </a:lnTo>
                    <a:lnTo>
                      <a:pt x="54" y="212"/>
                    </a:lnTo>
                    <a:lnTo>
                      <a:pt x="54" y="187"/>
                    </a:lnTo>
                    <a:lnTo>
                      <a:pt x="73" y="180"/>
                    </a:lnTo>
                    <a:lnTo>
                      <a:pt x="91" y="180"/>
                    </a:lnTo>
                    <a:lnTo>
                      <a:pt x="117" y="180"/>
                    </a:lnTo>
                    <a:lnTo>
                      <a:pt x="134" y="180"/>
                    </a:lnTo>
                    <a:lnTo>
                      <a:pt x="159" y="180"/>
                    </a:lnTo>
                    <a:lnTo>
                      <a:pt x="178" y="180"/>
                    </a:lnTo>
                    <a:lnTo>
                      <a:pt x="197" y="180"/>
                    </a:lnTo>
                    <a:lnTo>
                      <a:pt x="214" y="180"/>
                    </a:lnTo>
                    <a:lnTo>
                      <a:pt x="221" y="155"/>
                    </a:lnTo>
                    <a:lnTo>
                      <a:pt x="202" y="148"/>
                    </a:lnTo>
                    <a:lnTo>
                      <a:pt x="183" y="148"/>
                    </a:lnTo>
                    <a:lnTo>
                      <a:pt x="153" y="148"/>
                    </a:lnTo>
                    <a:lnTo>
                      <a:pt x="134" y="148"/>
                    </a:lnTo>
                    <a:lnTo>
                      <a:pt x="110" y="148"/>
                    </a:lnTo>
                    <a:lnTo>
                      <a:pt x="91" y="148"/>
                    </a:lnTo>
                    <a:lnTo>
                      <a:pt x="73" y="148"/>
                    </a:lnTo>
                    <a:lnTo>
                      <a:pt x="91" y="130"/>
                    </a:lnTo>
                    <a:lnTo>
                      <a:pt x="117" y="130"/>
                    </a:lnTo>
                    <a:lnTo>
                      <a:pt x="134" y="130"/>
                    </a:lnTo>
                    <a:lnTo>
                      <a:pt x="153" y="130"/>
                    </a:lnTo>
                    <a:lnTo>
                      <a:pt x="159" y="106"/>
                    </a:lnTo>
                    <a:lnTo>
                      <a:pt x="141" y="98"/>
                    </a:lnTo>
                    <a:lnTo>
                      <a:pt x="110" y="98"/>
                    </a:lnTo>
                    <a:lnTo>
                      <a:pt x="91" y="98"/>
                    </a:lnTo>
                    <a:lnTo>
                      <a:pt x="73" y="98"/>
                    </a:lnTo>
                    <a:lnTo>
                      <a:pt x="54" y="98"/>
                    </a:lnTo>
                    <a:lnTo>
                      <a:pt x="37" y="98"/>
                    </a:lnTo>
                    <a:lnTo>
                      <a:pt x="18" y="98"/>
                    </a:lnTo>
                    <a:lnTo>
                      <a:pt x="0" y="98"/>
                    </a:lnTo>
                    <a:lnTo>
                      <a:pt x="11" y="66"/>
                    </a:lnTo>
                    <a:lnTo>
                      <a:pt x="37" y="56"/>
                    </a:lnTo>
                    <a:lnTo>
                      <a:pt x="61" y="56"/>
                    </a:lnTo>
                    <a:lnTo>
                      <a:pt x="86" y="56"/>
                    </a:lnTo>
                    <a:lnTo>
                      <a:pt x="110" y="56"/>
                    </a:lnTo>
                    <a:lnTo>
                      <a:pt x="129" y="56"/>
                    </a:lnTo>
                    <a:lnTo>
                      <a:pt x="148" y="56"/>
                    </a:lnTo>
                    <a:lnTo>
                      <a:pt x="134" y="32"/>
                    </a:lnTo>
                    <a:lnTo>
                      <a:pt x="110" y="32"/>
                    </a:lnTo>
                    <a:lnTo>
                      <a:pt x="91" y="32"/>
                    </a:lnTo>
                    <a:lnTo>
                      <a:pt x="73" y="32"/>
                    </a:lnTo>
                    <a:lnTo>
                      <a:pt x="86" y="7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612760" y="3870360"/>
              <a:ext cx="2341440" cy="7349760"/>
              <a:chOff x="5612760" y="3870360"/>
              <a:chExt cx="2341440" cy="73497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5612760" y="3870360"/>
                <a:ext cx="2279520" cy="7349760"/>
                <a:chOff x="5612760" y="3870360"/>
                <a:chExt cx="2279520" cy="73497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6776640" y="3870360"/>
                  <a:ext cx="1115640" cy="7241400"/>
                  <a:chOff x="6776640" y="3870360"/>
                  <a:chExt cx="1115640" cy="72414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444800" y="5403600"/>
                    <a:ext cx="399240" cy="57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474">
                        <a:moveTo>
                          <a:pt x="247" y="1615"/>
                        </a:moveTo>
                        <a:lnTo>
                          <a:pt x="226" y="2321"/>
                        </a:lnTo>
                        <a:lnTo>
                          <a:pt x="205" y="2889"/>
                        </a:lnTo>
                        <a:lnTo>
                          <a:pt x="191" y="3308"/>
                        </a:lnTo>
                        <a:lnTo>
                          <a:pt x="195" y="3473"/>
                        </a:lnTo>
                        <a:lnTo>
                          <a:pt x="165" y="3473"/>
                        </a:lnTo>
                        <a:lnTo>
                          <a:pt x="156" y="3231"/>
                        </a:lnTo>
                        <a:lnTo>
                          <a:pt x="150" y="2862"/>
                        </a:lnTo>
                        <a:lnTo>
                          <a:pt x="140" y="2516"/>
                        </a:lnTo>
                        <a:lnTo>
                          <a:pt x="135" y="2260"/>
                        </a:lnTo>
                        <a:lnTo>
                          <a:pt x="123" y="1884"/>
                        </a:lnTo>
                        <a:lnTo>
                          <a:pt x="109" y="1557"/>
                        </a:lnTo>
                        <a:lnTo>
                          <a:pt x="97" y="1273"/>
                        </a:lnTo>
                        <a:lnTo>
                          <a:pt x="85" y="965"/>
                        </a:lnTo>
                        <a:lnTo>
                          <a:pt x="67" y="662"/>
                        </a:lnTo>
                        <a:lnTo>
                          <a:pt x="46" y="406"/>
                        </a:lnTo>
                        <a:lnTo>
                          <a:pt x="11" y="155"/>
                        </a:lnTo>
                        <a:lnTo>
                          <a:pt x="0" y="58"/>
                        </a:lnTo>
                        <a:lnTo>
                          <a:pt x="14" y="0"/>
                        </a:lnTo>
                        <a:lnTo>
                          <a:pt x="36" y="100"/>
                        </a:lnTo>
                        <a:lnTo>
                          <a:pt x="67" y="332"/>
                        </a:lnTo>
                        <a:lnTo>
                          <a:pt x="91" y="571"/>
                        </a:lnTo>
                        <a:lnTo>
                          <a:pt x="109" y="818"/>
                        </a:lnTo>
                        <a:lnTo>
                          <a:pt x="120" y="1136"/>
                        </a:lnTo>
                        <a:lnTo>
                          <a:pt x="132" y="1435"/>
                        </a:lnTo>
                        <a:lnTo>
                          <a:pt x="149" y="1841"/>
                        </a:lnTo>
                        <a:lnTo>
                          <a:pt x="162" y="2174"/>
                        </a:lnTo>
                        <a:lnTo>
                          <a:pt x="167" y="2440"/>
                        </a:lnTo>
                        <a:lnTo>
                          <a:pt x="172" y="2715"/>
                        </a:lnTo>
                        <a:lnTo>
                          <a:pt x="184" y="2999"/>
                        </a:lnTo>
                        <a:lnTo>
                          <a:pt x="200" y="2510"/>
                        </a:lnTo>
                        <a:lnTo>
                          <a:pt x="219" y="2052"/>
                        </a:lnTo>
                        <a:lnTo>
                          <a:pt x="247" y="1615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776640" y="3870360"/>
                    <a:ext cx="1115640" cy="41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2534">
                        <a:moveTo>
                          <a:pt x="417" y="595"/>
                        </a:moveTo>
                        <a:lnTo>
                          <a:pt x="404" y="479"/>
                        </a:lnTo>
                        <a:lnTo>
                          <a:pt x="384" y="369"/>
                        </a:lnTo>
                        <a:lnTo>
                          <a:pt x="359" y="244"/>
                        </a:lnTo>
                        <a:lnTo>
                          <a:pt x="330" y="149"/>
                        </a:lnTo>
                        <a:lnTo>
                          <a:pt x="298" y="70"/>
                        </a:lnTo>
                        <a:lnTo>
                          <a:pt x="253" y="27"/>
                        </a:lnTo>
                        <a:lnTo>
                          <a:pt x="194" y="3"/>
                        </a:lnTo>
                        <a:lnTo>
                          <a:pt x="155" y="6"/>
                        </a:lnTo>
                        <a:lnTo>
                          <a:pt x="111" y="0"/>
                        </a:lnTo>
                        <a:lnTo>
                          <a:pt x="139" y="61"/>
                        </a:lnTo>
                        <a:lnTo>
                          <a:pt x="164" y="70"/>
                        </a:lnTo>
                        <a:lnTo>
                          <a:pt x="197" y="103"/>
                        </a:lnTo>
                        <a:lnTo>
                          <a:pt x="227" y="137"/>
                        </a:lnTo>
                        <a:lnTo>
                          <a:pt x="273" y="213"/>
                        </a:lnTo>
                        <a:lnTo>
                          <a:pt x="310" y="317"/>
                        </a:lnTo>
                        <a:lnTo>
                          <a:pt x="333" y="449"/>
                        </a:lnTo>
                        <a:lnTo>
                          <a:pt x="368" y="730"/>
                        </a:lnTo>
                        <a:lnTo>
                          <a:pt x="273" y="543"/>
                        </a:lnTo>
                        <a:lnTo>
                          <a:pt x="242" y="498"/>
                        </a:lnTo>
                        <a:lnTo>
                          <a:pt x="206" y="464"/>
                        </a:lnTo>
                        <a:lnTo>
                          <a:pt x="173" y="452"/>
                        </a:lnTo>
                        <a:lnTo>
                          <a:pt x="154" y="436"/>
                        </a:lnTo>
                        <a:lnTo>
                          <a:pt x="92" y="412"/>
                        </a:lnTo>
                        <a:lnTo>
                          <a:pt x="0" y="394"/>
                        </a:lnTo>
                        <a:lnTo>
                          <a:pt x="0" y="565"/>
                        </a:lnTo>
                        <a:lnTo>
                          <a:pt x="20" y="565"/>
                        </a:lnTo>
                        <a:lnTo>
                          <a:pt x="49" y="571"/>
                        </a:lnTo>
                        <a:lnTo>
                          <a:pt x="83" y="562"/>
                        </a:lnTo>
                        <a:lnTo>
                          <a:pt x="108" y="565"/>
                        </a:lnTo>
                        <a:lnTo>
                          <a:pt x="177" y="583"/>
                        </a:lnTo>
                        <a:lnTo>
                          <a:pt x="205" y="604"/>
                        </a:lnTo>
                        <a:lnTo>
                          <a:pt x="307" y="705"/>
                        </a:lnTo>
                        <a:lnTo>
                          <a:pt x="359" y="785"/>
                        </a:lnTo>
                        <a:lnTo>
                          <a:pt x="321" y="797"/>
                        </a:lnTo>
                        <a:lnTo>
                          <a:pt x="294" y="800"/>
                        </a:lnTo>
                        <a:lnTo>
                          <a:pt x="253" y="879"/>
                        </a:lnTo>
                        <a:lnTo>
                          <a:pt x="234" y="1002"/>
                        </a:lnTo>
                        <a:lnTo>
                          <a:pt x="261" y="931"/>
                        </a:lnTo>
                        <a:lnTo>
                          <a:pt x="340" y="849"/>
                        </a:lnTo>
                        <a:lnTo>
                          <a:pt x="388" y="886"/>
                        </a:lnTo>
                        <a:lnTo>
                          <a:pt x="357" y="928"/>
                        </a:lnTo>
                        <a:lnTo>
                          <a:pt x="319" y="931"/>
                        </a:lnTo>
                        <a:lnTo>
                          <a:pt x="223" y="1029"/>
                        </a:lnTo>
                        <a:lnTo>
                          <a:pt x="194" y="1054"/>
                        </a:lnTo>
                        <a:lnTo>
                          <a:pt x="163" y="1087"/>
                        </a:lnTo>
                        <a:lnTo>
                          <a:pt x="136" y="1142"/>
                        </a:lnTo>
                        <a:lnTo>
                          <a:pt x="107" y="1274"/>
                        </a:lnTo>
                        <a:lnTo>
                          <a:pt x="90" y="1371"/>
                        </a:lnTo>
                        <a:lnTo>
                          <a:pt x="37" y="1689"/>
                        </a:lnTo>
                        <a:lnTo>
                          <a:pt x="19" y="1775"/>
                        </a:lnTo>
                        <a:lnTo>
                          <a:pt x="103" y="1533"/>
                        </a:lnTo>
                        <a:lnTo>
                          <a:pt x="142" y="1445"/>
                        </a:lnTo>
                        <a:lnTo>
                          <a:pt x="205" y="1261"/>
                        </a:lnTo>
                        <a:lnTo>
                          <a:pt x="235" y="1191"/>
                        </a:lnTo>
                        <a:lnTo>
                          <a:pt x="261" y="1142"/>
                        </a:lnTo>
                        <a:lnTo>
                          <a:pt x="334" y="1057"/>
                        </a:lnTo>
                        <a:lnTo>
                          <a:pt x="375" y="986"/>
                        </a:lnTo>
                        <a:lnTo>
                          <a:pt x="344" y="1063"/>
                        </a:lnTo>
                        <a:lnTo>
                          <a:pt x="268" y="1469"/>
                        </a:lnTo>
                        <a:lnTo>
                          <a:pt x="238" y="1646"/>
                        </a:lnTo>
                        <a:lnTo>
                          <a:pt x="224" y="1747"/>
                        </a:lnTo>
                        <a:lnTo>
                          <a:pt x="217" y="1845"/>
                        </a:lnTo>
                        <a:lnTo>
                          <a:pt x="211" y="1958"/>
                        </a:lnTo>
                        <a:lnTo>
                          <a:pt x="210" y="2047"/>
                        </a:lnTo>
                        <a:lnTo>
                          <a:pt x="202" y="2224"/>
                        </a:lnTo>
                        <a:lnTo>
                          <a:pt x="238" y="2047"/>
                        </a:lnTo>
                        <a:lnTo>
                          <a:pt x="261" y="1802"/>
                        </a:lnTo>
                        <a:lnTo>
                          <a:pt x="278" y="1653"/>
                        </a:lnTo>
                        <a:lnTo>
                          <a:pt x="294" y="1558"/>
                        </a:lnTo>
                        <a:lnTo>
                          <a:pt x="333" y="1378"/>
                        </a:lnTo>
                        <a:lnTo>
                          <a:pt x="350" y="1289"/>
                        </a:lnTo>
                        <a:lnTo>
                          <a:pt x="363" y="1179"/>
                        </a:lnTo>
                        <a:lnTo>
                          <a:pt x="388" y="1026"/>
                        </a:lnTo>
                        <a:lnTo>
                          <a:pt x="355" y="1170"/>
                        </a:lnTo>
                        <a:lnTo>
                          <a:pt x="337" y="1329"/>
                        </a:lnTo>
                        <a:lnTo>
                          <a:pt x="330" y="1646"/>
                        </a:lnTo>
                        <a:lnTo>
                          <a:pt x="333" y="1763"/>
                        </a:lnTo>
                        <a:lnTo>
                          <a:pt x="341" y="1973"/>
                        </a:lnTo>
                        <a:lnTo>
                          <a:pt x="349" y="2056"/>
                        </a:lnTo>
                        <a:lnTo>
                          <a:pt x="392" y="2395"/>
                        </a:lnTo>
                        <a:lnTo>
                          <a:pt x="398" y="2533"/>
                        </a:lnTo>
                        <a:lnTo>
                          <a:pt x="387" y="2065"/>
                        </a:lnTo>
                        <a:lnTo>
                          <a:pt x="362" y="1708"/>
                        </a:lnTo>
                        <a:lnTo>
                          <a:pt x="358" y="1585"/>
                        </a:lnTo>
                        <a:lnTo>
                          <a:pt x="355" y="1301"/>
                        </a:lnTo>
                        <a:lnTo>
                          <a:pt x="359" y="1216"/>
                        </a:lnTo>
                        <a:lnTo>
                          <a:pt x="376" y="1072"/>
                        </a:lnTo>
                        <a:lnTo>
                          <a:pt x="392" y="977"/>
                        </a:lnTo>
                        <a:lnTo>
                          <a:pt x="417" y="1032"/>
                        </a:lnTo>
                        <a:lnTo>
                          <a:pt x="456" y="1158"/>
                        </a:lnTo>
                        <a:lnTo>
                          <a:pt x="502" y="1414"/>
                        </a:lnTo>
                        <a:lnTo>
                          <a:pt x="532" y="1625"/>
                        </a:lnTo>
                        <a:lnTo>
                          <a:pt x="557" y="1814"/>
                        </a:lnTo>
                        <a:lnTo>
                          <a:pt x="601" y="2096"/>
                        </a:lnTo>
                        <a:lnTo>
                          <a:pt x="631" y="2242"/>
                        </a:lnTo>
                        <a:lnTo>
                          <a:pt x="656" y="2337"/>
                        </a:lnTo>
                        <a:lnTo>
                          <a:pt x="646" y="2199"/>
                        </a:lnTo>
                        <a:lnTo>
                          <a:pt x="546" y="1591"/>
                        </a:lnTo>
                        <a:lnTo>
                          <a:pt x="485" y="1268"/>
                        </a:lnTo>
                        <a:lnTo>
                          <a:pt x="467" y="1145"/>
                        </a:lnTo>
                        <a:lnTo>
                          <a:pt x="453" y="1035"/>
                        </a:lnTo>
                        <a:lnTo>
                          <a:pt x="408" y="818"/>
                        </a:lnTo>
                        <a:lnTo>
                          <a:pt x="415" y="721"/>
                        </a:lnTo>
                        <a:lnTo>
                          <a:pt x="464" y="663"/>
                        </a:lnTo>
                        <a:lnTo>
                          <a:pt x="487" y="684"/>
                        </a:lnTo>
                        <a:lnTo>
                          <a:pt x="518" y="690"/>
                        </a:lnTo>
                        <a:lnTo>
                          <a:pt x="549" y="711"/>
                        </a:lnTo>
                        <a:lnTo>
                          <a:pt x="676" y="745"/>
                        </a:lnTo>
                        <a:lnTo>
                          <a:pt x="668" y="742"/>
                        </a:lnTo>
                        <a:lnTo>
                          <a:pt x="678" y="681"/>
                        </a:lnTo>
                        <a:lnTo>
                          <a:pt x="684" y="681"/>
                        </a:lnTo>
                        <a:lnTo>
                          <a:pt x="651" y="669"/>
                        </a:lnTo>
                        <a:lnTo>
                          <a:pt x="612" y="669"/>
                        </a:lnTo>
                        <a:lnTo>
                          <a:pt x="562" y="693"/>
                        </a:lnTo>
                        <a:lnTo>
                          <a:pt x="508" y="736"/>
                        </a:lnTo>
                        <a:lnTo>
                          <a:pt x="463" y="785"/>
                        </a:lnTo>
                        <a:lnTo>
                          <a:pt x="426" y="815"/>
                        </a:lnTo>
                        <a:lnTo>
                          <a:pt x="476" y="702"/>
                        </a:lnTo>
                        <a:lnTo>
                          <a:pt x="548" y="595"/>
                        </a:lnTo>
                        <a:lnTo>
                          <a:pt x="623" y="549"/>
                        </a:lnTo>
                        <a:lnTo>
                          <a:pt x="657" y="546"/>
                        </a:lnTo>
                        <a:lnTo>
                          <a:pt x="690" y="553"/>
                        </a:lnTo>
                        <a:lnTo>
                          <a:pt x="677" y="553"/>
                        </a:lnTo>
                        <a:lnTo>
                          <a:pt x="692" y="467"/>
                        </a:lnTo>
                        <a:lnTo>
                          <a:pt x="648" y="479"/>
                        </a:lnTo>
                        <a:lnTo>
                          <a:pt x="599" y="531"/>
                        </a:lnTo>
                        <a:lnTo>
                          <a:pt x="545" y="604"/>
                        </a:lnTo>
                        <a:lnTo>
                          <a:pt x="461" y="754"/>
                        </a:lnTo>
                        <a:lnTo>
                          <a:pt x="423" y="812"/>
                        </a:lnTo>
                        <a:lnTo>
                          <a:pt x="444" y="623"/>
                        </a:lnTo>
                        <a:lnTo>
                          <a:pt x="487" y="543"/>
                        </a:lnTo>
                        <a:lnTo>
                          <a:pt x="537" y="464"/>
                        </a:lnTo>
                        <a:lnTo>
                          <a:pt x="606" y="369"/>
                        </a:lnTo>
                        <a:lnTo>
                          <a:pt x="640" y="336"/>
                        </a:lnTo>
                        <a:lnTo>
                          <a:pt x="599" y="311"/>
                        </a:lnTo>
                        <a:lnTo>
                          <a:pt x="566" y="369"/>
                        </a:lnTo>
                        <a:lnTo>
                          <a:pt x="532" y="449"/>
                        </a:lnTo>
                        <a:lnTo>
                          <a:pt x="504" y="507"/>
                        </a:lnTo>
                        <a:lnTo>
                          <a:pt x="460" y="629"/>
                        </a:lnTo>
                        <a:lnTo>
                          <a:pt x="417" y="595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612760" y="5834160"/>
                  <a:ext cx="2082960" cy="5385960"/>
                  <a:chOff x="5612760" y="5834160"/>
                  <a:chExt cx="2082960" cy="538596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6411240" y="6778800"/>
                    <a:ext cx="573120" cy="444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703">
                        <a:moveTo>
                          <a:pt x="355" y="1256"/>
                        </a:moveTo>
                        <a:lnTo>
                          <a:pt x="324" y="1806"/>
                        </a:lnTo>
                        <a:lnTo>
                          <a:pt x="294" y="2246"/>
                        </a:lnTo>
                        <a:lnTo>
                          <a:pt x="275" y="2573"/>
                        </a:lnTo>
                        <a:lnTo>
                          <a:pt x="280" y="2702"/>
                        </a:lnTo>
                        <a:lnTo>
                          <a:pt x="237" y="2702"/>
                        </a:lnTo>
                        <a:lnTo>
                          <a:pt x="223" y="2512"/>
                        </a:lnTo>
                        <a:lnTo>
                          <a:pt x="217" y="2228"/>
                        </a:lnTo>
                        <a:lnTo>
                          <a:pt x="200" y="1959"/>
                        </a:lnTo>
                        <a:lnTo>
                          <a:pt x="193" y="1757"/>
                        </a:lnTo>
                        <a:lnTo>
                          <a:pt x="177" y="1464"/>
                        </a:lnTo>
                        <a:lnTo>
                          <a:pt x="156" y="1213"/>
                        </a:lnTo>
                        <a:lnTo>
                          <a:pt x="140" y="990"/>
                        </a:lnTo>
                        <a:lnTo>
                          <a:pt x="123" y="751"/>
                        </a:lnTo>
                        <a:lnTo>
                          <a:pt x="96" y="513"/>
                        </a:lnTo>
                        <a:lnTo>
                          <a:pt x="66" y="314"/>
                        </a:lnTo>
                        <a:lnTo>
                          <a:pt x="16" y="119"/>
                        </a:lnTo>
                        <a:lnTo>
                          <a:pt x="0" y="45"/>
                        </a:lnTo>
                        <a:lnTo>
                          <a:pt x="20" y="0"/>
                        </a:lnTo>
                        <a:lnTo>
                          <a:pt x="53" y="79"/>
                        </a:lnTo>
                        <a:lnTo>
                          <a:pt x="96" y="259"/>
                        </a:lnTo>
                        <a:lnTo>
                          <a:pt x="130" y="443"/>
                        </a:lnTo>
                        <a:lnTo>
                          <a:pt x="156" y="635"/>
                        </a:lnTo>
                        <a:lnTo>
                          <a:pt x="173" y="883"/>
                        </a:lnTo>
                        <a:lnTo>
                          <a:pt x="190" y="1115"/>
                        </a:lnTo>
                        <a:lnTo>
                          <a:pt x="214" y="1430"/>
                        </a:lnTo>
                        <a:lnTo>
                          <a:pt x="233" y="1690"/>
                        </a:lnTo>
                        <a:lnTo>
                          <a:pt x="241" y="1898"/>
                        </a:lnTo>
                        <a:lnTo>
                          <a:pt x="247" y="2112"/>
                        </a:lnTo>
                        <a:lnTo>
                          <a:pt x="264" y="2332"/>
                        </a:lnTo>
                        <a:lnTo>
                          <a:pt x="288" y="1953"/>
                        </a:lnTo>
                        <a:lnTo>
                          <a:pt x="315" y="1598"/>
                        </a:lnTo>
                        <a:lnTo>
                          <a:pt x="355" y="1256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586920" y="7497000"/>
                    <a:ext cx="1025640" cy="31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1944">
                        <a:moveTo>
                          <a:pt x="120" y="171"/>
                        </a:moveTo>
                        <a:lnTo>
                          <a:pt x="131" y="213"/>
                        </a:lnTo>
                        <a:lnTo>
                          <a:pt x="142" y="244"/>
                        </a:lnTo>
                        <a:lnTo>
                          <a:pt x="155" y="278"/>
                        </a:lnTo>
                        <a:lnTo>
                          <a:pt x="168" y="317"/>
                        </a:lnTo>
                        <a:lnTo>
                          <a:pt x="180" y="345"/>
                        </a:lnTo>
                        <a:lnTo>
                          <a:pt x="190" y="363"/>
                        </a:lnTo>
                        <a:lnTo>
                          <a:pt x="202" y="378"/>
                        </a:lnTo>
                        <a:lnTo>
                          <a:pt x="195" y="320"/>
                        </a:lnTo>
                        <a:lnTo>
                          <a:pt x="189" y="244"/>
                        </a:lnTo>
                        <a:lnTo>
                          <a:pt x="182" y="164"/>
                        </a:lnTo>
                        <a:lnTo>
                          <a:pt x="176" y="82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80" y="27"/>
                        </a:lnTo>
                        <a:lnTo>
                          <a:pt x="194" y="27"/>
                        </a:lnTo>
                        <a:lnTo>
                          <a:pt x="195" y="27"/>
                        </a:lnTo>
                        <a:lnTo>
                          <a:pt x="195" y="12"/>
                        </a:lnTo>
                        <a:lnTo>
                          <a:pt x="205" y="91"/>
                        </a:lnTo>
                        <a:lnTo>
                          <a:pt x="212" y="164"/>
                        </a:lnTo>
                        <a:lnTo>
                          <a:pt x="219" y="226"/>
                        </a:lnTo>
                        <a:lnTo>
                          <a:pt x="227" y="308"/>
                        </a:lnTo>
                        <a:lnTo>
                          <a:pt x="231" y="360"/>
                        </a:lnTo>
                        <a:lnTo>
                          <a:pt x="236" y="387"/>
                        </a:lnTo>
                        <a:lnTo>
                          <a:pt x="242" y="360"/>
                        </a:lnTo>
                        <a:lnTo>
                          <a:pt x="250" y="323"/>
                        </a:lnTo>
                        <a:lnTo>
                          <a:pt x="261" y="284"/>
                        </a:lnTo>
                        <a:lnTo>
                          <a:pt x="263" y="216"/>
                        </a:lnTo>
                        <a:lnTo>
                          <a:pt x="266" y="164"/>
                        </a:lnTo>
                        <a:lnTo>
                          <a:pt x="269" y="79"/>
                        </a:lnTo>
                        <a:lnTo>
                          <a:pt x="270" y="0"/>
                        </a:lnTo>
                        <a:lnTo>
                          <a:pt x="269" y="0"/>
                        </a:lnTo>
                        <a:lnTo>
                          <a:pt x="283" y="27"/>
                        </a:lnTo>
                        <a:lnTo>
                          <a:pt x="287" y="27"/>
                        </a:lnTo>
                        <a:lnTo>
                          <a:pt x="289" y="27"/>
                        </a:lnTo>
                        <a:lnTo>
                          <a:pt x="291" y="27"/>
                        </a:lnTo>
                        <a:lnTo>
                          <a:pt x="293" y="27"/>
                        </a:lnTo>
                        <a:lnTo>
                          <a:pt x="292" y="27"/>
                        </a:lnTo>
                        <a:lnTo>
                          <a:pt x="287" y="27"/>
                        </a:lnTo>
                        <a:lnTo>
                          <a:pt x="288" y="27"/>
                        </a:lnTo>
                        <a:lnTo>
                          <a:pt x="288" y="27"/>
                        </a:lnTo>
                        <a:lnTo>
                          <a:pt x="295" y="27"/>
                        </a:lnTo>
                        <a:lnTo>
                          <a:pt x="288" y="27"/>
                        </a:lnTo>
                        <a:lnTo>
                          <a:pt x="283" y="27"/>
                        </a:lnTo>
                        <a:lnTo>
                          <a:pt x="286" y="27"/>
                        </a:lnTo>
                        <a:lnTo>
                          <a:pt x="287" y="27"/>
                        </a:lnTo>
                        <a:lnTo>
                          <a:pt x="282" y="27"/>
                        </a:lnTo>
                        <a:lnTo>
                          <a:pt x="292" y="27"/>
                        </a:lnTo>
                        <a:lnTo>
                          <a:pt x="288" y="27"/>
                        </a:lnTo>
                        <a:lnTo>
                          <a:pt x="280" y="27"/>
                        </a:lnTo>
                        <a:lnTo>
                          <a:pt x="282" y="27"/>
                        </a:lnTo>
                        <a:lnTo>
                          <a:pt x="288" y="27"/>
                        </a:lnTo>
                        <a:lnTo>
                          <a:pt x="287" y="27"/>
                        </a:lnTo>
                        <a:lnTo>
                          <a:pt x="292" y="27"/>
                        </a:lnTo>
                        <a:lnTo>
                          <a:pt x="292" y="27"/>
                        </a:lnTo>
                        <a:lnTo>
                          <a:pt x="284" y="27"/>
                        </a:lnTo>
                        <a:lnTo>
                          <a:pt x="300" y="27"/>
                        </a:lnTo>
                        <a:lnTo>
                          <a:pt x="288" y="27"/>
                        </a:lnTo>
                        <a:lnTo>
                          <a:pt x="291" y="27"/>
                        </a:lnTo>
                        <a:lnTo>
                          <a:pt x="300" y="15"/>
                        </a:lnTo>
                        <a:lnTo>
                          <a:pt x="299" y="85"/>
                        </a:lnTo>
                        <a:lnTo>
                          <a:pt x="297" y="171"/>
                        </a:lnTo>
                        <a:lnTo>
                          <a:pt x="295" y="256"/>
                        </a:lnTo>
                        <a:lnTo>
                          <a:pt x="289" y="360"/>
                        </a:lnTo>
                        <a:lnTo>
                          <a:pt x="286" y="452"/>
                        </a:lnTo>
                        <a:lnTo>
                          <a:pt x="282" y="546"/>
                        </a:lnTo>
                        <a:lnTo>
                          <a:pt x="295" y="519"/>
                        </a:lnTo>
                        <a:lnTo>
                          <a:pt x="310" y="482"/>
                        </a:lnTo>
                        <a:lnTo>
                          <a:pt x="330" y="439"/>
                        </a:lnTo>
                        <a:lnTo>
                          <a:pt x="344" y="424"/>
                        </a:lnTo>
                        <a:lnTo>
                          <a:pt x="361" y="418"/>
                        </a:lnTo>
                        <a:lnTo>
                          <a:pt x="374" y="430"/>
                        </a:lnTo>
                        <a:lnTo>
                          <a:pt x="387" y="433"/>
                        </a:lnTo>
                        <a:lnTo>
                          <a:pt x="407" y="442"/>
                        </a:lnTo>
                        <a:lnTo>
                          <a:pt x="432" y="452"/>
                        </a:lnTo>
                        <a:lnTo>
                          <a:pt x="453" y="452"/>
                        </a:lnTo>
                        <a:lnTo>
                          <a:pt x="474" y="442"/>
                        </a:lnTo>
                        <a:lnTo>
                          <a:pt x="491" y="446"/>
                        </a:lnTo>
                        <a:lnTo>
                          <a:pt x="509" y="452"/>
                        </a:lnTo>
                        <a:lnTo>
                          <a:pt x="524" y="479"/>
                        </a:lnTo>
                        <a:lnTo>
                          <a:pt x="545" y="507"/>
                        </a:lnTo>
                        <a:lnTo>
                          <a:pt x="560" y="534"/>
                        </a:lnTo>
                        <a:lnTo>
                          <a:pt x="573" y="571"/>
                        </a:lnTo>
                        <a:lnTo>
                          <a:pt x="590" y="614"/>
                        </a:lnTo>
                        <a:lnTo>
                          <a:pt x="599" y="641"/>
                        </a:lnTo>
                        <a:lnTo>
                          <a:pt x="613" y="705"/>
                        </a:lnTo>
                        <a:lnTo>
                          <a:pt x="624" y="775"/>
                        </a:lnTo>
                        <a:lnTo>
                          <a:pt x="636" y="846"/>
                        </a:lnTo>
                        <a:lnTo>
                          <a:pt x="622" y="849"/>
                        </a:lnTo>
                        <a:lnTo>
                          <a:pt x="605" y="843"/>
                        </a:lnTo>
                        <a:lnTo>
                          <a:pt x="587" y="830"/>
                        </a:lnTo>
                        <a:lnTo>
                          <a:pt x="573" y="818"/>
                        </a:lnTo>
                        <a:lnTo>
                          <a:pt x="560" y="803"/>
                        </a:lnTo>
                        <a:lnTo>
                          <a:pt x="544" y="779"/>
                        </a:lnTo>
                        <a:lnTo>
                          <a:pt x="527" y="751"/>
                        </a:lnTo>
                        <a:lnTo>
                          <a:pt x="514" y="736"/>
                        </a:lnTo>
                        <a:lnTo>
                          <a:pt x="501" y="727"/>
                        </a:lnTo>
                        <a:lnTo>
                          <a:pt x="477" y="714"/>
                        </a:lnTo>
                        <a:lnTo>
                          <a:pt x="453" y="705"/>
                        </a:lnTo>
                        <a:lnTo>
                          <a:pt x="430" y="687"/>
                        </a:lnTo>
                        <a:lnTo>
                          <a:pt x="408" y="675"/>
                        </a:lnTo>
                        <a:lnTo>
                          <a:pt x="386" y="665"/>
                        </a:lnTo>
                        <a:lnTo>
                          <a:pt x="370" y="659"/>
                        </a:lnTo>
                        <a:lnTo>
                          <a:pt x="359" y="656"/>
                        </a:lnTo>
                        <a:lnTo>
                          <a:pt x="342" y="656"/>
                        </a:lnTo>
                        <a:lnTo>
                          <a:pt x="325" y="659"/>
                        </a:lnTo>
                        <a:lnTo>
                          <a:pt x="314" y="669"/>
                        </a:lnTo>
                        <a:lnTo>
                          <a:pt x="300" y="684"/>
                        </a:lnTo>
                        <a:lnTo>
                          <a:pt x="280" y="705"/>
                        </a:lnTo>
                        <a:lnTo>
                          <a:pt x="295" y="736"/>
                        </a:lnTo>
                        <a:lnTo>
                          <a:pt x="310" y="766"/>
                        </a:lnTo>
                        <a:lnTo>
                          <a:pt x="325" y="803"/>
                        </a:lnTo>
                        <a:lnTo>
                          <a:pt x="342" y="818"/>
                        </a:lnTo>
                        <a:lnTo>
                          <a:pt x="360" y="846"/>
                        </a:lnTo>
                        <a:lnTo>
                          <a:pt x="373" y="861"/>
                        </a:lnTo>
                        <a:lnTo>
                          <a:pt x="390" y="867"/>
                        </a:lnTo>
                        <a:lnTo>
                          <a:pt x="410" y="885"/>
                        </a:lnTo>
                        <a:lnTo>
                          <a:pt x="430" y="898"/>
                        </a:lnTo>
                        <a:lnTo>
                          <a:pt x="450" y="910"/>
                        </a:lnTo>
                        <a:lnTo>
                          <a:pt x="470" y="922"/>
                        </a:lnTo>
                        <a:lnTo>
                          <a:pt x="487" y="928"/>
                        </a:lnTo>
                        <a:lnTo>
                          <a:pt x="505" y="947"/>
                        </a:lnTo>
                        <a:lnTo>
                          <a:pt x="523" y="956"/>
                        </a:lnTo>
                        <a:lnTo>
                          <a:pt x="535" y="977"/>
                        </a:lnTo>
                        <a:lnTo>
                          <a:pt x="549" y="1014"/>
                        </a:lnTo>
                        <a:lnTo>
                          <a:pt x="564" y="1053"/>
                        </a:lnTo>
                        <a:lnTo>
                          <a:pt x="577" y="1099"/>
                        </a:lnTo>
                        <a:lnTo>
                          <a:pt x="591" y="1154"/>
                        </a:lnTo>
                        <a:lnTo>
                          <a:pt x="599" y="1191"/>
                        </a:lnTo>
                        <a:lnTo>
                          <a:pt x="605" y="1246"/>
                        </a:lnTo>
                        <a:lnTo>
                          <a:pt x="612" y="1310"/>
                        </a:lnTo>
                        <a:lnTo>
                          <a:pt x="619" y="1377"/>
                        </a:lnTo>
                        <a:lnTo>
                          <a:pt x="625" y="1429"/>
                        </a:lnTo>
                        <a:lnTo>
                          <a:pt x="612" y="1402"/>
                        </a:lnTo>
                        <a:lnTo>
                          <a:pt x="592" y="1362"/>
                        </a:lnTo>
                        <a:lnTo>
                          <a:pt x="577" y="1335"/>
                        </a:lnTo>
                        <a:lnTo>
                          <a:pt x="560" y="1295"/>
                        </a:lnTo>
                        <a:lnTo>
                          <a:pt x="541" y="1258"/>
                        </a:lnTo>
                        <a:lnTo>
                          <a:pt x="526" y="1231"/>
                        </a:lnTo>
                        <a:lnTo>
                          <a:pt x="508" y="1194"/>
                        </a:lnTo>
                        <a:lnTo>
                          <a:pt x="491" y="1160"/>
                        </a:lnTo>
                        <a:lnTo>
                          <a:pt x="474" y="1124"/>
                        </a:lnTo>
                        <a:lnTo>
                          <a:pt x="457" y="1084"/>
                        </a:lnTo>
                        <a:lnTo>
                          <a:pt x="441" y="1057"/>
                        </a:lnTo>
                        <a:lnTo>
                          <a:pt x="423" y="1020"/>
                        </a:lnTo>
                        <a:lnTo>
                          <a:pt x="406" y="992"/>
                        </a:lnTo>
                        <a:lnTo>
                          <a:pt x="389" y="968"/>
                        </a:lnTo>
                        <a:lnTo>
                          <a:pt x="373" y="940"/>
                        </a:lnTo>
                        <a:lnTo>
                          <a:pt x="361" y="928"/>
                        </a:lnTo>
                        <a:lnTo>
                          <a:pt x="348" y="907"/>
                        </a:lnTo>
                        <a:lnTo>
                          <a:pt x="334" y="885"/>
                        </a:lnTo>
                        <a:lnTo>
                          <a:pt x="321" y="861"/>
                        </a:lnTo>
                        <a:lnTo>
                          <a:pt x="312" y="870"/>
                        </a:lnTo>
                        <a:lnTo>
                          <a:pt x="299" y="882"/>
                        </a:lnTo>
                        <a:lnTo>
                          <a:pt x="288" y="879"/>
                        </a:lnTo>
                        <a:lnTo>
                          <a:pt x="278" y="861"/>
                        </a:lnTo>
                        <a:lnTo>
                          <a:pt x="275" y="928"/>
                        </a:lnTo>
                        <a:lnTo>
                          <a:pt x="272" y="1008"/>
                        </a:lnTo>
                        <a:lnTo>
                          <a:pt x="280" y="1075"/>
                        </a:lnTo>
                        <a:lnTo>
                          <a:pt x="287" y="1148"/>
                        </a:lnTo>
                        <a:lnTo>
                          <a:pt x="299" y="1197"/>
                        </a:lnTo>
                        <a:lnTo>
                          <a:pt x="310" y="1261"/>
                        </a:lnTo>
                        <a:lnTo>
                          <a:pt x="322" y="1335"/>
                        </a:lnTo>
                        <a:lnTo>
                          <a:pt x="334" y="1411"/>
                        </a:lnTo>
                        <a:lnTo>
                          <a:pt x="344" y="1463"/>
                        </a:lnTo>
                        <a:lnTo>
                          <a:pt x="356" y="1515"/>
                        </a:lnTo>
                        <a:lnTo>
                          <a:pt x="365" y="1619"/>
                        </a:lnTo>
                        <a:lnTo>
                          <a:pt x="369" y="1701"/>
                        </a:lnTo>
                        <a:lnTo>
                          <a:pt x="378" y="1805"/>
                        </a:lnTo>
                        <a:lnTo>
                          <a:pt x="386" y="1900"/>
                        </a:lnTo>
                        <a:lnTo>
                          <a:pt x="348" y="1900"/>
                        </a:lnTo>
                        <a:lnTo>
                          <a:pt x="342" y="1900"/>
                        </a:lnTo>
                        <a:lnTo>
                          <a:pt x="319" y="1787"/>
                        </a:lnTo>
                        <a:lnTo>
                          <a:pt x="301" y="1674"/>
                        </a:lnTo>
                        <a:lnTo>
                          <a:pt x="288" y="1582"/>
                        </a:lnTo>
                        <a:lnTo>
                          <a:pt x="279" y="1487"/>
                        </a:lnTo>
                        <a:lnTo>
                          <a:pt x="274" y="1390"/>
                        </a:lnTo>
                        <a:lnTo>
                          <a:pt x="267" y="1289"/>
                        </a:lnTo>
                        <a:lnTo>
                          <a:pt x="253" y="1139"/>
                        </a:lnTo>
                        <a:lnTo>
                          <a:pt x="242" y="1093"/>
                        </a:lnTo>
                        <a:lnTo>
                          <a:pt x="236" y="1002"/>
                        </a:lnTo>
                        <a:lnTo>
                          <a:pt x="227" y="965"/>
                        </a:lnTo>
                        <a:lnTo>
                          <a:pt x="218" y="977"/>
                        </a:lnTo>
                        <a:lnTo>
                          <a:pt x="211" y="986"/>
                        </a:lnTo>
                        <a:lnTo>
                          <a:pt x="207" y="1044"/>
                        </a:lnTo>
                        <a:lnTo>
                          <a:pt x="208" y="1017"/>
                        </a:lnTo>
                        <a:lnTo>
                          <a:pt x="207" y="1047"/>
                        </a:lnTo>
                        <a:lnTo>
                          <a:pt x="206" y="1072"/>
                        </a:lnTo>
                        <a:lnTo>
                          <a:pt x="202" y="1081"/>
                        </a:lnTo>
                        <a:lnTo>
                          <a:pt x="207" y="1072"/>
                        </a:lnTo>
                        <a:lnTo>
                          <a:pt x="205" y="1060"/>
                        </a:lnTo>
                        <a:lnTo>
                          <a:pt x="207" y="1029"/>
                        </a:lnTo>
                        <a:lnTo>
                          <a:pt x="208" y="1017"/>
                        </a:lnTo>
                        <a:lnTo>
                          <a:pt x="208" y="1020"/>
                        </a:lnTo>
                        <a:lnTo>
                          <a:pt x="208" y="1047"/>
                        </a:lnTo>
                        <a:lnTo>
                          <a:pt x="211" y="1072"/>
                        </a:lnTo>
                        <a:lnTo>
                          <a:pt x="206" y="1081"/>
                        </a:lnTo>
                        <a:lnTo>
                          <a:pt x="195" y="1124"/>
                        </a:lnTo>
                        <a:lnTo>
                          <a:pt x="182" y="1188"/>
                        </a:lnTo>
                        <a:lnTo>
                          <a:pt x="172" y="1237"/>
                        </a:lnTo>
                        <a:lnTo>
                          <a:pt x="161" y="1289"/>
                        </a:lnTo>
                        <a:lnTo>
                          <a:pt x="152" y="1350"/>
                        </a:lnTo>
                        <a:lnTo>
                          <a:pt x="142" y="1402"/>
                        </a:lnTo>
                        <a:lnTo>
                          <a:pt x="131" y="1463"/>
                        </a:lnTo>
                        <a:lnTo>
                          <a:pt x="121" y="1527"/>
                        </a:lnTo>
                        <a:lnTo>
                          <a:pt x="112" y="1594"/>
                        </a:lnTo>
                        <a:lnTo>
                          <a:pt x="101" y="1671"/>
                        </a:lnTo>
                        <a:lnTo>
                          <a:pt x="91" y="1756"/>
                        </a:lnTo>
                        <a:lnTo>
                          <a:pt x="80" y="1845"/>
                        </a:lnTo>
                        <a:lnTo>
                          <a:pt x="69" y="1943"/>
                        </a:lnTo>
                        <a:lnTo>
                          <a:pt x="73" y="1826"/>
                        </a:lnTo>
                        <a:lnTo>
                          <a:pt x="77" y="1750"/>
                        </a:lnTo>
                        <a:lnTo>
                          <a:pt x="79" y="1658"/>
                        </a:lnTo>
                        <a:lnTo>
                          <a:pt x="82" y="1606"/>
                        </a:lnTo>
                        <a:lnTo>
                          <a:pt x="87" y="1567"/>
                        </a:lnTo>
                        <a:lnTo>
                          <a:pt x="94" y="1490"/>
                        </a:lnTo>
                        <a:lnTo>
                          <a:pt x="101" y="1417"/>
                        </a:lnTo>
                        <a:lnTo>
                          <a:pt x="108" y="1356"/>
                        </a:lnTo>
                        <a:lnTo>
                          <a:pt x="120" y="1289"/>
                        </a:lnTo>
                        <a:lnTo>
                          <a:pt x="131" y="1222"/>
                        </a:lnTo>
                        <a:lnTo>
                          <a:pt x="146" y="1148"/>
                        </a:lnTo>
                        <a:lnTo>
                          <a:pt x="158" y="1072"/>
                        </a:lnTo>
                        <a:lnTo>
                          <a:pt x="167" y="1029"/>
                        </a:lnTo>
                        <a:lnTo>
                          <a:pt x="177" y="989"/>
                        </a:lnTo>
                        <a:lnTo>
                          <a:pt x="191" y="940"/>
                        </a:lnTo>
                        <a:lnTo>
                          <a:pt x="205" y="895"/>
                        </a:lnTo>
                        <a:lnTo>
                          <a:pt x="216" y="843"/>
                        </a:lnTo>
                        <a:lnTo>
                          <a:pt x="229" y="779"/>
                        </a:lnTo>
                        <a:lnTo>
                          <a:pt x="224" y="760"/>
                        </a:lnTo>
                        <a:lnTo>
                          <a:pt x="214" y="727"/>
                        </a:lnTo>
                        <a:lnTo>
                          <a:pt x="205" y="705"/>
                        </a:lnTo>
                        <a:lnTo>
                          <a:pt x="195" y="720"/>
                        </a:lnTo>
                        <a:lnTo>
                          <a:pt x="181" y="760"/>
                        </a:lnTo>
                        <a:lnTo>
                          <a:pt x="168" y="800"/>
                        </a:lnTo>
                        <a:lnTo>
                          <a:pt x="155" y="843"/>
                        </a:lnTo>
                        <a:lnTo>
                          <a:pt x="143" y="895"/>
                        </a:lnTo>
                        <a:lnTo>
                          <a:pt x="127" y="965"/>
                        </a:lnTo>
                        <a:lnTo>
                          <a:pt x="112" y="1032"/>
                        </a:lnTo>
                        <a:lnTo>
                          <a:pt x="100" y="1084"/>
                        </a:lnTo>
                        <a:lnTo>
                          <a:pt x="88" y="1130"/>
                        </a:lnTo>
                        <a:lnTo>
                          <a:pt x="75" y="1188"/>
                        </a:lnTo>
                        <a:lnTo>
                          <a:pt x="62" y="1255"/>
                        </a:lnTo>
                        <a:lnTo>
                          <a:pt x="52" y="1322"/>
                        </a:lnTo>
                        <a:lnTo>
                          <a:pt x="39" y="1393"/>
                        </a:lnTo>
                        <a:lnTo>
                          <a:pt x="27" y="1463"/>
                        </a:lnTo>
                        <a:lnTo>
                          <a:pt x="15" y="1539"/>
                        </a:lnTo>
                        <a:lnTo>
                          <a:pt x="0" y="1625"/>
                        </a:lnTo>
                        <a:lnTo>
                          <a:pt x="7" y="1515"/>
                        </a:lnTo>
                        <a:lnTo>
                          <a:pt x="11" y="1429"/>
                        </a:lnTo>
                        <a:lnTo>
                          <a:pt x="15" y="1353"/>
                        </a:lnTo>
                        <a:lnTo>
                          <a:pt x="18" y="1328"/>
                        </a:lnTo>
                        <a:lnTo>
                          <a:pt x="26" y="1295"/>
                        </a:lnTo>
                        <a:lnTo>
                          <a:pt x="36" y="1246"/>
                        </a:lnTo>
                        <a:lnTo>
                          <a:pt x="49" y="1194"/>
                        </a:lnTo>
                        <a:lnTo>
                          <a:pt x="63" y="1139"/>
                        </a:lnTo>
                        <a:lnTo>
                          <a:pt x="77" y="1084"/>
                        </a:lnTo>
                        <a:lnTo>
                          <a:pt x="94" y="1020"/>
                        </a:lnTo>
                        <a:lnTo>
                          <a:pt x="105" y="977"/>
                        </a:lnTo>
                        <a:lnTo>
                          <a:pt x="120" y="925"/>
                        </a:lnTo>
                        <a:lnTo>
                          <a:pt x="138" y="867"/>
                        </a:lnTo>
                        <a:lnTo>
                          <a:pt x="155" y="815"/>
                        </a:lnTo>
                        <a:lnTo>
                          <a:pt x="169" y="772"/>
                        </a:lnTo>
                        <a:lnTo>
                          <a:pt x="195" y="711"/>
                        </a:lnTo>
                        <a:lnTo>
                          <a:pt x="210" y="684"/>
                        </a:lnTo>
                        <a:lnTo>
                          <a:pt x="218" y="672"/>
                        </a:lnTo>
                        <a:lnTo>
                          <a:pt x="205" y="638"/>
                        </a:lnTo>
                        <a:lnTo>
                          <a:pt x="189" y="589"/>
                        </a:lnTo>
                        <a:lnTo>
                          <a:pt x="174" y="540"/>
                        </a:lnTo>
                        <a:lnTo>
                          <a:pt x="160" y="504"/>
                        </a:lnTo>
                        <a:lnTo>
                          <a:pt x="146" y="467"/>
                        </a:lnTo>
                        <a:lnTo>
                          <a:pt x="133" y="424"/>
                        </a:lnTo>
                        <a:lnTo>
                          <a:pt x="121" y="387"/>
                        </a:lnTo>
                        <a:lnTo>
                          <a:pt x="105" y="323"/>
                        </a:lnTo>
                        <a:lnTo>
                          <a:pt x="90" y="265"/>
                        </a:lnTo>
                        <a:lnTo>
                          <a:pt x="73" y="210"/>
                        </a:lnTo>
                        <a:lnTo>
                          <a:pt x="54" y="146"/>
                        </a:lnTo>
                        <a:lnTo>
                          <a:pt x="40" y="103"/>
                        </a:lnTo>
                        <a:lnTo>
                          <a:pt x="32" y="67"/>
                        </a:lnTo>
                        <a:lnTo>
                          <a:pt x="22" y="24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75" y="27"/>
                        </a:lnTo>
                        <a:lnTo>
                          <a:pt x="75" y="27"/>
                        </a:lnTo>
                        <a:lnTo>
                          <a:pt x="75" y="27"/>
                        </a:lnTo>
                        <a:lnTo>
                          <a:pt x="75" y="27"/>
                        </a:lnTo>
                        <a:lnTo>
                          <a:pt x="75" y="27"/>
                        </a:lnTo>
                        <a:lnTo>
                          <a:pt x="87" y="58"/>
                        </a:lnTo>
                        <a:lnTo>
                          <a:pt x="105" y="122"/>
                        </a:lnTo>
                        <a:lnTo>
                          <a:pt x="120" y="171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5612760" y="5834160"/>
                    <a:ext cx="2082960" cy="3116520"/>
                    <a:chOff x="5612760" y="5834160"/>
                    <a:chExt cx="2082960" cy="31165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5810400" y="5834160"/>
                      <a:ext cx="1885320" cy="290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1" h="1767">
                          <a:moveTo>
                            <a:pt x="369" y="452"/>
                          </a:moveTo>
                          <a:lnTo>
                            <a:pt x="378" y="406"/>
                          </a:lnTo>
                          <a:lnTo>
                            <a:pt x="391" y="357"/>
                          </a:lnTo>
                          <a:lnTo>
                            <a:pt x="408" y="311"/>
                          </a:lnTo>
                          <a:lnTo>
                            <a:pt x="426" y="265"/>
                          </a:lnTo>
                          <a:lnTo>
                            <a:pt x="445" y="223"/>
                          </a:lnTo>
                          <a:lnTo>
                            <a:pt x="459" y="189"/>
                          </a:lnTo>
                          <a:lnTo>
                            <a:pt x="475" y="161"/>
                          </a:lnTo>
                          <a:lnTo>
                            <a:pt x="492" y="137"/>
                          </a:lnTo>
                          <a:lnTo>
                            <a:pt x="507" y="113"/>
                          </a:lnTo>
                          <a:lnTo>
                            <a:pt x="522" y="94"/>
                          </a:lnTo>
                          <a:lnTo>
                            <a:pt x="540" y="73"/>
                          </a:lnTo>
                          <a:lnTo>
                            <a:pt x="556" y="58"/>
                          </a:lnTo>
                          <a:lnTo>
                            <a:pt x="571" y="45"/>
                          </a:lnTo>
                          <a:lnTo>
                            <a:pt x="592" y="36"/>
                          </a:lnTo>
                          <a:lnTo>
                            <a:pt x="615" y="27"/>
                          </a:lnTo>
                          <a:lnTo>
                            <a:pt x="633" y="21"/>
                          </a:lnTo>
                          <a:lnTo>
                            <a:pt x="652" y="15"/>
                          </a:lnTo>
                          <a:lnTo>
                            <a:pt x="673" y="12"/>
                          </a:lnTo>
                          <a:lnTo>
                            <a:pt x="694" y="9"/>
                          </a:lnTo>
                          <a:lnTo>
                            <a:pt x="722" y="6"/>
                          </a:lnTo>
                          <a:lnTo>
                            <a:pt x="741" y="9"/>
                          </a:lnTo>
                          <a:lnTo>
                            <a:pt x="761" y="12"/>
                          </a:lnTo>
                          <a:lnTo>
                            <a:pt x="779" y="15"/>
                          </a:lnTo>
                          <a:lnTo>
                            <a:pt x="796" y="9"/>
                          </a:lnTo>
                          <a:lnTo>
                            <a:pt x="818" y="6"/>
                          </a:lnTo>
                          <a:lnTo>
                            <a:pt x="838" y="0"/>
                          </a:lnTo>
                          <a:lnTo>
                            <a:pt x="829" y="12"/>
                          </a:lnTo>
                          <a:lnTo>
                            <a:pt x="818" y="21"/>
                          </a:lnTo>
                          <a:lnTo>
                            <a:pt x="810" y="36"/>
                          </a:lnTo>
                          <a:lnTo>
                            <a:pt x="803" y="54"/>
                          </a:lnTo>
                          <a:lnTo>
                            <a:pt x="786" y="54"/>
                          </a:lnTo>
                          <a:lnTo>
                            <a:pt x="769" y="58"/>
                          </a:lnTo>
                          <a:lnTo>
                            <a:pt x="756" y="64"/>
                          </a:lnTo>
                          <a:lnTo>
                            <a:pt x="741" y="70"/>
                          </a:lnTo>
                          <a:lnTo>
                            <a:pt x="727" y="76"/>
                          </a:lnTo>
                          <a:lnTo>
                            <a:pt x="711" y="85"/>
                          </a:lnTo>
                          <a:lnTo>
                            <a:pt x="694" y="94"/>
                          </a:lnTo>
                          <a:lnTo>
                            <a:pt x="677" y="103"/>
                          </a:lnTo>
                          <a:lnTo>
                            <a:pt x="660" y="113"/>
                          </a:lnTo>
                          <a:lnTo>
                            <a:pt x="645" y="122"/>
                          </a:lnTo>
                          <a:lnTo>
                            <a:pt x="630" y="137"/>
                          </a:lnTo>
                          <a:lnTo>
                            <a:pt x="611" y="152"/>
                          </a:lnTo>
                          <a:lnTo>
                            <a:pt x="592" y="171"/>
                          </a:lnTo>
                          <a:lnTo>
                            <a:pt x="574" y="192"/>
                          </a:lnTo>
                          <a:lnTo>
                            <a:pt x="556" y="213"/>
                          </a:lnTo>
                          <a:lnTo>
                            <a:pt x="536" y="247"/>
                          </a:lnTo>
                          <a:lnTo>
                            <a:pt x="519" y="287"/>
                          </a:lnTo>
                          <a:lnTo>
                            <a:pt x="502" y="336"/>
                          </a:lnTo>
                          <a:lnTo>
                            <a:pt x="484" y="397"/>
                          </a:lnTo>
                          <a:lnTo>
                            <a:pt x="467" y="470"/>
                          </a:lnTo>
                          <a:lnTo>
                            <a:pt x="445" y="553"/>
                          </a:lnTo>
                          <a:lnTo>
                            <a:pt x="480" y="519"/>
                          </a:lnTo>
                          <a:lnTo>
                            <a:pt x="511" y="485"/>
                          </a:lnTo>
                          <a:lnTo>
                            <a:pt x="552" y="449"/>
                          </a:lnTo>
                          <a:lnTo>
                            <a:pt x="592" y="409"/>
                          </a:lnTo>
                          <a:lnTo>
                            <a:pt x="611" y="397"/>
                          </a:lnTo>
                          <a:lnTo>
                            <a:pt x="629" y="384"/>
                          </a:lnTo>
                          <a:lnTo>
                            <a:pt x="650" y="375"/>
                          </a:lnTo>
                          <a:lnTo>
                            <a:pt x="672" y="363"/>
                          </a:lnTo>
                          <a:lnTo>
                            <a:pt x="695" y="354"/>
                          </a:lnTo>
                          <a:lnTo>
                            <a:pt x="716" y="351"/>
                          </a:lnTo>
                          <a:lnTo>
                            <a:pt x="735" y="348"/>
                          </a:lnTo>
                          <a:lnTo>
                            <a:pt x="761" y="345"/>
                          </a:lnTo>
                          <a:lnTo>
                            <a:pt x="786" y="348"/>
                          </a:lnTo>
                          <a:lnTo>
                            <a:pt x="805" y="351"/>
                          </a:lnTo>
                          <a:lnTo>
                            <a:pt x="830" y="354"/>
                          </a:lnTo>
                          <a:lnTo>
                            <a:pt x="852" y="357"/>
                          </a:lnTo>
                          <a:lnTo>
                            <a:pt x="874" y="360"/>
                          </a:lnTo>
                          <a:lnTo>
                            <a:pt x="898" y="366"/>
                          </a:lnTo>
                          <a:lnTo>
                            <a:pt x="920" y="369"/>
                          </a:lnTo>
                          <a:lnTo>
                            <a:pt x="944" y="375"/>
                          </a:lnTo>
                          <a:lnTo>
                            <a:pt x="968" y="378"/>
                          </a:lnTo>
                          <a:lnTo>
                            <a:pt x="991" y="384"/>
                          </a:lnTo>
                          <a:lnTo>
                            <a:pt x="1018" y="391"/>
                          </a:lnTo>
                          <a:lnTo>
                            <a:pt x="1044" y="394"/>
                          </a:lnTo>
                          <a:lnTo>
                            <a:pt x="1070" y="403"/>
                          </a:lnTo>
                          <a:lnTo>
                            <a:pt x="1111" y="412"/>
                          </a:lnTo>
                          <a:lnTo>
                            <a:pt x="1124" y="412"/>
                          </a:lnTo>
                          <a:lnTo>
                            <a:pt x="1134" y="412"/>
                          </a:lnTo>
                          <a:lnTo>
                            <a:pt x="1147" y="421"/>
                          </a:lnTo>
                          <a:lnTo>
                            <a:pt x="1170" y="436"/>
                          </a:lnTo>
                          <a:lnTo>
                            <a:pt x="1130" y="421"/>
                          </a:lnTo>
                          <a:lnTo>
                            <a:pt x="1112" y="415"/>
                          </a:lnTo>
                          <a:lnTo>
                            <a:pt x="1096" y="415"/>
                          </a:lnTo>
                          <a:lnTo>
                            <a:pt x="1060" y="421"/>
                          </a:lnTo>
                          <a:lnTo>
                            <a:pt x="1035" y="424"/>
                          </a:lnTo>
                          <a:lnTo>
                            <a:pt x="1005" y="427"/>
                          </a:lnTo>
                          <a:lnTo>
                            <a:pt x="979" y="427"/>
                          </a:lnTo>
                          <a:lnTo>
                            <a:pt x="953" y="430"/>
                          </a:lnTo>
                          <a:lnTo>
                            <a:pt x="929" y="433"/>
                          </a:lnTo>
                          <a:lnTo>
                            <a:pt x="907" y="427"/>
                          </a:lnTo>
                          <a:lnTo>
                            <a:pt x="880" y="424"/>
                          </a:lnTo>
                          <a:lnTo>
                            <a:pt x="852" y="427"/>
                          </a:lnTo>
                          <a:lnTo>
                            <a:pt x="827" y="433"/>
                          </a:lnTo>
                          <a:lnTo>
                            <a:pt x="805" y="436"/>
                          </a:lnTo>
                          <a:lnTo>
                            <a:pt x="780" y="439"/>
                          </a:lnTo>
                          <a:lnTo>
                            <a:pt x="761" y="439"/>
                          </a:lnTo>
                          <a:lnTo>
                            <a:pt x="737" y="443"/>
                          </a:lnTo>
                          <a:lnTo>
                            <a:pt x="716" y="452"/>
                          </a:lnTo>
                          <a:lnTo>
                            <a:pt x="697" y="458"/>
                          </a:lnTo>
                          <a:lnTo>
                            <a:pt x="677" y="467"/>
                          </a:lnTo>
                          <a:lnTo>
                            <a:pt x="656" y="476"/>
                          </a:lnTo>
                          <a:lnTo>
                            <a:pt x="635" y="488"/>
                          </a:lnTo>
                          <a:lnTo>
                            <a:pt x="612" y="501"/>
                          </a:lnTo>
                          <a:lnTo>
                            <a:pt x="592" y="510"/>
                          </a:lnTo>
                          <a:lnTo>
                            <a:pt x="556" y="528"/>
                          </a:lnTo>
                          <a:lnTo>
                            <a:pt x="535" y="537"/>
                          </a:lnTo>
                          <a:lnTo>
                            <a:pt x="502" y="565"/>
                          </a:lnTo>
                          <a:lnTo>
                            <a:pt x="459" y="595"/>
                          </a:lnTo>
                          <a:lnTo>
                            <a:pt x="505" y="604"/>
                          </a:lnTo>
                          <a:lnTo>
                            <a:pt x="557" y="611"/>
                          </a:lnTo>
                          <a:lnTo>
                            <a:pt x="568" y="617"/>
                          </a:lnTo>
                          <a:lnTo>
                            <a:pt x="592" y="641"/>
                          </a:lnTo>
                          <a:lnTo>
                            <a:pt x="608" y="656"/>
                          </a:lnTo>
                          <a:lnTo>
                            <a:pt x="624" y="672"/>
                          </a:lnTo>
                          <a:lnTo>
                            <a:pt x="628" y="681"/>
                          </a:lnTo>
                          <a:lnTo>
                            <a:pt x="635" y="708"/>
                          </a:lnTo>
                          <a:lnTo>
                            <a:pt x="652" y="760"/>
                          </a:lnTo>
                          <a:lnTo>
                            <a:pt x="634" y="739"/>
                          </a:lnTo>
                          <a:lnTo>
                            <a:pt x="612" y="711"/>
                          </a:lnTo>
                          <a:lnTo>
                            <a:pt x="592" y="702"/>
                          </a:lnTo>
                          <a:lnTo>
                            <a:pt x="557" y="684"/>
                          </a:lnTo>
                          <a:lnTo>
                            <a:pt x="531" y="672"/>
                          </a:lnTo>
                          <a:lnTo>
                            <a:pt x="505" y="656"/>
                          </a:lnTo>
                          <a:lnTo>
                            <a:pt x="490" y="647"/>
                          </a:lnTo>
                          <a:lnTo>
                            <a:pt x="460" y="656"/>
                          </a:lnTo>
                          <a:lnTo>
                            <a:pt x="441" y="663"/>
                          </a:lnTo>
                          <a:lnTo>
                            <a:pt x="415" y="672"/>
                          </a:lnTo>
                          <a:lnTo>
                            <a:pt x="428" y="681"/>
                          </a:lnTo>
                          <a:lnTo>
                            <a:pt x="442" y="690"/>
                          </a:lnTo>
                          <a:lnTo>
                            <a:pt x="462" y="705"/>
                          </a:lnTo>
                          <a:lnTo>
                            <a:pt x="484" y="702"/>
                          </a:lnTo>
                          <a:lnTo>
                            <a:pt x="521" y="705"/>
                          </a:lnTo>
                          <a:lnTo>
                            <a:pt x="543" y="714"/>
                          </a:lnTo>
                          <a:lnTo>
                            <a:pt x="571" y="727"/>
                          </a:lnTo>
                          <a:lnTo>
                            <a:pt x="592" y="742"/>
                          </a:lnTo>
                          <a:lnTo>
                            <a:pt x="617" y="754"/>
                          </a:lnTo>
                          <a:lnTo>
                            <a:pt x="646" y="769"/>
                          </a:lnTo>
                          <a:lnTo>
                            <a:pt x="671" y="782"/>
                          </a:lnTo>
                          <a:lnTo>
                            <a:pt x="693" y="788"/>
                          </a:lnTo>
                          <a:lnTo>
                            <a:pt x="711" y="797"/>
                          </a:lnTo>
                          <a:lnTo>
                            <a:pt x="729" y="806"/>
                          </a:lnTo>
                          <a:lnTo>
                            <a:pt x="752" y="818"/>
                          </a:lnTo>
                          <a:lnTo>
                            <a:pt x="775" y="837"/>
                          </a:lnTo>
                          <a:lnTo>
                            <a:pt x="797" y="858"/>
                          </a:lnTo>
                          <a:lnTo>
                            <a:pt x="808" y="873"/>
                          </a:lnTo>
                          <a:lnTo>
                            <a:pt x="823" y="910"/>
                          </a:lnTo>
                          <a:lnTo>
                            <a:pt x="843" y="950"/>
                          </a:lnTo>
                          <a:lnTo>
                            <a:pt x="856" y="983"/>
                          </a:lnTo>
                          <a:lnTo>
                            <a:pt x="869" y="1023"/>
                          </a:lnTo>
                          <a:lnTo>
                            <a:pt x="882" y="1060"/>
                          </a:lnTo>
                          <a:lnTo>
                            <a:pt x="895" y="1099"/>
                          </a:lnTo>
                          <a:lnTo>
                            <a:pt x="907" y="1133"/>
                          </a:lnTo>
                          <a:lnTo>
                            <a:pt x="920" y="1173"/>
                          </a:lnTo>
                          <a:lnTo>
                            <a:pt x="936" y="1216"/>
                          </a:lnTo>
                          <a:lnTo>
                            <a:pt x="949" y="1261"/>
                          </a:lnTo>
                          <a:lnTo>
                            <a:pt x="963" y="1295"/>
                          </a:lnTo>
                          <a:lnTo>
                            <a:pt x="981" y="1338"/>
                          </a:lnTo>
                          <a:lnTo>
                            <a:pt x="958" y="1304"/>
                          </a:lnTo>
                          <a:lnTo>
                            <a:pt x="941" y="1283"/>
                          </a:lnTo>
                          <a:lnTo>
                            <a:pt x="919" y="1255"/>
                          </a:lnTo>
                          <a:lnTo>
                            <a:pt x="898" y="1225"/>
                          </a:lnTo>
                          <a:lnTo>
                            <a:pt x="880" y="1197"/>
                          </a:lnTo>
                          <a:lnTo>
                            <a:pt x="863" y="1173"/>
                          </a:lnTo>
                          <a:lnTo>
                            <a:pt x="847" y="1154"/>
                          </a:lnTo>
                          <a:lnTo>
                            <a:pt x="830" y="1133"/>
                          </a:lnTo>
                          <a:lnTo>
                            <a:pt x="810" y="1109"/>
                          </a:lnTo>
                          <a:lnTo>
                            <a:pt x="793" y="1087"/>
                          </a:lnTo>
                          <a:lnTo>
                            <a:pt x="778" y="1066"/>
                          </a:lnTo>
                          <a:lnTo>
                            <a:pt x="757" y="1038"/>
                          </a:lnTo>
                          <a:lnTo>
                            <a:pt x="735" y="1011"/>
                          </a:lnTo>
                          <a:lnTo>
                            <a:pt x="714" y="977"/>
                          </a:lnTo>
                          <a:lnTo>
                            <a:pt x="693" y="950"/>
                          </a:lnTo>
                          <a:lnTo>
                            <a:pt x="673" y="928"/>
                          </a:lnTo>
                          <a:lnTo>
                            <a:pt x="655" y="904"/>
                          </a:lnTo>
                          <a:lnTo>
                            <a:pt x="632" y="883"/>
                          </a:lnTo>
                          <a:lnTo>
                            <a:pt x="612" y="867"/>
                          </a:lnTo>
                          <a:lnTo>
                            <a:pt x="592" y="855"/>
                          </a:lnTo>
                          <a:lnTo>
                            <a:pt x="564" y="840"/>
                          </a:lnTo>
                          <a:lnTo>
                            <a:pt x="537" y="824"/>
                          </a:lnTo>
                          <a:lnTo>
                            <a:pt x="518" y="815"/>
                          </a:lnTo>
                          <a:lnTo>
                            <a:pt x="497" y="803"/>
                          </a:lnTo>
                          <a:lnTo>
                            <a:pt x="467" y="776"/>
                          </a:lnTo>
                          <a:lnTo>
                            <a:pt x="436" y="748"/>
                          </a:lnTo>
                          <a:lnTo>
                            <a:pt x="483" y="806"/>
                          </a:lnTo>
                          <a:lnTo>
                            <a:pt x="487" y="818"/>
                          </a:lnTo>
                          <a:lnTo>
                            <a:pt x="497" y="843"/>
                          </a:lnTo>
                          <a:lnTo>
                            <a:pt x="509" y="873"/>
                          </a:lnTo>
                          <a:lnTo>
                            <a:pt x="522" y="910"/>
                          </a:lnTo>
                          <a:lnTo>
                            <a:pt x="536" y="944"/>
                          </a:lnTo>
                          <a:lnTo>
                            <a:pt x="549" y="983"/>
                          </a:lnTo>
                          <a:lnTo>
                            <a:pt x="566" y="1023"/>
                          </a:lnTo>
                          <a:lnTo>
                            <a:pt x="579" y="1057"/>
                          </a:lnTo>
                          <a:lnTo>
                            <a:pt x="592" y="1090"/>
                          </a:lnTo>
                          <a:lnTo>
                            <a:pt x="605" y="1127"/>
                          </a:lnTo>
                          <a:lnTo>
                            <a:pt x="622" y="1176"/>
                          </a:lnTo>
                          <a:lnTo>
                            <a:pt x="635" y="1216"/>
                          </a:lnTo>
                          <a:lnTo>
                            <a:pt x="647" y="1246"/>
                          </a:lnTo>
                          <a:lnTo>
                            <a:pt x="656" y="1286"/>
                          </a:lnTo>
                          <a:lnTo>
                            <a:pt x="667" y="1322"/>
                          </a:lnTo>
                          <a:lnTo>
                            <a:pt x="673" y="1359"/>
                          </a:lnTo>
                          <a:lnTo>
                            <a:pt x="679" y="1387"/>
                          </a:lnTo>
                          <a:lnTo>
                            <a:pt x="682" y="1426"/>
                          </a:lnTo>
                          <a:lnTo>
                            <a:pt x="685" y="1478"/>
                          </a:lnTo>
                          <a:lnTo>
                            <a:pt x="688" y="1527"/>
                          </a:lnTo>
                          <a:lnTo>
                            <a:pt x="692" y="1579"/>
                          </a:lnTo>
                          <a:lnTo>
                            <a:pt x="695" y="1625"/>
                          </a:lnTo>
                          <a:lnTo>
                            <a:pt x="698" y="1674"/>
                          </a:lnTo>
                          <a:lnTo>
                            <a:pt x="680" y="1625"/>
                          </a:lnTo>
                          <a:lnTo>
                            <a:pt x="667" y="1591"/>
                          </a:lnTo>
                          <a:lnTo>
                            <a:pt x="652" y="1558"/>
                          </a:lnTo>
                          <a:lnTo>
                            <a:pt x="645" y="1530"/>
                          </a:lnTo>
                          <a:lnTo>
                            <a:pt x="635" y="1494"/>
                          </a:lnTo>
                          <a:lnTo>
                            <a:pt x="629" y="1454"/>
                          </a:lnTo>
                          <a:lnTo>
                            <a:pt x="620" y="1408"/>
                          </a:lnTo>
                          <a:lnTo>
                            <a:pt x="609" y="1365"/>
                          </a:lnTo>
                          <a:lnTo>
                            <a:pt x="599" y="1316"/>
                          </a:lnTo>
                          <a:lnTo>
                            <a:pt x="590" y="1277"/>
                          </a:lnTo>
                          <a:lnTo>
                            <a:pt x="579" y="1237"/>
                          </a:lnTo>
                          <a:lnTo>
                            <a:pt x="566" y="1200"/>
                          </a:lnTo>
                          <a:lnTo>
                            <a:pt x="556" y="1170"/>
                          </a:lnTo>
                          <a:lnTo>
                            <a:pt x="540" y="1133"/>
                          </a:lnTo>
                          <a:lnTo>
                            <a:pt x="522" y="1096"/>
                          </a:lnTo>
                          <a:lnTo>
                            <a:pt x="510" y="1066"/>
                          </a:lnTo>
                          <a:lnTo>
                            <a:pt x="496" y="1035"/>
                          </a:lnTo>
                          <a:lnTo>
                            <a:pt x="493" y="1005"/>
                          </a:lnTo>
                          <a:lnTo>
                            <a:pt x="484" y="962"/>
                          </a:lnTo>
                          <a:lnTo>
                            <a:pt x="474" y="928"/>
                          </a:lnTo>
                          <a:lnTo>
                            <a:pt x="466" y="889"/>
                          </a:lnTo>
                          <a:lnTo>
                            <a:pt x="459" y="876"/>
                          </a:lnTo>
                          <a:lnTo>
                            <a:pt x="442" y="840"/>
                          </a:lnTo>
                          <a:lnTo>
                            <a:pt x="430" y="806"/>
                          </a:lnTo>
                          <a:lnTo>
                            <a:pt x="419" y="773"/>
                          </a:lnTo>
                          <a:lnTo>
                            <a:pt x="407" y="742"/>
                          </a:lnTo>
                          <a:lnTo>
                            <a:pt x="386" y="760"/>
                          </a:lnTo>
                          <a:lnTo>
                            <a:pt x="366" y="785"/>
                          </a:lnTo>
                          <a:lnTo>
                            <a:pt x="344" y="821"/>
                          </a:lnTo>
                          <a:lnTo>
                            <a:pt x="322" y="852"/>
                          </a:lnTo>
                          <a:lnTo>
                            <a:pt x="306" y="883"/>
                          </a:lnTo>
                          <a:lnTo>
                            <a:pt x="293" y="916"/>
                          </a:lnTo>
                          <a:lnTo>
                            <a:pt x="278" y="959"/>
                          </a:lnTo>
                          <a:lnTo>
                            <a:pt x="259" y="1011"/>
                          </a:lnTo>
                          <a:lnTo>
                            <a:pt x="245" y="1051"/>
                          </a:lnTo>
                          <a:lnTo>
                            <a:pt x="228" y="1102"/>
                          </a:lnTo>
                          <a:lnTo>
                            <a:pt x="215" y="1145"/>
                          </a:lnTo>
                          <a:lnTo>
                            <a:pt x="202" y="1185"/>
                          </a:lnTo>
                          <a:lnTo>
                            <a:pt x="189" y="1228"/>
                          </a:lnTo>
                          <a:lnTo>
                            <a:pt x="178" y="1271"/>
                          </a:lnTo>
                          <a:lnTo>
                            <a:pt x="165" y="1316"/>
                          </a:lnTo>
                          <a:lnTo>
                            <a:pt x="154" y="1362"/>
                          </a:lnTo>
                          <a:lnTo>
                            <a:pt x="137" y="1414"/>
                          </a:lnTo>
                          <a:lnTo>
                            <a:pt x="121" y="1466"/>
                          </a:lnTo>
                          <a:lnTo>
                            <a:pt x="104" y="1524"/>
                          </a:lnTo>
                          <a:lnTo>
                            <a:pt x="88" y="1570"/>
                          </a:lnTo>
                          <a:lnTo>
                            <a:pt x="77" y="1601"/>
                          </a:lnTo>
                          <a:lnTo>
                            <a:pt x="63" y="1634"/>
                          </a:lnTo>
                          <a:lnTo>
                            <a:pt x="50" y="1665"/>
                          </a:lnTo>
                          <a:lnTo>
                            <a:pt x="35" y="1695"/>
                          </a:lnTo>
                          <a:lnTo>
                            <a:pt x="19" y="1726"/>
                          </a:lnTo>
                          <a:lnTo>
                            <a:pt x="0" y="1766"/>
                          </a:lnTo>
                          <a:lnTo>
                            <a:pt x="6" y="1717"/>
                          </a:lnTo>
                          <a:lnTo>
                            <a:pt x="13" y="1680"/>
                          </a:lnTo>
                          <a:lnTo>
                            <a:pt x="23" y="1637"/>
                          </a:lnTo>
                          <a:lnTo>
                            <a:pt x="35" y="1601"/>
                          </a:lnTo>
                          <a:lnTo>
                            <a:pt x="53" y="1546"/>
                          </a:lnTo>
                          <a:lnTo>
                            <a:pt x="73" y="1491"/>
                          </a:lnTo>
                          <a:lnTo>
                            <a:pt x="94" y="1426"/>
                          </a:lnTo>
                          <a:lnTo>
                            <a:pt x="110" y="1374"/>
                          </a:lnTo>
                          <a:lnTo>
                            <a:pt x="127" y="1322"/>
                          </a:lnTo>
                          <a:lnTo>
                            <a:pt x="144" y="1277"/>
                          </a:lnTo>
                          <a:lnTo>
                            <a:pt x="156" y="1237"/>
                          </a:lnTo>
                          <a:lnTo>
                            <a:pt x="172" y="1197"/>
                          </a:lnTo>
                          <a:lnTo>
                            <a:pt x="185" y="1164"/>
                          </a:lnTo>
                          <a:lnTo>
                            <a:pt x="202" y="1121"/>
                          </a:lnTo>
                          <a:lnTo>
                            <a:pt x="219" y="1078"/>
                          </a:lnTo>
                          <a:lnTo>
                            <a:pt x="236" y="1035"/>
                          </a:lnTo>
                          <a:lnTo>
                            <a:pt x="253" y="986"/>
                          </a:lnTo>
                          <a:lnTo>
                            <a:pt x="267" y="947"/>
                          </a:lnTo>
                          <a:lnTo>
                            <a:pt x="282" y="907"/>
                          </a:lnTo>
                          <a:lnTo>
                            <a:pt x="292" y="870"/>
                          </a:lnTo>
                          <a:lnTo>
                            <a:pt x="299" y="840"/>
                          </a:lnTo>
                          <a:lnTo>
                            <a:pt x="306" y="812"/>
                          </a:lnTo>
                          <a:lnTo>
                            <a:pt x="314" y="782"/>
                          </a:lnTo>
                          <a:lnTo>
                            <a:pt x="326" y="754"/>
                          </a:lnTo>
                          <a:lnTo>
                            <a:pt x="343" y="714"/>
                          </a:lnTo>
                          <a:lnTo>
                            <a:pt x="357" y="681"/>
                          </a:lnTo>
                          <a:lnTo>
                            <a:pt x="370" y="653"/>
                          </a:lnTo>
                          <a:lnTo>
                            <a:pt x="382" y="623"/>
                          </a:lnTo>
                          <a:lnTo>
                            <a:pt x="378" y="592"/>
                          </a:lnTo>
                          <a:lnTo>
                            <a:pt x="372" y="549"/>
                          </a:lnTo>
                          <a:lnTo>
                            <a:pt x="339" y="528"/>
                          </a:lnTo>
                          <a:lnTo>
                            <a:pt x="302" y="479"/>
                          </a:lnTo>
                          <a:lnTo>
                            <a:pt x="266" y="433"/>
                          </a:lnTo>
                          <a:lnTo>
                            <a:pt x="245" y="406"/>
                          </a:lnTo>
                          <a:lnTo>
                            <a:pt x="228" y="388"/>
                          </a:lnTo>
                          <a:lnTo>
                            <a:pt x="199" y="363"/>
                          </a:lnTo>
                          <a:lnTo>
                            <a:pt x="171" y="345"/>
                          </a:lnTo>
                          <a:lnTo>
                            <a:pt x="139" y="326"/>
                          </a:lnTo>
                          <a:lnTo>
                            <a:pt x="117" y="311"/>
                          </a:lnTo>
                          <a:lnTo>
                            <a:pt x="90" y="293"/>
                          </a:lnTo>
                          <a:lnTo>
                            <a:pt x="65" y="278"/>
                          </a:lnTo>
                          <a:lnTo>
                            <a:pt x="41" y="268"/>
                          </a:lnTo>
                          <a:lnTo>
                            <a:pt x="20" y="256"/>
                          </a:lnTo>
                          <a:lnTo>
                            <a:pt x="40" y="253"/>
                          </a:lnTo>
                          <a:lnTo>
                            <a:pt x="54" y="247"/>
                          </a:lnTo>
                          <a:lnTo>
                            <a:pt x="66" y="244"/>
                          </a:lnTo>
                          <a:lnTo>
                            <a:pt x="79" y="241"/>
                          </a:lnTo>
                          <a:lnTo>
                            <a:pt x="92" y="244"/>
                          </a:lnTo>
                          <a:lnTo>
                            <a:pt x="120" y="268"/>
                          </a:lnTo>
                          <a:lnTo>
                            <a:pt x="143" y="290"/>
                          </a:lnTo>
                          <a:lnTo>
                            <a:pt x="168" y="317"/>
                          </a:lnTo>
                          <a:lnTo>
                            <a:pt x="193" y="345"/>
                          </a:lnTo>
                          <a:lnTo>
                            <a:pt x="223" y="372"/>
                          </a:lnTo>
                          <a:lnTo>
                            <a:pt x="249" y="403"/>
                          </a:lnTo>
                          <a:lnTo>
                            <a:pt x="270" y="421"/>
                          </a:lnTo>
                          <a:lnTo>
                            <a:pt x="306" y="458"/>
                          </a:lnTo>
                          <a:lnTo>
                            <a:pt x="326" y="470"/>
                          </a:lnTo>
                          <a:lnTo>
                            <a:pt x="340" y="464"/>
                          </a:lnTo>
                          <a:lnTo>
                            <a:pt x="355" y="458"/>
                          </a:lnTo>
                          <a:lnTo>
                            <a:pt x="369" y="452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454440" y="7319160"/>
                      <a:ext cx="167400" cy="163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3">
                          <a:moveTo>
                            <a:pt x="56" y="0"/>
                          </a:moveTo>
                          <a:lnTo>
                            <a:pt x="67" y="48"/>
                          </a:lnTo>
                          <a:lnTo>
                            <a:pt x="76" y="79"/>
                          </a:lnTo>
                          <a:lnTo>
                            <a:pt x="93" y="125"/>
                          </a:lnTo>
                          <a:lnTo>
                            <a:pt x="97" y="168"/>
                          </a:lnTo>
                          <a:lnTo>
                            <a:pt x="101" y="226"/>
                          </a:lnTo>
                          <a:lnTo>
                            <a:pt x="101" y="293"/>
                          </a:lnTo>
                          <a:lnTo>
                            <a:pt x="103" y="336"/>
                          </a:lnTo>
                          <a:lnTo>
                            <a:pt x="101" y="385"/>
                          </a:lnTo>
                          <a:lnTo>
                            <a:pt x="97" y="450"/>
                          </a:lnTo>
                          <a:lnTo>
                            <a:pt x="93" y="502"/>
                          </a:lnTo>
                          <a:lnTo>
                            <a:pt x="86" y="587"/>
                          </a:lnTo>
                          <a:lnTo>
                            <a:pt x="79" y="630"/>
                          </a:lnTo>
                          <a:lnTo>
                            <a:pt x="66" y="685"/>
                          </a:lnTo>
                          <a:lnTo>
                            <a:pt x="49" y="747"/>
                          </a:lnTo>
                          <a:lnTo>
                            <a:pt x="35" y="802"/>
                          </a:lnTo>
                          <a:lnTo>
                            <a:pt x="20" y="857"/>
                          </a:lnTo>
                          <a:lnTo>
                            <a:pt x="9" y="903"/>
                          </a:lnTo>
                          <a:lnTo>
                            <a:pt x="0" y="992"/>
                          </a:lnTo>
                          <a:lnTo>
                            <a:pt x="5" y="903"/>
                          </a:lnTo>
                          <a:lnTo>
                            <a:pt x="9" y="838"/>
                          </a:lnTo>
                          <a:lnTo>
                            <a:pt x="11" y="780"/>
                          </a:lnTo>
                          <a:lnTo>
                            <a:pt x="14" y="719"/>
                          </a:lnTo>
                          <a:lnTo>
                            <a:pt x="19" y="642"/>
                          </a:lnTo>
                          <a:lnTo>
                            <a:pt x="27" y="587"/>
                          </a:lnTo>
                          <a:lnTo>
                            <a:pt x="35" y="532"/>
                          </a:lnTo>
                          <a:lnTo>
                            <a:pt x="43" y="480"/>
                          </a:lnTo>
                          <a:lnTo>
                            <a:pt x="49" y="428"/>
                          </a:lnTo>
                          <a:lnTo>
                            <a:pt x="56" y="373"/>
                          </a:lnTo>
                          <a:lnTo>
                            <a:pt x="59" y="318"/>
                          </a:lnTo>
                          <a:lnTo>
                            <a:pt x="62" y="272"/>
                          </a:lnTo>
                          <a:lnTo>
                            <a:pt x="65" y="217"/>
                          </a:lnTo>
                          <a:lnTo>
                            <a:pt x="65" y="156"/>
                          </a:lnTo>
                          <a:lnTo>
                            <a:pt x="65" y="79"/>
                          </a:lnTo>
                          <a:lnTo>
                            <a:pt x="61" y="45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5646240" y="6422400"/>
                      <a:ext cx="739080" cy="41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9" h="252">
                          <a:moveTo>
                            <a:pt x="458" y="251"/>
                          </a:moveTo>
                          <a:lnTo>
                            <a:pt x="450" y="208"/>
                          </a:lnTo>
                          <a:lnTo>
                            <a:pt x="439" y="168"/>
                          </a:lnTo>
                          <a:lnTo>
                            <a:pt x="431" y="162"/>
                          </a:lnTo>
                          <a:lnTo>
                            <a:pt x="413" y="149"/>
                          </a:lnTo>
                          <a:lnTo>
                            <a:pt x="395" y="140"/>
                          </a:lnTo>
                          <a:lnTo>
                            <a:pt x="378" y="149"/>
                          </a:lnTo>
                          <a:lnTo>
                            <a:pt x="357" y="156"/>
                          </a:lnTo>
                          <a:lnTo>
                            <a:pt x="332" y="137"/>
                          </a:lnTo>
                          <a:lnTo>
                            <a:pt x="301" y="116"/>
                          </a:lnTo>
                          <a:lnTo>
                            <a:pt x="271" y="94"/>
                          </a:lnTo>
                          <a:lnTo>
                            <a:pt x="250" y="82"/>
                          </a:lnTo>
                          <a:lnTo>
                            <a:pt x="216" y="64"/>
                          </a:lnTo>
                          <a:lnTo>
                            <a:pt x="182" y="42"/>
                          </a:lnTo>
                          <a:lnTo>
                            <a:pt x="148" y="24"/>
                          </a:lnTo>
                          <a:lnTo>
                            <a:pt x="114" y="9"/>
                          </a:lnTo>
                          <a:lnTo>
                            <a:pt x="76" y="3"/>
                          </a:lnTo>
                          <a:lnTo>
                            <a:pt x="43" y="0"/>
                          </a:lnTo>
                          <a:lnTo>
                            <a:pt x="33" y="6"/>
                          </a:lnTo>
                          <a:lnTo>
                            <a:pt x="20" y="21"/>
                          </a:lnTo>
                          <a:lnTo>
                            <a:pt x="9" y="39"/>
                          </a:lnTo>
                          <a:lnTo>
                            <a:pt x="0" y="55"/>
                          </a:lnTo>
                          <a:lnTo>
                            <a:pt x="15" y="58"/>
                          </a:lnTo>
                          <a:lnTo>
                            <a:pt x="33" y="61"/>
                          </a:lnTo>
                          <a:lnTo>
                            <a:pt x="50" y="64"/>
                          </a:lnTo>
                          <a:lnTo>
                            <a:pt x="63" y="61"/>
                          </a:lnTo>
                          <a:lnTo>
                            <a:pt x="80" y="58"/>
                          </a:lnTo>
                          <a:lnTo>
                            <a:pt x="105" y="55"/>
                          </a:lnTo>
                          <a:lnTo>
                            <a:pt x="138" y="58"/>
                          </a:lnTo>
                          <a:lnTo>
                            <a:pt x="167" y="64"/>
                          </a:lnTo>
                          <a:lnTo>
                            <a:pt x="193" y="73"/>
                          </a:lnTo>
                          <a:lnTo>
                            <a:pt x="219" y="82"/>
                          </a:lnTo>
                          <a:lnTo>
                            <a:pt x="246" y="85"/>
                          </a:lnTo>
                          <a:lnTo>
                            <a:pt x="268" y="101"/>
                          </a:lnTo>
                          <a:lnTo>
                            <a:pt x="292" y="119"/>
                          </a:lnTo>
                          <a:lnTo>
                            <a:pt x="313" y="140"/>
                          </a:lnTo>
                          <a:lnTo>
                            <a:pt x="337" y="162"/>
                          </a:lnTo>
                          <a:lnTo>
                            <a:pt x="348" y="165"/>
                          </a:lnTo>
                          <a:lnTo>
                            <a:pt x="360" y="162"/>
                          </a:lnTo>
                          <a:lnTo>
                            <a:pt x="377" y="177"/>
                          </a:lnTo>
                          <a:lnTo>
                            <a:pt x="395" y="192"/>
                          </a:lnTo>
                          <a:lnTo>
                            <a:pt x="412" y="208"/>
                          </a:lnTo>
                          <a:lnTo>
                            <a:pt x="435" y="229"/>
                          </a:lnTo>
                          <a:lnTo>
                            <a:pt x="450" y="241"/>
                          </a:lnTo>
                          <a:lnTo>
                            <a:pt x="458" y="251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5612760" y="6667200"/>
                      <a:ext cx="766080" cy="17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6" h="106">
                          <a:moveTo>
                            <a:pt x="475" y="105"/>
                          </a:moveTo>
                          <a:lnTo>
                            <a:pt x="463" y="95"/>
                          </a:lnTo>
                          <a:lnTo>
                            <a:pt x="450" y="83"/>
                          </a:lnTo>
                          <a:lnTo>
                            <a:pt x="434" y="74"/>
                          </a:lnTo>
                          <a:lnTo>
                            <a:pt x="421" y="64"/>
                          </a:lnTo>
                          <a:lnTo>
                            <a:pt x="403" y="52"/>
                          </a:lnTo>
                          <a:lnTo>
                            <a:pt x="382" y="33"/>
                          </a:lnTo>
                          <a:lnTo>
                            <a:pt x="364" y="15"/>
                          </a:lnTo>
                          <a:lnTo>
                            <a:pt x="345" y="15"/>
                          </a:lnTo>
                          <a:lnTo>
                            <a:pt x="326" y="21"/>
                          </a:lnTo>
                          <a:lnTo>
                            <a:pt x="298" y="27"/>
                          </a:lnTo>
                          <a:lnTo>
                            <a:pt x="287" y="27"/>
                          </a:lnTo>
                          <a:lnTo>
                            <a:pt x="251" y="18"/>
                          </a:lnTo>
                          <a:lnTo>
                            <a:pt x="212" y="9"/>
                          </a:lnTo>
                          <a:lnTo>
                            <a:pt x="186" y="3"/>
                          </a:lnTo>
                          <a:lnTo>
                            <a:pt x="153" y="0"/>
                          </a:lnTo>
                          <a:lnTo>
                            <a:pt x="118" y="3"/>
                          </a:lnTo>
                          <a:lnTo>
                            <a:pt x="99" y="9"/>
                          </a:lnTo>
                          <a:lnTo>
                            <a:pt x="73" y="12"/>
                          </a:lnTo>
                          <a:lnTo>
                            <a:pt x="50" y="18"/>
                          </a:lnTo>
                          <a:lnTo>
                            <a:pt x="26" y="24"/>
                          </a:lnTo>
                          <a:lnTo>
                            <a:pt x="23" y="46"/>
                          </a:lnTo>
                          <a:lnTo>
                            <a:pt x="18" y="61"/>
                          </a:lnTo>
                          <a:lnTo>
                            <a:pt x="11" y="80"/>
                          </a:lnTo>
                          <a:lnTo>
                            <a:pt x="0" y="92"/>
                          </a:lnTo>
                          <a:lnTo>
                            <a:pt x="19" y="83"/>
                          </a:lnTo>
                          <a:lnTo>
                            <a:pt x="41" y="77"/>
                          </a:lnTo>
                          <a:lnTo>
                            <a:pt x="60" y="67"/>
                          </a:lnTo>
                          <a:lnTo>
                            <a:pt x="80" y="61"/>
                          </a:lnTo>
                          <a:lnTo>
                            <a:pt x="101" y="55"/>
                          </a:lnTo>
                          <a:lnTo>
                            <a:pt x="135" y="52"/>
                          </a:lnTo>
                          <a:lnTo>
                            <a:pt x="173" y="46"/>
                          </a:lnTo>
                          <a:lnTo>
                            <a:pt x="214" y="43"/>
                          </a:lnTo>
                          <a:lnTo>
                            <a:pt x="255" y="37"/>
                          </a:lnTo>
                          <a:lnTo>
                            <a:pt x="293" y="33"/>
                          </a:lnTo>
                          <a:lnTo>
                            <a:pt x="326" y="40"/>
                          </a:lnTo>
                          <a:lnTo>
                            <a:pt x="349" y="52"/>
                          </a:lnTo>
                          <a:lnTo>
                            <a:pt x="374" y="64"/>
                          </a:lnTo>
                          <a:lnTo>
                            <a:pt x="400" y="77"/>
                          </a:lnTo>
                          <a:lnTo>
                            <a:pt x="429" y="92"/>
                          </a:lnTo>
                          <a:lnTo>
                            <a:pt x="451" y="98"/>
                          </a:lnTo>
                          <a:lnTo>
                            <a:pt x="475" y="10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7268040" y="7367400"/>
                <a:ext cx="686160" cy="2036160"/>
              </a:xfrm>
              <a:custGeom>
                <a:avLst/>
                <a:gdLst/>
                <a:ahLst/>
                <a:rect l="l" t="t" r="r" b="b"/>
                <a:pathLst>
                  <a:path w="426" h="1239">
                    <a:moveTo>
                      <a:pt x="224" y="303"/>
                    </a:moveTo>
                    <a:lnTo>
                      <a:pt x="232" y="322"/>
                    </a:lnTo>
                    <a:lnTo>
                      <a:pt x="239" y="344"/>
                    </a:lnTo>
                    <a:lnTo>
                      <a:pt x="245" y="365"/>
                    </a:lnTo>
                    <a:lnTo>
                      <a:pt x="252" y="390"/>
                    </a:lnTo>
                    <a:lnTo>
                      <a:pt x="257" y="412"/>
                    </a:lnTo>
                    <a:lnTo>
                      <a:pt x="260" y="433"/>
                    </a:lnTo>
                    <a:lnTo>
                      <a:pt x="263" y="451"/>
                    </a:lnTo>
                    <a:lnTo>
                      <a:pt x="253" y="440"/>
                    </a:lnTo>
                    <a:lnTo>
                      <a:pt x="239" y="429"/>
                    </a:lnTo>
                    <a:lnTo>
                      <a:pt x="223" y="417"/>
                    </a:lnTo>
                    <a:lnTo>
                      <a:pt x="208" y="405"/>
                    </a:lnTo>
                    <a:lnTo>
                      <a:pt x="193" y="394"/>
                    </a:lnTo>
                    <a:lnTo>
                      <a:pt x="177" y="379"/>
                    </a:lnTo>
                    <a:lnTo>
                      <a:pt x="163" y="363"/>
                    </a:lnTo>
                    <a:lnTo>
                      <a:pt x="144" y="342"/>
                    </a:lnTo>
                    <a:lnTo>
                      <a:pt x="129" y="320"/>
                    </a:lnTo>
                    <a:lnTo>
                      <a:pt x="110" y="298"/>
                    </a:lnTo>
                    <a:lnTo>
                      <a:pt x="98" y="283"/>
                    </a:lnTo>
                    <a:lnTo>
                      <a:pt x="85" y="258"/>
                    </a:lnTo>
                    <a:lnTo>
                      <a:pt x="74" y="239"/>
                    </a:lnTo>
                    <a:lnTo>
                      <a:pt x="65" y="211"/>
                    </a:lnTo>
                    <a:lnTo>
                      <a:pt x="59" y="187"/>
                    </a:lnTo>
                    <a:lnTo>
                      <a:pt x="55" y="163"/>
                    </a:lnTo>
                    <a:lnTo>
                      <a:pt x="51" y="146"/>
                    </a:lnTo>
                    <a:lnTo>
                      <a:pt x="50" y="165"/>
                    </a:lnTo>
                    <a:lnTo>
                      <a:pt x="50" y="178"/>
                    </a:lnTo>
                    <a:lnTo>
                      <a:pt x="53" y="196"/>
                    </a:lnTo>
                    <a:lnTo>
                      <a:pt x="60" y="215"/>
                    </a:lnTo>
                    <a:lnTo>
                      <a:pt x="71" y="244"/>
                    </a:lnTo>
                    <a:lnTo>
                      <a:pt x="76" y="265"/>
                    </a:lnTo>
                    <a:lnTo>
                      <a:pt x="87" y="279"/>
                    </a:lnTo>
                    <a:lnTo>
                      <a:pt x="100" y="299"/>
                    </a:lnTo>
                    <a:lnTo>
                      <a:pt x="115" y="322"/>
                    </a:lnTo>
                    <a:lnTo>
                      <a:pt x="130" y="346"/>
                    </a:lnTo>
                    <a:lnTo>
                      <a:pt x="146" y="368"/>
                    </a:lnTo>
                    <a:lnTo>
                      <a:pt x="156" y="388"/>
                    </a:lnTo>
                    <a:lnTo>
                      <a:pt x="168" y="410"/>
                    </a:lnTo>
                    <a:lnTo>
                      <a:pt x="182" y="424"/>
                    </a:lnTo>
                    <a:lnTo>
                      <a:pt x="196" y="440"/>
                    </a:lnTo>
                    <a:lnTo>
                      <a:pt x="210" y="457"/>
                    </a:lnTo>
                    <a:lnTo>
                      <a:pt x="223" y="470"/>
                    </a:lnTo>
                    <a:lnTo>
                      <a:pt x="234" y="483"/>
                    </a:lnTo>
                    <a:lnTo>
                      <a:pt x="250" y="497"/>
                    </a:lnTo>
                    <a:lnTo>
                      <a:pt x="260" y="506"/>
                    </a:lnTo>
                    <a:lnTo>
                      <a:pt x="264" y="512"/>
                    </a:lnTo>
                    <a:lnTo>
                      <a:pt x="260" y="525"/>
                    </a:lnTo>
                    <a:lnTo>
                      <a:pt x="254" y="540"/>
                    </a:lnTo>
                    <a:lnTo>
                      <a:pt x="247" y="560"/>
                    </a:lnTo>
                    <a:lnTo>
                      <a:pt x="233" y="565"/>
                    </a:lnTo>
                    <a:lnTo>
                      <a:pt x="223" y="567"/>
                    </a:lnTo>
                    <a:lnTo>
                      <a:pt x="207" y="572"/>
                    </a:lnTo>
                    <a:lnTo>
                      <a:pt x="193" y="574"/>
                    </a:lnTo>
                    <a:lnTo>
                      <a:pt x="193" y="574"/>
                    </a:lnTo>
                    <a:lnTo>
                      <a:pt x="175" y="574"/>
                    </a:lnTo>
                    <a:lnTo>
                      <a:pt x="159" y="577"/>
                    </a:lnTo>
                    <a:lnTo>
                      <a:pt x="143" y="579"/>
                    </a:lnTo>
                    <a:lnTo>
                      <a:pt x="128" y="584"/>
                    </a:lnTo>
                    <a:lnTo>
                      <a:pt x="115" y="588"/>
                    </a:lnTo>
                    <a:lnTo>
                      <a:pt x="101" y="595"/>
                    </a:lnTo>
                    <a:lnTo>
                      <a:pt x="90" y="603"/>
                    </a:lnTo>
                    <a:lnTo>
                      <a:pt x="79" y="614"/>
                    </a:lnTo>
                    <a:lnTo>
                      <a:pt x="69" y="623"/>
                    </a:lnTo>
                    <a:lnTo>
                      <a:pt x="56" y="634"/>
                    </a:lnTo>
                    <a:lnTo>
                      <a:pt x="41" y="649"/>
                    </a:lnTo>
                    <a:lnTo>
                      <a:pt x="25" y="662"/>
                    </a:lnTo>
                    <a:lnTo>
                      <a:pt x="13" y="670"/>
                    </a:lnTo>
                    <a:lnTo>
                      <a:pt x="0" y="679"/>
                    </a:lnTo>
                    <a:lnTo>
                      <a:pt x="10" y="684"/>
                    </a:lnTo>
                    <a:lnTo>
                      <a:pt x="20" y="682"/>
                    </a:lnTo>
                    <a:lnTo>
                      <a:pt x="33" y="677"/>
                    </a:lnTo>
                    <a:lnTo>
                      <a:pt x="45" y="670"/>
                    </a:lnTo>
                    <a:lnTo>
                      <a:pt x="62" y="660"/>
                    </a:lnTo>
                    <a:lnTo>
                      <a:pt x="72" y="654"/>
                    </a:lnTo>
                    <a:lnTo>
                      <a:pt x="82" y="649"/>
                    </a:lnTo>
                    <a:lnTo>
                      <a:pt x="96" y="643"/>
                    </a:lnTo>
                    <a:lnTo>
                      <a:pt x="111" y="640"/>
                    </a:lnTo>
                    <a:lnTo>
                      <a:pt x="128" y="636"/>
                    </a:lnTo>
                    <a:lnTo>
                      <a:pt x="146" y="633"/>
                    </a:lnTo>
                    <a:lnTo>
                      <a:pt x="164" y="631"/>
                    </a:lnTo>
                    <a:lnTo>
                      <a:pt x="180" y="631"/>
                    </a:lnTo>
                    <a:lnTo>
                      <a:pt x="196" y="629"/>
                    </a:lnTo>
                    <a:lnTo>
                      <a:pt x="209" y="627"/>
                    </a:lnTo>
                    <a:lnTo>
                      <a:pt x="224" y="625"/>
                    </a:lnTo>
                    <a:lnTo>
                      <a:pt x="241" y="619"/>
                    </a:lnTo>
                    <a:lnTo>
                      <a:pt x="260" y="612"/>
                    </a:lnTo>
                    <a:lnTo>
                      <a:pt x="276" y="603"/>
                    </a:lnTo>
                    <a:lnTo>
                      <a:pt x="296" y="597"/>
                    </a:lnTo>
                    <a:lnTo>
                      <a:pt x="290" y="619"/>
                    </a:lnTo>
                    <a:lnTo>
                      <a:pt x="282" y="647"/>
                    </a:lnTo>
                    <a:lnTo>
                      <a:pt x="274" y="682"/>
                    </a:lnTo>
                    <a:lnTo>
                      <a:pt x="272" y="710"/>
                    </a:lnTo>
                    <a:lnTo>
                      <a:pt x="272" y="741"/>
                    </a:lnTo>
                    <a:lnTo>
                      <a:pt x="272" y="765"/>
                    </a:lnTo>
                    <a:lnTo>
                      <a:pt x="274" y="790"/>
                    </a:lnTo>
                    <a:lnTo>
                      <a:pt x="275" y="824"/>
                    </a:lnTo>
                    <a:lnTo>
                      <a:pt x="277" y="869"/>
                    </a:lnTo>
                    <a:lnTo>
                      <a:pt x="276" y="906"/>
                    </a:lnTo>
                    <a:lnTo>
                      <a:pt x="275" y="945"/>
                    </a:lnTo>
                    <a:lnTo>
                      <a:pt x="275" y="976"/>
                    </a:lnTo>
                    <a:lnTo>
                      <a:pt x="277" y="1006"/>
                    </a:lnTo>
                    <a:lnTo>
                      <a:pt x="281" y="1036"/>
                    </a:lnTo>
                    <a:lnTo>
                      <a:pt x="288" y="1074"/>
                    </a:lnTo>
                    <a:lnTo>
                      <a:pt x="293" y="1100"/>
                    </a:lnTo>
                    <a:lnTo>
                      <a:pt x="299" y="1124"/>
                    </a:lnTo>
                    <a:lnTo>
                      <a:pt x="307" y="1154"/>
                    </a:lnTo>
                    <a:lnTo>
                      <a:pt x="313" y="1172"/>
                    </a:lnTo>
                    <a:lnTo>
                      <a:pt x="324" y="1194"/>
                    </a:lnTo>
                    <a:lnTo>
                      <a:pt x="339" y="1214"/>
                    </a:lnTo>
                    <a:lnTo>
                      <a:pt x="350" y="1238"/>
                    </a:lnTo>
                    <a:lnTo>
                      <a:pt x="352" y="1213"/>
                    </a:lnTo>
                    <a:lnTo>
                      <a:pt x="350" y="1183"/>
                    </a:lnTo>
                    <a:lnTo>
                      <a:pt x="348" y="1150"/>
                    </a:lnTo>
                    <a:lnTo>
                      <a:pt x="347" y="1122"/>
                    </a:lnTo>
                    <a:lnTo>
                      <a:pt x="343" y="1100"/>
                    </a:lnTo>
                    <a:lnTo>
                      <a:pt x="339" y="1072"/>
                    </a:lnTo>
                    <a:lnTo>
                      <a:pt x="334" y="1041"/>
                    </a:lnTo>
                    <a:lnTo>
                      <a:pt x="331" y="1017"/>
                    </a:lnTo>
                    <a:lnTo>
                      <a:pt x="329" y="993"/>
                    </a:lnTo>
                    <a:lnTo>
                      <a:pt x="326" y="950"/>
                    </a:lnTo>
                    <a:lnTo>
                      <a:pt x="324" y="906"/>
                    </a:lnTo>
                    <a:lnTo>
                      <a:pt x="322" y="867"/>
                    </a:lnTo>
                    <a:lnTo>
                      <a:pt x="320" y="827"/>
                    </a:lnTo>
                    <a:lnTo>
                      <a:pt x="317" y="786"/>
                    </a:lnTo>
                    <a:lnTo>
                      <a:pt x="316" y="758"/>
                    </a:lnTo>
                    <a:lnTo>
                      <a:pt x="316" y="734"/>
                    </a:lnTo>
                    <a:lnTo>
                      <a:pt x="315" y="706"/>
                    </a:lnTo>
                    <a:lnTo>
                      <a:pt x="316" y="673"/>
                    </a:lnTo>
                    <a:lnTo>
                      <a:pt x="318" y="656"/>
                    </a:lnTo>
                    <a:lnTo>
                      <a:pt x="321" y="629"/>
                    </a:lnTo>
                    <a:lnTo>
                      <a:pt x="324" y="595"/>
                    </a:lnTo>
                    <a:lnTo>
                      <a:pt x="331" y="620"/>
                    </a:lnTo>
                    <a:lnTo>
                      <a:pt x="337" y="647"/>
                    </a:lnTo>
                    <a:lnTo>
                      <a:pt x="343" y="673"/>
                    </a:lnTo>
                    <a:lnTo>
                      <a:pt x="347" y="704"/>
                    </a:lnTo>
                    <a:lnTo>
                      <a:pt x="350" y="736"/>
                    </a:lnTo>
                    <a:lnTo>
                      <a:pt x="353" y="761"/>
                    </a:lnTo>
                    <a:lnTo>
                      <a:pt x="355" y="791"/>
                    </a:lnTo>
                    <a:lnTo>
                      <a:pt x="358" y="827"/>
                    </a:lnTo>
                    <a:lnTo>
                      <a:pt x="361" y="867"/>
                    </a:lnTo>
                    <a:lnTo>
                      <a:pt x="363" y="898"/>
                    </a:lnTo>
                    <a:lnTo>
                      <a:pt x="365" y="938"/>
                    </a:lnTo>
                    <a:lnTo>
                      <a:pt x="366" y="968"/>
                    </a:lnTo>
                    <a:lnTo>
                      <a:pt x="370" y="1002"/>
                    </a:lnTo>
                    <a:lnTo>
                      <a:pt x="372" y="1034"/>
                    </a:lnTo>
                    <a:lnTo>
                      <a:pt x="375" y="1057"/>
                    </a:lnTo>
                    <a:lnTo>
                      <a:pt x="382" y="1081"/>
                    </a:lnTo>
                    <a:lnTo>
                      <a:pt x="390" y="1107"/>
                    </a:lnTo>
                    <a:lnTo>
                      <a:pt x="399" y="1133"/>
                    </a:lnTo>
                    <a:lnTo>
                      <a:pt x="408" y="1157"/>
                    </a:lnTo>
                    <a:lnTo>
                      <a:pt x="415" y="1170"/>
                    </a:lnTo>
                    <a:lnTo>
                      <a:pt x="421" y="1157"/>
                    </a:lnTo>
                    <a:lnTo>
                      <a:pt x="421" y="1093"/>
                    </a:lnTo>
                    <a:lnTo>
                      <a:pt x="421" y="1093"/>
                    </a:lnTo>
                    <a:lnTo>
                      <a:pt x="421" y="1157"/>
                    </a:lnTo>
                    <a:lnTo>
                      <a:pt x="421" y="1093"/>
                    </a:lnTo>
                    <a:lnTo>
                      <a:pt x="421" y="1093"/>
                    </a:lnTo>
                    <a:lnTo>
                      <a:pt x="421" y="1093"/>
                    </a:lnTo>
                    <a:lnTo>
                      <a:pt x="421" y="1093"/>
                    </a:lnTo>
                    <a:lnTo>
                      <a:pt x="421" y="1031"/>
                    </a:lnTo>
                    <a:lnTo>
                      <a:pt x="421" y="1031"/>
                    </a:lnTo>
                    <a:lnTo>
                      <a:pt x="416" y="1006"/>
                    </a:lnTo>
                    <a:lnTo>
                      <a:pt x="409" y="974"/>
                    </a:lnTo>
                    <a:lnTo>
                      <a:pt x="403" y="945"/>
                    </a:lnTo>
                    <a:lnTo>
                      <a:pt x="396" y="913"/>
                    </a:lnTo>
                    <a:lnTo>
                      <a:pt x="391" y="884"/>
                    </a:lnTo>
                    <a:lnTo>
                      <a:pt x="384" y="852"/>
                    </a:lnTo>
                    <a:lnTo>
                      <a:pt x="379" y="822"/>
                    </a:lnTo>
                    <a:lnTo>
                      <a:pt x="374" y="791"/>
                    </a:lnTo>
                    <a:lnTo>
                      <a:pt x="369" y="761"/>
                    </a:lnTo>
                    <a:lnTo>
                      <a:pt x="366" y="740"/>
                    </a:lnTo>
                    <a:lnTo>
                      <a:pt x="362" y="717"/>
                    </a:lnTo>
                    <a:lnTo>
                      <a:pt x="358" y="688"/>
                    </a:lnTo>
                    <a:lnTo>
                      <a:pt x="353" y="667"/>
                    </a:lnTo>
                    <a:lnTo>
                      <a:pt x="356" y="649"/>
                    </a:lnTo>
                    <a:lnTo>
                      <a:pt x="358" y="627"/>
                    </a:lnTo>
                    <a:lnTo>
                      <a:pt x="357" y="610"/>
                    </a:lnTo>
                    <a:lnTo>
                      <a:pt x="355" y="588"/>
                    </a:lnTo>
                    <a:lnTo>
                      <a:pt x="366" y="584"/>
                    </a:lnTo>
                    <a:lnTo>
                      <a:pt x="382" y="577"/>
                    </a:lnTo>
                    <a:lnTo>
                      <a:pt x="394" y="594"/>
                    </a:lnTo>
                    <a:lnTo>
                      <a:pt x="407" y="606"/>
                    </a:lnTo>
                    <a:lnTo>
                      <a:pt x="419" y="619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22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86"/>
                    </a:lnTo>
                    <a:lnTo>
                      <a:pt x="421" y="522"/>
                    </a:lnTo>
                    <a:lnTo>
                      <a:pt x="416" y="522"/>
                    </a:lnTo>
                    <a:lnTo>
                      <a:pt x="403" y="512"/>
                    </a:lnTo>
                    <a:lnTo>
                      <a:pt x="399" y="496"/>
                    </a:lnTo>
                    <a:lnTo>
                      <a:pt x="396" y="481"/>
                    </a:lnTo>
                    <a:lnTo>
                      <a:pt x="394" y="465"/>
                    </a:lnTo>
                    <a:lnTo>
                      <a:pt x="394" y="460"/>
                    </a:lnTo>
                    <a:lnTo>
                      <a:pt x="403" y="440"/>
                    </a:lnTo>
                    <a:lnTo>
                      <a:pt x="415" y="418"/>
                    </a:lnTo>
                    <a:lnTo>
                      <a:pt x="425" y="398"/>
                    </a:lnTo>
                    <a:lnTo>
                      <a:pt x="421" y="396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1" y="333"/>
                    </a:lnTo>
                    <a:lnTo>
                      <a:pt x="422" y="328"/>
                    </a:lnTo>
                    <a:lnTo>
                      <a:pt x="407" y="351"/>
                    </a:lnTo>
                    <a:lnTo>
                      <a:pt x="394" y="372"/>
                    </a:lnTo>
                    <a:lnTo>
                      <a:pt x="385" y="388"/>
                    </a:lnTo>
                    <a:lnTo>
                      <a:pt x="379" y="408"/>
                    </a:lnTo>
                    <a:lnTo>
                      <a:pt x="368" y="435"/>
                    </a:lnTo>
                    <a:lnTo>
                      <a:pt x="359" y="457"/>
                    </a:lnTo>
                    <a:lnTo>
                      <a:pt x="350" y="476"/>
                    </a:lnTo>
                    <a:lnTo>
                      <a:pt x="339" y="501"/>
                    </a:lnTo>
                    <a:lnTo>
                      <a:pt x="335" y="492"/>
                    </a:lnTo>
                    <a:lnTo>
                      <a:pt x="329" y="472"/>
                    </a:lnTo>
                    <a:lnTo>
                      <a:pt x="324" y="457"/>
                    </a:lnTo>
                    <a:lnTo>
                      <a:pt x="327" y="440"/>
                    </a:lnTo>
                    <a:lnTo>
                      <a:pt x="335" y="415"/>
                    </a:lnTo>
                    <a:lnTo>
                      <a:pt x="342" y="390"/>
                    </a:lnTo>
                    <a:lnTo>
                      <a:pt x="350" y="367"/>
                    </a:lnTo>
                    <a:lnTo>
                      <a:pt x="359" y="346"/>
                    </a:lnTo>
                    <a:lnTo>
                      <a:pt x="373" y="317"/>
                    </a:lnTo>
                    <a:lnTo>
                      <a:pt x="385" y="289"/>
                    </a:lnTo>
                    <a:lnTo>
                      <a:pt x="396" y="267"/>
                    </a:lnTo>
                    <a:lnTo>
                      <a:pt x="405" y="248"/>
                    </a:lnTo>
                    <a:lnTo>
                      <a:pt x="415" y="224"/>
                    </a:lnTo>
                    <a:lnTo>
                      <a:pt x="421" y="206"/>
                    </a:lnTo>
                    <a:lnTo>
                      <a:pt x="421" y="206"/>
                    </a:lnTo>
                    <a:lnTo>
                      <a:pt x="421" y="206"/>
                    </a:lnTo>
                    <a:lnTo>
                      <a:pt x="421" y="206"/>
                    </a:lnTo>
                    <a:lnTo>
                      <a:pt x="421" y="142"/>
                    </a:lnTo>
                    <a:lnTo>
                      <a:pt x="421" y="206"/>
                    </a:lnTo>
                    <a:lnTo>
                      <a:pt x="421" y="206"/>
                    </a:lnTo>
                    <a:lnTo>
                      <a:pt x="421" y="206"/>
                    </a:lnTo>
                    <a:lnTo>
                      <a:pt x="421" y="142"/>
                    </a:lnTo>
                    <a:lnTo>
                      <a:pt x="421" y="142"/>
                    </a:lnTo>
                    <a:lnTo>
                      <a:pt x="421" y="171"/>
                    </a:lnTo>
                    <a:lnTo>
                      <a:pt x="421" y="153"/>
                    </a:lnTo>
                    <a:lnTo>
                      <a:pt x="417" y="176"/>
                    </a:lnTo>
                    <a:lnTo>
                      <a:pt x="406" y="201"/>
                    </a:lnTo>
                    <a:lnTo>
                      <a:pt x="396" y="224"/>
                    </a:lnTo>
                    <a:lnTo>
                      <a:pt x="384" y="257"/>
                    </a:lnTo>
                    <a:lnTo>
                      <a:pt x="375" y="276"/>
                    </a:lnTo>
                    <a:lnTo>
                      <a:pt x="365" y="303"/>
                    </a:lnTo>
                    <a:lnTo>
                      <a:pt x="355" y="339"/>
                    </a:lnTo>
                    <a:lnTo>
                      <a:pt x="346" y="365"/>
                    </a:lnTo>
                    <a:lnTo>
                      <a:pt x="338" y="394"/>
                    </a:lnTo>
                    <a:lnTo>
                      <a:pt x="326" y="440"/>
                    </a:lnTo>
                    <a:lnTo>
                      <a:pt x="321" y="465"/>
                    </a:lnTo>
                    <a:lnTo>
                      <a:pt x="318" y="481"/>
                    </a:lnTo>
                    <a:lnTo>
                      <a:pt x="312" y="457"/>
                    </a:lnTo>
                    <a:lnTo>
                      <a:pt x="304" y="429"/>
                    </a:lnTo>
                    <a:lnTo>
                      <a:pt x="295" y="403"/>
                    </a:lnTo>
                    <a:lnTo>
                      <a:pt x="288" y="376"/>
                    </a:lnTo>
                    <a:lnTo>
                      <a:pt x="280" y="351"/>
                    </a:lnTo>
                    <a:lnTo>
                      <a:pt x="272" y="328"/>
                    </a:lnTo>
                    <a:lnTo>
                      <a:pt x="264" y="307"/>
                    </a:lnTo>
                    <a:lnTo>
                      <a:pt x="253" y="278"/>
                    </a:lnTo>
                    <a:lnTo>
                      <a:pt x="242" y="250"/>
                    </a:lnTo>
                    <a:lnTo>
                      <a:pt x="231" y="217"/>
                    </a:lnTo>
                    <a:lnTo>
                      <a:pt x="220" y="185"/>
                    </a:lnTo>
                    <a:lnTo>
                      <a:pt x="212" y="158"/>
                    </a:lnTo>
                    <a:lnTo>
                      <a:pt x="201" y="126"/>
                    </a:lnTo>
                    <a:lnTo>
                      <a:pt x="193" y="104"/>
                    </a:lnTo>
                    <a:lnTo>
                      <a:pt x="182" y="83"/>
                    </a:lnTo>
                    <a:lnTo>
                      <a:pt x="174" y="67"/>
                    </a:lnTo>
                    <a:lnTo>
                      <a:pt x="166" y="48"/>
                    </a:lnTo>
                    <a:lnTo>
                      <a:pt x="158" y="21"/>
                    </a:lnTo>
                    <a:lnTo>
                      <a:pt x="152" y="0"/>
                    </a:lnTo>
                    <a:lnTo>
                      <a:pt x="153" y="17"/>
                    </a:lnTo>
                    <a:lnTo>
                      <a:pt x="155" y="43"/>
                    </a:lnTo>
                    <a:lnTo>
                      <a:pt x="157" y="69"/>
                    </a:lnTo>
                    <a:lnTo>
                      <a:pt x="162" y="94"/>
                    </a:lnTo>
                    <a:lnTo>
                      <a:pt x="168" y="117"/>
                    </a:lnTo>
                    <a:lnTo>
                      <a:pt x="178" y="152"/>
                    </a:lnTo>
                    <a:lnTo>
                      <a:pt x="185" y="180"/>
                    </a:lnTo>
                    <a:lnTo>
                      <a:pt x="195" y="215"/>
                    </a:lnTo>
                    <a:lnTo>
                      <a:pt x="204" y="244"/>
                    </a:lnTo>
                    <a:lnTo>
                      <a:pt x="215" y="278"/>
                    </a:lnTo>
                    <a:lnTo>
                      <a:pt x="224" y="303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83200" y="4522680"/>
                <a:ext cx="1056240" cy="2787120"/>
              </a:xfrm>
              <a:custGeom>
                <a:avLst/>
                <a:gdLst/>
                <a:ahLst/>
                <a:rect l="l" t="t" r="r" b="b"/>
                <a:pathLst>
                  <a:path w="656" h="1696">
                    <a:moveTo>
                      <a:pt x="346" y="415"/>
                    </a:moveTo>
                    <a:lnTo>
                      <a:pt x="358" y="441"/>
                    </a:lnTo>
                    <a:lnTo>
                      <a:pt x="369" y="471"/>
                    </a:lnTo>
                    <a:lnTo>
                      <a:pt x="378" y="500"/>
                    </a:lnTo>
                    <a:lnTo>
                      <a:pt x="388" y="534"/>
                    </a:lnTo>
                    <a:lnTo>
                      <a:pt x="397" y="564"/>
                    </a:lnTo>
                    <a:lnTo>
                      <a:pt x="400" y="593"/>
                    </a:lnTo>
                    <a:lnTo>
                      <a:pt x="406" y="617"/>
                    </a:lnTo>
                    <a:lnTo>
                      <a:pt x="390" y="603"/>
                    </a:lnTo>
                    <a:lnTo>
                      <a:pt x="368" y="588"/>
                    </a:lnTo>
                    <a:lnTo>
                      <a:pt x="344" y="572"/>
                    </a:lnTo>
                    <a:lnTo>
                      <a:pt x="321" y="554"/>
                    </a:lnTo>
                    <a:lnTo>
                      <a:pt x="297" y="539"/>
                    </a:lnTo>
                    <a:lnTo>
                      <a:pt x="273" y="519"/>
                    </a:lnTo>
                    <a:lnTo>
                      <a:pt x="251" y="498"/>
                    </a:lnTo>
                    <a:lnTo>
                      <a:pt x="222" y="468"/>
                    </a:lnTo>
                    <a:lnTo>
                      <a:pt x="199" y="439"/>
                    </a:lnTo>
                    <a:lnTo>
                      <a:pt x="170" y="408"/>
                    </a:lnTo>
                    <a:lnTo>
                      <a:pt x="151" y="388"/>
                    </a:lnTo>
                    <a:lnTo>
                      <a:pt x="131" y="354"/>
                    </a:lnTo>
                    <a:lnTo>
                      <a:pt x="114" y="327"/>
                    </a:lnTo>
                    <a:lnTo>
                      <a:pt x="100" y="290"/>
                    </a:lnTo>
                    <a:lnTo>
                      <a:pt x="92" y="256"/>
                    </a:lnTo>
                    <a:lnTo>
                      <a:pt x="85" y="224"/>
                    </a:lnTo>
                    <a:lnTo>
                      <a:pt x="78" y="200"/>
                    </a:lnTo>
                    <a:lnTo>
                      <a:pt x="77" y="226"/>
                    </a:lnTo>
                    <a:lnTo>
                      <a:pt x="77" y="244"/>
                    </a:lnTo>
                    <a:lnTo>
                      <a:pt x="82" y="268"/>
                    </a:lnTo>
                    <a:lnTo>
                      <a:pt x="92" y="295"/>
                    </a:lnTo>
                    <a:lnTo>
                      <a:pt x="109" y="334"/>
                    </a:lnTo>
                    <a:lnTo>
                      <a:pt x="118" y="363"/>
                    </a:lnTo>
                    <a:lnTo>
                      <a:pt x="134" y="382"/>
                    </a:lnTo>
                    <a:lnTo>
                      <a:pt x="154" y="409"/>
                    </a:lnTo>
                    <a:lnTo>
                      <a:pt x="178" y="441"/>
                    </a:lnTo>
                    <a:lnTo>
                      <a:pt x="200" y="474"/>
                    </a:lnTo>
                    <a:lnTo>
                      <a:pt x="225" y="505"/>
                    </a:lnTo>
                    <a:lnTo>
                      <a:pt x="241" y="531"/>
                    </a:lnTo>
                    <a:lnTo>
                      <a:pt x="259" y="561"/>
                    </a:lnTo>
                    <a:lnTo>
                      <a:pt x="281" y="581"/>
                    </a:lnTo>
                    <a:lnTo>
                      <a:pt x="302" y="603"/>
                    </a:lnTo>
                    <a:lnTo>
                      <a:pt x="324" y="625"/>
                    </a:lnTo>
                    <a:lnTo>
                      <a:pt x="344" y="644"/>
                    </a:lnTo>
                    <a:lnTo>
                      <a:pt x="362" y="662"/>
                    </a:lnTo>
                    <a:lnTo>
                      <a:pt x="385" y="680"/>
                    </a:lnTo>
                    <a:lnTo>
                      <a:pt x="400" y="693"/>
                    </a:lnTo>
                    <a:lnTo>
                      <a:pt x="407" y="701"/>
                    </a:lnTo>
                    <a:lnTo>
                      <a:pt x="400" y="719"/>
                    </a:lnTo>
                    <a:lnTo>
                      <a:pt x="392" y="740"/>
                    </a:lnTo>
                    <a:lnTo>
                      <a:pt x="381" y="766"/>
                    </a:lnTo>
                    <a:lnTo>
                      <a:pt x="359" y="773"/>
                    </a:lnTo>
                    <a:lnTo>
                      <a:pt x="344" y="776"/>
                    </a:lnTo>
                    <a:lnTo>
                      <a:pt x="320" y="784"/>
                    </a:lnTo>
                    <a:lnTo>
                      <a:pt x="297" y="787"/>
                    </a:lnTo>
                    <a:lnTo>
                      <a:pt x="297" y="787"/>
                    </a:lnTo>
                    <a:lnTo>
                      <a:pt x="270" y="787"/>
                    </a:lnTo>
                    <a:lnTo>
                      <a:pt x="246" y="791"/>
                    </a:lnTo>
                    <a:lnTo>
                      <a:pt x="220" y="793"/>
                    </a:lnTo>
                    <a:lnTo>
                      <a:pt x="197" y="800"/>
                    </a:lnTo>
                    <a:lnTo>
                      <a:pt x="177" y="805"/>
                    </a:lnTo>
                    <a:lnTo>
                      <a:pt x="155" y="815"/>
                    </a:lnTo>
                    <a:lnTo>
                      <a:pt x="139" y="826"/>
                    </a:lnTo>
                    <a:lnTo>
                      <a:pt x="122" y="840"/>
                    </a:lnTo>
                    <a:lnTo>
                      <a:pt x="107" y="854"/>
                    </a:lnTo>
                    <a:lnTo>
                      <a:pt x="87" y="868"/>
                    </a:lnTo>
                    <a:lnTo>
                      <a:pt x="63" y="889"/>
                    </a:lnTo>
                    <a:lnTo>
                      <a:pt x="39" y="906"/>
                    </a:lnTo>
                    <a:lnTo>
                      <a:pt x="21" y="918"/>
                    </a:lnTo>
                    <a:lnTo>
                      <a:pt x="0" y="930"/>
                    </a:lnTo>
                    <a:lnTo>
                      <a:pt x="16" y="937"/>
                    </a:lnTo>
                    <a:lnTo>
                      <a:pt x="32" y="934"/>
                    </a:lnTo>
                    <a:lnTo>
                      <a:pt x="51" y="928"/>
                    </a:lnTo>
                    <a:lnTo>
                      <a:pt x="70" y="918"/>
                    </a:lnTo>
                    <a:lnTo>
                      <a:pt x="96" y="903"/>
                    </a:lnTo>
                    <a:lnTo>
                      <a:pt x="111" y="895"/>
                    </a:lnTo>
                    <a:lnTo>
                      <a:pt x="127" y="889"/>
                    </a:lnTo>
                    <a:lnTo>
                      <a:pt x="148" y="881"/>
                    </a:lnTo>
                    <a:lnTo>
                      <a:pt x="171" y="877"/>
                    </a:lnTo>
                    <a:lnTo>
                      <a:pt x="198" y="871"/>
                    </a:lnTo>
                    <a:lnTo>
                      <a:pt x="225" y="867"/>
                    </a:lnTo>
                    <a:lnTo>
                      <a:pt x="254" y="864"/>
                    </a:lnTo>
                    <a:lnTo>
                      <a:pt x="277" y="864"/>
                    </a:lnTo>
                    <a:lnTo>
                      <a:pt x="303" y="862"/>
                    </a:lnTo>
                    <a:lnTo>
                      <a:pt x="322" y="859"/>
                    </a:lnTo>
                    <a:lnTo>
                      <a:pt x="346" y="856"/>
                    </a:lnTo>
                    <a:lnTo>
                      <a:pt x="371" y="847"/>
                    </a:lnTo>
                    <a:lnTo>
                      <a:pt x="400" y="838"/>
                    </a:lnTo>
                    <a:lnTo>
                      <a:pt x="425" y="826"/>
                    </a:lnTo>
                    <a:lnTo>
                      <a:pt x="456" y="817"/>
                    </a:lnTo>
                    <a:lnTo>
                      <a:pt x="447" y="847"/>
                    </a:lnTo>
                    <a:lnTo>
                      <a:pt x="435" y="886"/>
                    </a:lnTo>
                    <a:lnTo>
                      <a:pt x="423" y="934"/>
                    </a:lnTo>
                    <a:lnTo>
                      <a:pt x="420" y="972"/>
                    </a:lnTo>
                    <a:lnTo>
                      <a:pt x="419" y="1015"/>
                    </a:lnTo>
                    <a:lnTo>
                      <a:pt x="420" y="1047"/>
                    </a:lnTo>
                    <a:lnTo>
                      <a:pt x="422" y="1082"/>
                    </a:lnTo>
                    <a:lnTo>
                      <a:pt x="425" y="1128"/>
                    </a:lnTo>
                    <a:lnTo>
                      <a:pt x="427" y="1189"/>
                    </a:lnTo>
                    <a:lnTo>
                      <a:pt x="425" y="1241"/>
                    </a:lnTo>
                    <a:lnTo>
                      <a:pt x="425" y="1294"/>
                    </a:lnTo>
                    <a:lnTo>
                      <a:pt x="425" y="1336"/>
                    </a:lnTo>
                    <a:lnTo>
                      <a:pt x="427" y="1378"/>
                    </a:lnTo>
                    <a:lnTo>
                      <a:pt x="434" y="1419"/>
                    </a:lnTo>
                    <a:lnTo>
                      <a:pt x="444" y="1470"/>
                    </a:lnTo>
                    <a:lnTo>
                      <a:pt x="451" y="1506"/>
                    </a:lnTo>
                    <a:lnTo>
                      <a:pt x="462" y="1539"/>
                    </a:lnTo>
                    <a:lnTo>
                      <a:pt x="473" y="1580"/>
                    </a:lnTo>
                    <a:lnTo>
                      <a:pt x="483" y="1605"/>
                    </a:lnTo>
                    <a:lnTo>
                      <a:pt x="500" y="1635"/>
                    </a:lnTo>
                    <a:lnTo>
                      <a:pt x="522" y="1662"/>
                    </a:lnTo>
                    <a:lnTo>
                      <a:pt x="540" y="1695"/>
                    </a:lnTo>
                    <a:lnTo>
                      <a:pt x="543" y="1661"/>
                    </a:lnTo>
                    <a:lnTo>
                      <a:pt x="540" y="1619"/>
                    </a:lnTo>
                    <a:lnTo>
                      <a:pt x="537" y="1575"/>
                    </a:lnTo>
                    <a:lnTo>
                      <a:pt x="535" y="1536"/>
                    </a:lnTo>
                    <a:lnTo>
                      <a:pt x="529" y="1506"/>
                    </a:lnTo>
                    <a:lnTo>
                      <a:pt x="523" y="1468"/>
                    </a:lnTo>
                    <a:lnTo>
                      <a:pt x="514" y="1426"/>
                    </a:lnTo>
                    <a:lnTo>
                      <a:pt x="510" y="1392"/>
                    </a:lnTo>
                    <a:lnTo>
                      <a:pt x="508" y="1360"/>
                    </a:lnTo>
                    <a:lnTo>
                      <a:pt x="503" y="1301"/>
                    </a:lnTo>
                    <a:lnTo>
                      <a:pt x="500" y="1241"/>
                    </a:lnTo>
                    <a:lnTo>
                      <a:pt x="496" y="1187"/>
                    </a:lnTo>
                    <a:lnTo>
                      <a:pt x="493" y="1133"/>
                    </a:lnTo>
                    <a:lnTo>
                      <a:pt x="488" y="1077"/>
                    </a:lnTo>
                    <a:lnTo>
                      <a:pt x="488" y="1038"/>
                    </a:lnTo>
                    <a:lnTo>
                      <a:pt x="488" y="1005"/>
                    </a:lnTo>
                    <a:lnTo>
                      <a:pt x="486" y="967"/>
                    </a:lnTo>
                    <a:lnTo>
                      <a:pt x="488" y="922"/>
                    </a:lnTo>
                    <a:lnTo>
                      <a:pt x="490" y="898"/>
                    </a:lnTo>
                    <a:lnTo>
                      <a:pt x="495" y="862"/>
                    </a:lnTo>
                    <a:lnTo>
                      <a:pt x="500" y="815"/>
                    </a:lnTo>
                    <a:lnTo>
                      <a:pt x="510" y="850"/>
                    </a:lnTo>
                    <a:lnTo>
                      <a:pt x="520" y="886"/>
                    </a:lnTo>
                    <a:lnTo>
                      <a:pt x="529" y="922"/>
                    </a:lnTo>
                    <a:lnTo>
                      <a:pt x="535" y="964"/>
                    </a:lnTo>
                    <a:lnTo>
                      <a:pt x="540" y="1008"/>
                    </a:lnTo>
                    <a:lnTo>
                      <a:pt x="545" y="1042"/>
                    </a:lnTo>
                    <a:lnTo>
                      <a:pt x="547" y="1083"/>
                    </a:lnTo>
                    <a:lnTo>
                      <a:pt x="552" y="1133"/>
                    </a:lnTo>
                    <a:lnTo>
                      <a:pt x="556" y="1187"/>
                    </a:lnTo>
                    <a:lnTo>
                      <a:pt x="559" y="1230"/>
                    </a:lnTo>
                    <a:lnTo>
                      <a:pt x="562" y="1285"/>
                    </a:lnTo>
                    <a:lnTo>
                      <a:pt x="565" y="1325"/>
                    </a:lnTo>
                    <a:lnTo>
                      <a:pt x="571" y="1372"/>
                    </a:lnTo>
                    <a:lnTo>
                      <a:pt x="574" y="1416"/>
                    </a:lnTo>
                    <a:lnTo>
                      <a:pt x="579" y="1447"/>
                    </a:lnTo>
                    <a:lnTo>
                      <a:pt x="589" y="1480"/>
                    </a:lnTo>
                    <a:lnTo>
                      <a:pt x="601" y="1516"/>
                    </a:lnTo>
                    <a:lnTo>
                      <a:pt x="615" y="1551"/>
                    </a:lnTo>
                    <a:lnTo>
                      <a:pt x="629" y="1584"/>
                    </a:lnTo>
                    <a:lnTo>
                      <a:pt x="640" y="1602"/>
                    </a:lnTo>
                    <a:lnTo>
                      <a:pt x="649" y="1584"/>
                    </a:lnTo>
                    <a:lnTo>
                      <a:pt x="649" y="1497"/>
                    </a:lnTo>
                    <a:lnTo>
                      <a:pt x="649" y="1497"/>
                    </a:lnTo>
                    <a:lnTo>
                      <a:pt x="649" y="1584"/>
                    </a:lnTo>
                    <a:lnTo>
                      <a:pt x="649" y="1497"/>
                    </a:lnTo>
                    <a:lnTo>
                      <a:pt x="649" y="1497"/>
                    </a:lnTo>
                    <a:lnTo>
                      <a:pt x="649" y="1497"/>
                    </a:lnTo>
                    <a:lnTo>
                      <a:pt x="649" y="1497"/>
                    </a:lnTo>
                    <a:lnTo>
                      <a:pt x="649" y="1411"/>
                    </a:lnTo>
                    <a:lnTo>
                      <a:pt x="649" y="1411"/>
                    </a:lnTo>
                    <a:lnTo>
                      <a:pt x="642" y="1378"/>
                    </a:lnTo>
                    <a:lnTo>
                      <a:pt x="630" y="1333"/>
                    </a:lnTo>
                    <a:lnTo>
                      <a:pt x="621" y="1294"/>
                    </a:lnTo>
                    <a:lnTo>
                      <a:pt x="611" y="1250"/>
                    </a:lnTo>
                    <a:lnTo>
                      <a:pt x="603" y="1211"/>
                    </a:lnTo>
                    <a:lnTo>
                      <a:pt x="592" y="1167"/>
                    </a:lnTo>
                    <a:lnTo>
                      <a:pt x="584" y="1125"/>
                    </a:lnTo>
                    <a:lnTo>
                      <a:pt x="577" y="1083"/>
                    </a:lnTo>
                    <a:lnTo>
                      <a:pt x="569" y="1042"/>
                    </a:lnTo>
                    <a:lnTo>
                      <a:pt x="565" y="1014"/>
                    </a:lnTo>
                    <a:lnTo>
                      <a:pt x="558" y="981"/>
                    </a:lnTo>
                    <a:lnTo>
                      <a:pt x="552" y="942"/>
                    </a:lnTo>
                    <a:lnTo>
                      <a:pt x="545" y="913"/>
                    </a:lnTo>
                    <a:lnTo>
                      <a:pt x="549" y="889"/>
                    </a:lnTo>
                    <a:lnTo>
                      <a:pt x="551" y="859"/>
                    </a:lnTo>
                    <a:lnTo>
                      <a:pt x="550" y="835"/>
                    </a:lnTo>
                    <a:lnTo>
                      <a:pt x="547" y="805"/>
                    </a:lnTo>
                    <a:lnTo>
                      <a:pt x="565" y="800"/>
                    </a:lnTo>
                    <a:lnTo>
                      <a:pt x="588" y="791"/>
                    </a:lnTo>
                    <a:lnTo>
                      <a:pt x="608" y="813"/>
                    </a:lnTo>
                    <a:lnTo>
                      <a:pt x="627" y="830"/>
                    </a:lnTo>
                    <a:lnTo>
                      <a:pt x="647" y="847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715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803"/>
                    </a:lnTo>
                    <a:lnTo>
                      <a:pt x="649" y="715"/>
                    </a:lnTo>
                    <a:lnTo>
                      <a:pt x="642" y="715"/>
                    </a:lnTo>
                    <a:lnTo>
                      <a:pt x="621" y="701"/>
                    </a:lnTo>
                    <a:lnTo>
                      <a:pt x="616" y="679"/>
                    </a:lnTo>
                    <a:lnTo>
                      <a:pt x="611" y="659"/>
                    </a:lnTo>
                    <a:lnTo>
                      <a:pt x="607" y="637"/>
                    </a:lnTo>
                    <a:lnTo>
                      <a:pt x="608" y="629"/>
                    </a:lnTo>
                    <a:lnTo>
                      <a:pt x="621" y="603"/>
                    </a:lnTo>
                    <a:lnTo>
                      <a:pt x="640" y="573"/>
                    </a:lnTo>
                    <a:lnTo>
                      <a:pt x="655" y="545"/>
                    </a:lnTo>
                    <a:lnTo>
                      <a:pt x="649" y="542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49" y="456"/>
                    </a:lnTo>
                    <a:lnTo>
                      <a:pt x="651" y="449"/>
                    </a:lnTo>
                    <a:lnTo>
                      <a:pt x="627" y="480"/>
                    </a:lnTo>
                    <a:lnTo>
                      <a:pt x="607" y="510"/>
                    </a:lnTo>
                    <a:lnTo>
                      <a:pt x="594" y="531"/>
                    </a:lnTo>
                    <a:lnTo>
                      <a:pt x="584" y="558"/>
                    </a:lnTo>
                    <a:lnTo>
                      <a:pt x="567" y="596"/>
                    </a:lnTo>
                    <a:lnTo>
                      <a:pt x="554" y="625"/>
                    </a:lnTo>
                    <a:lnTo>
                      <a:pt x="540" y="652"/>
                    </a:lnTo>
                    <a:lnTo>
                      <a:pt x="523" y="686"/>
                    </a:lnTo>
                    <a:lnTo>
                      <a:pt x="516" y="674"/>
                    </a:lnTo>
                    <a:lnTo>
                      <a:pt x="508" y="647"/>
                    </a:lnTo>
                    <a:lnTo>
                      <a:pt x="500" y="625"/>
                    </a:lnTo>
                    <a:lnTo>
                      <a:pt x="505" y="603"/>
                    </a:lnTo>
                    <a:lnTo>
                      <a:pt x="516" y="569"/>
                    </a:lnTo>
                    <a:lnTo>
                      <a:pt x="528" y="534"/>
                    </a:lnTo>
                    <a:lnTo>
                      <a:pt x="540" y="503"/>
                    </a:lnTo>
                    <a:lnTo>
                      <a:pt x="554" y="474"/>
                    </a:lnTo>
                    <a:lnTo>
                      <a:pt x="576" y="435"/>
                    </a:lnTo>
                    <a:lnTo>
                      <a:pt x="594" y="396"/>
                    </a:lnTo>
                    <a:lnTo>
                      <a:pt x="610" y="366"/>
                    </a:lnTo>
                    <a:lnTo>
                      <a:pt x="625" y="339"/>
                    </a:lnTo>
                    <a:lnTo>
                      <a:pt x="640" y="307"/>
                    </a:lnTo>
                    <a:lnTo>
                      <a:pt x="649" y="283"/>
                    </a:lnTo>
                    <a:lnTo>
                      <a:pt x="649" y="283"/>
                    </a:lnTo>
                    <a:lnTo>
                      <a:pt x="649" y="283"/>
                    </a:lnTo>
                    <a:lnTo>
                      <a:pt x="649" y="283"/>
                    </a:lnTo>
                    <a:lnTo>
                      <a:pt x="649" y="194"/>
                    </a:lnTo>
                    <a:lnTo>
                      <a:pt x="649" y="283"/>
                    </a:lnTo>
                    <a:lnTo>
                      <a:pt x="649" y="283"/>
                    </a:lnTo>
                    <a:lnTo>
                      <a:pt x="649" y="283"/>
                    </a:lnTo>
                    <a:lnTo>
                      <a:pt x="649" y="194"/>
                    </a:lnTo>
                    <a:lnTo>
                      <a:pt x="649" y="194"/>
                    </a:lnTo>
                    <a:lnTo>
                      <a:pt x="649" y="235"/>
                    </a:lnTo>
                    <a:lnTo>
                      <a:pt x="649" y="209"/>
                    </a:lnTo>
                    <a:lnTo>
                      <a:pt x="643" y="241"/>
                    </a:lnTo>
                    <a:lnTo>
                      <a:pt x="625" y="275"/>
                    </a:lnTo>
                    <a:lnTo>
                      <a:pt x="611" y="307"/>
                    </a:lnTo>
                    <a:lnTo>
                      <a:pt x="592" y="351"/>
                    </a:lnTo>
                    <a:lnTo>
                      <a:pt x="579" y="378"/>
                    </a:lnTo>
                    <a:lnTo>
                      <a:pt x="562" y="415"/>
                    </a:lnTo>
                    <a:lnTo>
                      <a:pt x="547" y="464"/>
                    </a:lnTo>
                    <a:lnTo>
                      <a:pt x="534" y="500"/>
                    </a:lnTo>
                    <a:lnTo>
                      <a:pt x="521" y="539"/>
                    </a:lnTo>
                    <a:lnTo>
                      <a:pt x="503" y="603"/>
                    </a:lnTo>
                    <a:lnTo>
                      <a:pt x="495" y="637"/>
                    </a:lnTo>
                    <a:lnTo>
                      <a:pt x="491" y="659"/>
                    </a:lnTo>
                    <a:lnTo>
                      <a:pt x="481" y="625"/>
                    </a:lnTo>
                    <a:lnTo>
                      <a:pt x="469" y="588"/>
                    </a:lnTo>
                    <a:lnTo>
                      <a:pt x="455" y="552"/>
                    </a:lnTo>
                    <a:lnTo>
                      <a:pt x="444" y="515"/>
                    </a:lnTo>
                    <a:lnTo>
                      <a:pt x="432" y="480"/>
                    </a:lnTo>
                    <a:lnTo>
                      <a:pt x="420" y="449"/>
                    </a:lnTo>
                    <a:lnTo>
                      <a:pt x="407" y="420"/>
                    </a:lnTo>
                    <a:lnTo>
                      <a:pt x="391" y="381"/>
                    </a:lnTo>
                    <a:lnTo>
                      <a:pt x="373" y="342"/>
                    </a:lnTo>
                    <a:lnTo>
                      <a:pt x="357" y="298"/>
                    </a:lnTo>
                    <a:lnTo>
                      <a:pt x="340" y="253"/>
                    </a:lnTo>
                    <a:lnTo>
                      <a:pt x="327" y="217"/>
                    </a:lnTo>
                    <a:lnTo>
                      <a:pt x="310" y="173"/>
                    </a:lnTo>
                    <a:lnTo>
                      <a:pt x="298" y="143"/>
                    </a:lnTo>
                    <a:lnTo>
                      <a:pt x="281" y="114"/>
                    </a:lnTo>
                    <a:lnTo>
                      <a:pt x="268" y="92"/>
                    </a:lnTo>
                    <a:lnTo>
                      <a:pt x="256" y="65"/>
                    </a:lnTo>
                    <a:lnTo>
                      <a:pt x="244" y="29"/>
                    </a:lnTo>
                    <a:lnTo>
                      <a:pt x="234" y="0"/>
                    </a:lnTo>
                    <a:lnTo>
                      <a:pt x="236" y="24"/>
                    </a:lnTo>
                    <a:lnTo>
                      <a:pt x="239" y="59"/>
                    </a:lnTo>
                    <a:lnTo>
                      <a:pt x="242" y="95"/>
                    </a:lnTo>
                    <a:lnTo>
                      <a:pt x="251" y="128"/>
                    </a:lnTo>
                    <a:lnTo>
                      <a:pt x="259" y="161"/>
                    </a:lnTo>
                    <a:lnTo>
                      <a:pt x="275" y="208"/>
                    </a:lnTo>
                    <a:lnTo>
                      <a:pt x="286" y="247"/>
                    </a:lnTo>
                    <a:lnTo>
                      <a:pt x="300" y="295"/>
                    </a:lnTo>
                    <a:lnTo>
                      <a:pt x="315" y="334"/>
                    </a:lnTo>
                    <a:lnTo>
                      <a:pt x="332" y="381"/>
                    </a:lnTo>
                    <a:lnTo>
                      <a:pt x="346" y="415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3280" y="2498400"/>
            <a:ext cx="6737400" cy="187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593640" y="10239120"/>
            <a:ext cx="1650960" cy="74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2707920" y="10239120"/>
            <a:ext cx="2508120" cy="74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5680080" y="10239120"/>
            <a:ext cx="1650960" cy="74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B5F04A6-46AE-4391-9CFE-FE0B0213C4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2b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360600" y="3728880"/>
            <a:ext cx="1657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繁行书体"/>
                <a:ea typeface="繁行书体"/>
              </a:rPr>
              <a:t>合 并 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89240" y="5067360"/>
            <a:ext cx="206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650~19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25~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0363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繁行书体"/>
                <a:ea typeface="繁行书体"/>
              </a:rPr>
              <a:t>一九九九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45040" y="9737640"/>
          <a:ext cx="46368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5040" y="9737640"/>
                    <a:ext cx="46368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725560" y="9194760"/>
          <a:ext cx="46368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5560" y="9194760"/>
                    <a:ext cx="4636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fm2a" descr=""/>
          <p:cNvPicPr/>
          <p:nvPr/>
        </p:nvPicPr>
        <p:blipFill>
          <a:blip r:embed="rId5"/>
          <a:stretch/>
        </p:blipFill>
        <p:spPr>
          <a:xfrm>
            <a:off x="0" y="0"/>
            <a:ext cx="2286000" cy="11239560"/>
          </a:xfrm>
          <a:prstGeom prst="rect">
            <a:avLst/>
          </a:prstGeom>
          <a:ln w="0">
            <a:noFill/>
          </a:ln>
        </p:spPr>
      </p:pic>
      <p:pic>
        <p:nvPicPr>
          <p:cNvPr id="149" name="fm1a" descr=""/>
          <p:cNvPicPr/>
          <p:nvPr/>
        </p:nvPicPr>
        <p:blipFill>
          <a:blip r:embed="rId6"/>
          <a:stretch/>
        </p:blipFill>
        <p:spPr>
          <a:xfrm>
            <a:off x="5867280" y="0"/>
            <a:ext cx="2590920" cy="11239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1905120" y="7010280"/>
            <a:ext cx="587160" cy="387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562720" y="7010280"/>
            <a:ext cx="587160" cy="3875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55680" y="2298600"/>
            <a:ext cx="43722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笠 泽 施 氏 支 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FZ User</cp:lastModifiedBy>
  <cp:lastPrinted>1999-06-03T06:23:00Z</cp:lastPrinted>
  <dcterms:modified xsi:type="dcterms:W3CDTF">2001-04-11T02:00:32Z</dcterms:modified>
  <cp:revision>47</cp:revision>
  <dc:subject/>
  <dc:title>No Slide Title</dc:title>
</cp:coreProperties>
</file>